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90A0-68B3-45E3-B644-84882586D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CDF0-0512-49A4-AE82-636727DE4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6109-D3AF-42F6-B427-FBABF7434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FCF3-47F8-4620-A06E-3F28DDC0A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DD70-0637-4562-8C26-FCC2E4A09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A193-AE0C-46EB-A4C8-B9976F845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A6B5-29DD-4CAC-B6BE-78CB032A6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1B70-67A0-4D10-95BA-2066C02D2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6B53-3A15-496E-88AF-C4B1BCFF5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1CFD-7743-4A04-8333-A25E0B46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C133-6707-4128-9B91-F85B3571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DC52-4E7B-4E3B-9CFD-DDA6E5F6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CBC28-A0CC-4889-87CB-1A402B9B5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  <a:ea typeface="宋体"/>
              </a:rPr>
              <a:t>Social cash Transfers: how they are spent and the impact on local economies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86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宋体"/>
              </a:rPr>
              <a:t>A case study from Malaw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47640" y="189000"/>
            <a:ext cx="5486400" cy="18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f"/>
                </a:solidFill>
                <a:latin typeface="Arial"/>
                <a:ea typeface="宋体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宋体"/>
              </a:rPr>
              <a:t>james.davey@concern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879640" y="274680"/>
            <a:ext cx="3382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  <a:ea typeface="宋体"/>
              </a:rPr>
              <a:t>Background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宋体"/>
              </a:rPr>
              <a:t>In 2006 to 2007 Concern implemented an emergency cash transfer programme in Malawi (DE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宋体"/>
              </a:rPr>
              <a:t>Over 10,000 rural households targeted with cash transfers for 5 mon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宋体"/>
              </a:rPr>
              <a:t>The average value was $12 – varied by HH size and food p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宋体"/>
              </a:rPr>
              <a:t>Delivered using mobile banks and smartc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宋体"/>
              </a:rPr>
              <a:t>Had a significant research 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659640" y="5877000"/>
            <a:ext cx="226692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  <a:ea typeface="宋体"/>
              </a:rPr>
              <a:t>Research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宋体"/>
              </a:rPr>
              <a:t>The impact on, and relationship between, cash transfers and local marke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宋体"/>
              </a:rPr>
              <a:t>University of Bath (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宋体"/>
              </a:rPr>
              <a:t>modelling the multiplier effect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宋体"/>
              </a:rPr>
              <a:t>Regional Hunger and Vulnerability Programme (case study on social impa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宋体"/>
              </a:rPr>
              <a:t>Chancellor College Zomba (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宋体"/>
              </a:rPr>
              <a:t>impact on the labour market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宋体"/>
              </a:rPr>
              <a:t>Kadale Consultants (mapping the value ch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  <a:ea typeface="宋体"/>
              </a:rPr>
              <a:t>What is the Multipl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宋体"/>
              </a:rPr>
              <a:t>The money is given to the targeted benefici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宋体"/>
              </a:rPr>
              <a:t>This person spends it, normally entirely in their commun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宋体"/>
              </a:rPr>
              <a:t>The recipient then spends the same funds again – 1</a:t>
            </a:r>
            <a:r>
              <a:rPr b="0" lang="en-GB" sz="3200" spc="-1" strike="noStrike" baseline="30000">
                <a:solidFill>
                  <a:srgbClr val="ffffff"/>
                </a:solidFill>
                <a:latin typeface="Arial"/>
                <a:ea typeface="宋体"/>
              </a:rPr>
              <a:t>st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宋体"/>
              </a:rPr>
              <a:t> 2</a:t>
            </a:r>
            <a:r>
              <a:rPr b="0" lang="en-GB" sz="3200" spc="-1" strike="noStrike" baseline="30000">
                <a:solidFill>
                  <a:srgbClr val="ffffff"/>
                </a:solidFill>
                <a:latin typeface="Arial"/>
                <a:ea typeface="宋体"/>
              </a:rPr>
              <a:t>nd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宋体"/>
              </a:rPr>
              <a:t> 3</a:t>
            </a:r>
            <a:r>
              <a:rPr b="0" lang="en-GB" sz="3200" spc="-1" strike="noStrike" baseline="30000">
                <a:solidFill>
                  <a:srgbClr val="ffffff"/>
                </a:solidFill>
                <a:latin typeface="Arial"/>
                <a:ea typeface="宋体"/>
              </a:rPr>
              <a:t>rd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宋体"/>
              </a:rPr>
              <a:t> roun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宋体"/>
              </a:rPr>
              <a:t>Some funds “leak” by purchasing outside the economy or by savings, the balance recycles for a number of “round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20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  <a:ea typeface="宋体"/>
              </a:rPr>
              <a:t>How was the cash used – 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Arial"/>
                <a:ea typeface="宋体"/>
              </a:rPr>
              <a:t>First Round &amp; Final Analys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Insert the final round info here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  <a:ea typeface="宋体"/>
              </a:rPr>
              <a:t>Scale of the Multipl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宋体"/>
              </a:rPr>
              <a:t>Two methods were used so we have an upper and lower estimate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宋体"/>
              </a:rPr>
              <a:t>2.02  and 2.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宋体"/>
              </a:rPr>
              <a:t>For every $ input and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additional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宋体"/>
              </a:rPr>
              <a:t> $2.02 of value was created at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no cost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宋体"/>
              </a:rPr>
              <a:t> to the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宋体"/>
              </a:rPr>
              <a:t>The transfer was only tracked for one TA (ward) of one district so the national multiplier was hig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  <a:ea typeface="宋体"/>
              </a:rPr>
              <a:t>Impact on the Labour Mar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宋体"/>
              </a:rPr>
              <a:t>Reduced child labour (26% compared to control area at 62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宋体"/>
              </a:rPr>
              <a:t>Increased demand for labour therefore w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宋体"/>
              </a:rPr>
              <a:t>This increased production costs for large and small far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宋体"/>
              </a:rPr>
              <a:t>But small holders receiving the transfer were able to pay for lab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9T08:04:51Z</dcterms:created>
  <dc:creator>james.davey</dc:creator>
  <dc:description/>
  <dc:language>en-US</dc:language>
  <cp:lastModifiedBy>VM</cp:lastModifiedBy>
  <dcterms:modified xsi:type="dcterms:W3CDTF">2009-10-05T07:01:00Z</dcterms:modified>
  <cp:revision>5</cp:revision>
  <dc:subject/>
  <dc:title>Slide 1</dc:title>
</cp:coreProperties>
</file>