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frog2A.wav" ContentType="audio/x-wav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frog2.wav" ContentType="audio/x-wav"/>
  <Override PartName="/ppt/media/image16.png" ContentType="image/png"/>
  <Override PartName="/ppt/media/frog1.wav" ContentType="audio/x-wav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9928225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928800" cy="143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03800" cy="717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2"/>
          </p:nvPr>
        </p:nvSpPr>
        <p:spPr>
          <a:xfrm>
            <a:off x="5622480" y="-360"/>
            <a:ext cx="4303800" cy="717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75920" y="1077840"/>
            <a:ext cx="7177320" cy="538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3"/>
          </p:nvPr>
        </p:nvSpPr>
        <p:spPr>
          <a:xfrm>
            <a:off x="-360" y="13636440"/>
            <a:ext cx="4303800" cy="71892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4"/>
          </p:nvPr>
        </p:nvSpPr>
        <p:spPr>
          <a:xfrm>
            <a:off x="5622480" y="13636440"/>
            <a:ext cx="4303800" cy="71892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GB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CBD4BDE3-DDF6-4E88-98F1-6E92003C42BF}" type="slidenum"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3292693B-5D57-411D-88EB-847BAB9AE9D3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624640" y="13639680"/>
            <a:ext cx="4303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9C8F4F73-AB17-408E-8A74-552CEFB664BE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323720" y="6821280"/>
            <a:ext cx="728028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AC227F4-5AAD-4757-975C-89E3F7E76147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4B05286-9901-43C1-9EA8-C8D73867013E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2E63A687-02BA-4059-B366-3827ED6015F3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1B0BF6FB-4DE9-48F4-956C-FFD87C04A486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6A8408C4-2739-42FC-A817-383A8179B411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4846EAE4-757B-4EF1-907B-03438B0C40BF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74C4A43-C28F-437C-9BD9-55EB210C6EF3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ABD557D-CD3C-4FD1-963E-F7C20C569170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3DBA04D8-0D38-46C9-A2F0-BABEC717D543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0139294-9353-4F07-9F64-79F4EE3EFA34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92A1046F-D95A-41A7-8D45-145CE0E8EE75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D3C9802-FA72-4DAF-B7F4-7114AA6D2145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DD1D3B92-B859-4442-919B-408E1349DD3E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5626080" y="13639680"/>
            <a:ext cx="4302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70920" bIns="70920" anchor="b">
            <a:noAutofit/>
          </a:bodyPr>
          <a:p>
            <a:pPr algn="r">
              <a:tabLst>
                <a:tab algn="l" pos="0"/>
                <a:tab algn="l" pos="1387440"/>
                <a:tab algn="l" pos="2774880"/>
                <a:tab algn="l" pos="4162320"/>
                <a:tab algn="l" pos="5549760"/>
                <a:tab algn="l" pos="6937200"/>
                <a:tab algn="l" pos="8325000"/>
                <a:tab algn="l" pos="9712440"/>
                <a:tab algn="l" pos="11101320"/>
                <a:tab algn="l" pos="12488760"/>
                <a:tab algn="l" pos="13876200"/>
                <a:tab algn="l" pos="15263640"/>
              </a:tabLst>
            </a:pPr>
            <a:fld id="{CAE0C9AD-DC20-426C-8759-0A472E6FF9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654200" y="1076400"/>
            <a:ext cx="6619680" cy="53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8600" rIns="138600" tIns="69120" bIns="69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92160" y="6819840"/>
            <a:ext cx="7943760" cy="64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9A0FED9B-F3B8-4144-818E-17190680CC81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DCECEDD6-62A6-4827-8F77-1BA2561FA044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BA261E54-9B42-48DC-ABF0-FA2F48E9A307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622840" y="13636800"/>
            <a:ext cx="430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66600" bIns="66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1E30E578-9C4A-4EE0-A8C5-72660203B9D5}" type="slidenum"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6280" y="1077840"/>
            <a:ext cx="7177320" cy="5383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6821280"/>
            <a:ext cx="794376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E104-4960-41CC-A837-DBEDF09929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4F4E-294D-4185-8269-4F74BC546B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B4A8-1A09-4191-9568-A397FA8740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7B1F-88DF-4EC2-AC36-87CFD32CB9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FE0E-0717-418B-B47E-9DE2680F83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9DF0-4BAB-4DA3-918C-29E4870B07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09DC-F8C7-46AC-944A-8E1395A7D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5BC3-5695-422F-BCB6-77316BE76F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4A48-4272-4EBC-82F7-9E2FF4B349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5C3A-50F7-4187-9445-F4C4949B71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F64F-AD50-4032-9D3A-73F762074C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077F-711D-48BD-B403-842B48DFCD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FC4E-25CD-4ECF-AE8C-509CE29448A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audio" Target="../media/frog1.wav"/><Relationship Id="rId7" Type="http://schemas.openxmlformats.org/officeDocument/2006/relationships/audio" Target="../media/frog2.wav"/><Relationship Id="rId8" Type="http://schemas.openxmlformats.org/officeDocument/2006/relationships/audio" Target="../media/frog2A.wav"/><Relationship Id="rId9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1989000"/>
            <a:ext cx="56163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ertiliser subsidies and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cash transfers:</a:t>
            </a:r>
            <a:br>
              <a:rPr sz="2800"/>
            </a:b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lementary or competing instruments for reducing vulnerability to hunger?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405a67"/>
                </a:solidFill>
                <a:latin typeface="Verdana"/>
              </a:rPr>
              <a:t>Nicholas Freeland, based on a Brief by</a:t>
            </a:r>
            <a:br>
              <a:rPr sz="2000"/>
            </a:br>
            <a:r>
              <a:rPr b="1" lang="en-GB" sz="2200" spc="-1" strike="noStrike">
                <a:solidFill>
                  <a:srgbClr val="405a67"/>
                </a:solidFill>
                <a:latin typeface="Verdana"/>
              </a:rPr>
              <a:t>Professor Frank Ellis, RHVP</a:t>
            </a:r>
            <a:endParaRPr b="1" lang="en-US" sz="22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71320" y="5357520"/>
            <a:ext cx="80722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EC responses to the social consequences of the crisis in Af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Dar-Es-Salaam, 5-9 October 2009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620640"/>
            <a:ext cx="84978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Gains for the Rural Poorest and Most Vuln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50920" y="2485080"/>
            <a:ext cx="8583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upon or fertiliser sales provide a cash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5a67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405a67"/>
                </a:solidFill>
                <a:latin typeface="Verdana"/>
              </a:rPr>
              <a:t>(very expensive way of providing a cash transf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lower food prices improve food security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ncreased demand for rural labour, creates jobs, raises w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240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Basic data Malawi fertiliser subsidy 2005-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1700280"/>
          <a:ext cx="8424720" cy="4098960"/>
        </p:xfrm>
        <a:graphic>
          <a:graphicData uri="http://schemas.openxmlformats.org/drawingml/2006/table">
            <a:tbl>
              <a:tblPr/>
              <a:tblGrid>
                <a:gridCol w="1204920"/>
                <a:gridCol w="671400"/>
                <a:gridCol w="1252800"/>
                <a:gridCol w="1116000"/>
                <a:gridCol w="1077840"/>
                <a:gridCol w="853920"/>
                <a:gridCol w="1168560"/>
                <a:gridCol w="1079280"/>
              </a:tblGrid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H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No 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t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a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a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US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-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723960"/>
                          <a:tab algn="l" pos="901800"/>
                          <a:tab algn="l" pos="1803240"/>
                          <a:tab algn="l" pos="2705040"/>
                          <a:tab algn="l" pos="3606840"/>
                          <a:tab algn="l" pos="4508640"/>
                          <a:tab algn="l" pos="5410080"/>
                          <a:tab algn="l" pos="6311880"/>
                          <a:tab algn="l" pos="7213680"/>
                          <a:tab algn="l" pos="8115480"/>
                          <a:tab algn="l" pos="9016920"/>
                          <a:tab algn="l" pos="9918720"/>
                          <a:tab algn="l" pos="1082052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31,3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7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,9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8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-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4,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,0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-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6,5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1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5,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-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,4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r" pos="439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406"/>
          <p:cNvSpPr/>
          <p:nvPr/>
        </p:nvSpPr>
        <p:spPr>
          <a:xfrm>
            <a:off x="765000" y="587628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5a67"/>
                </a:solidFill>
                <a:latin typeface="Arial"/>
              </a:rPr>
              <a:t>Sources: Dorward &amp; Chirwa (2009); IMF (2008; 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240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Fertiliser subsidy compared to GDP and government revenue 2004-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557360"/>
          <a:ext cx="8424720" cy="4425840"/>
        </p:xfrm>
        <a:graphic>
          <a:graphicData uri="http://schemas.openxmlformats.org/drawingml/2006/table">
            <a:tbl>
              <a:tblPr/>
              <a:tblGrid>
                <a:gridCol w="1565280"/>
                <a:gridCol w="1386000"/>
                <a:gridCol w="1385640"/>
                <a:gridCol w="1386000"/>
                <a:gridCol w="1386000"/>
                <a:gridCol w="131580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is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omi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D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ov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er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MK b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GD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</a:t>
                      </a:r>
                      <a:r>
                        <a:rPr b="0" lang="en-GB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R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even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4-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1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4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-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84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-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64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47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-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4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76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5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-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31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1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81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3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68360" y="374760"/>
            <a:ext cx="81342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Malawi Aggregate Maize Balance Sheet 2004/05–2008/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844640"/>
          <a:ext cx="8263080" cy="3219480"/>
        </p:xfrm>
        <a:graphic>
          <a:graphicData uri="http://schemas.openxmlformats.org/drawingml/2006/table">
            <a:tbl>
              <a:tblPr/>
              <a:tblGrid>
                <a:gridCol w="1440000"/>
                <a:gridCol w="2274840"/>
                <a:gridCol w="2273400"/>
                <a:gridCol w="2274840"/>
              </a:tblGrid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Y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ational Food Requir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Domestic Avail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et Maize Gap/Surplus (‘000 t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4/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039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-53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5/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18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62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8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6/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255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,44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189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7/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352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79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3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08/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,4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95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,1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434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70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5a67"/>
                      </a:solidFill>
                    </a:lnL>
                    <a:lnR w="9360">
                      <a:solidFill>
                        <a:srgbClr val="405a67"/>
                      </a:solidFill>
                    </a:lnR>
                    <a:lnT w="9360">
                      <a:solidFill>
                        <a:srgbClr val="405a67"/>
                      </a:solidFill>
                    </a:lnT>
                    <a:lnB w="9360">
                      <a:solidFill>
                        <a:srgbClr val="405a6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315"/>
          <p:cNvSpPr/>
          <p:nvPr/>
        </p:nvSpPr>
        <p:spPr>
          <a:xfrm>
            <a:off x="725760" y="52632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5a67"/>
                </a:solidFill>
                <a:latin typeface="Verdana"/>
                <a:ea typeface="MS Mincho"/>
              </a:rPr>
              <a:t>Source: MoAFS (2008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6204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Production, Supply, Sea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41240" y="1773360"/>
            <a:ext cx="77184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apparent steep &amp; sustained production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untry in surplus since 2005-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however, prices tell more complex 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ssible production over-esti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mpacts of govt position in marketed supply (only 15% production sold on aver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rice seasonality as bad as ever most recent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68360" y="262080"/>
            <a:ext cx="77724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Seasonal Maize Price Instability</a:t>
            </a:r>
            <a:br>
              <a:rPr sz="2800"/>
            </a:br>
            <a:r>
              <a:rPr b="1" lang="en-GB" sz="2000" spc="-1" strike="noStrike">
                <a:solidFill>
                  <a:srgbClr val="405a67"/>
                </a:solidFill>
                <a:latin typeface="Verdana"/>
              </a:rPr>
              <a:t>Jan 2005 to Jan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7"/>
          <p:cNvGraphicFramePr/>
          <p:nvPr/>
        </p:nvGraphicFramePr>
        <p:xfrm>
          <a:off x="468360" y="1268280"/>
          <a:ext cx="82090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2090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66204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Tentative Conclusions about the Fertiliser Subsi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11280" y="1773360"/>
            <a:ext cx="79344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xcept in 2006-07, subsidy has failed to protect the most vulnerable from seasonal maize price hi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is reflects possible inaccuracies in the real production gains from the subs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t also reflects market supply constraints caused by ADMARC monopoly and import b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ot unusual for fertiliser subsidies to be found to benefit the better off rather than the 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95280" y="51912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Strengths of Social Cash Transfers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31640" y="2162160"/>
            <a:ext cx="85330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reach those unable to generate a livelihood due to lack of land or lab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qually effective in urban and rural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elivery using electronic methods can be secure at low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udget cost for most options considerably below that of the fertiliser subs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9528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mparative Attributes of Social Protection Altern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4000" y="1700280"/>
          <a:ext cx="8496000" cy="3997080"/>
        </p:xfrm>
        <a:graphic>
          <a:graphicData uri="http://schemas.openxmlformats.org/drawingml/2006/table">
            <a:tbl>
              <a:tblPr/>
              <a:tblGrid>
                <a:gridCol w="1960560"/>
                <a:gridCol w="914400"/>
                <a:gridCol w="1307880"/>
                <a:gridCol w="1500120"/>
                <a:gridCol w="1393920"/>
                <a:gridCol w="1419120"/>
              </a:tblGrid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Un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ers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5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Poo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Comb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5+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Fertili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ubsi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Po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Benefici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83,4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95,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631,3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7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ransfer/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ransfer/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8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,7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Total 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MK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,1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,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1,9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0,000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G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0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3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Share Budg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17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3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5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606600"/>
                          <a:tab algn="r" pos="70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405a67"/>
                          </a:solidFill>
                          <a:latin typeface="Verdana"/>
                          <a:ea typeface="MS Mincho"/>
                        </a:rPr>
                        <a:t>9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 Box 361"/>
          <p:cNvSpPr/>
          <p:nvPr/>
        </p:nvSpPr>
        <p:spPr>
          <a:xfrm>
            <a:off x="569880" y="5734080"/>
            <a:ext cx="57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5a67"/>
                </a:solidFill>
                <a:latin typeface="Verdana"/>
              </a:rPr>
              <a:t>* assumes substantial fall-back from 2008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9528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Similar Findings in Zambia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000" y="1208520"/>
            <a:ext cx="86058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Zambia has a Fertiliser Support Programme (FSP), as well as pilot social cash transfer program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Zambia also has a consumer maize subsidy, implemented through its Food Reserve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e combined cost of these two programmes leapt from ZK425bn in 2007 to ZK840bn in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ecoming about 7 per cent of total revenue in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are that with Govt contribution of ZK3bn/year to social cash transfer pil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ven more than in Malawi, Zambia’s FSP has been shown to benefit better-off rather than poor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39640" y="620640"/>
            <a:ext cx="777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verage of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9640" y="1672920"/>
            <a:ext cx="7991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omplementary and competing poli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 and vulnerability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: scale and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fertiliser subsidies: impacts on vulnerability to hu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Malawi: impacts on maize production, supply and seasonal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cope for more than one major lever of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oth productive and welfare policie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95280" y="519120"/>
            <a:ext cx="77724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Conclusions</a:t>
            </a:r>
            <a:r>
              <a:rPr b="1" lang="en-US" sz="2400" spc="-1" strike="noStrike">
                <a:solidFill>
                  <a:srgbClr val="405a67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16000" y="1460880"/>
            <a:ext cx="85327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when a country is prepared to spend 10-15% of its budget on fertiliser subsidies, it cannot then evoke ‘lack of affordability’ as a reason for not considering social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virtually all feasible social transfer alternatives come in at a fraction of the cost of subsi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both production and welfare policies need to be pursued in tandem: they are com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Malawi: scaling back fertiliser subsidies to the region of 5-7% of the budget would allow 5% of the budget to be spent on social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F0E3-032D-40A0-9DD9-19D8CFC5CB1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342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alawi Ultra-Poor Labour-Constrained Households by District (%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611280" y="1341360"/>
          <a:ext cx="813744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13744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5C6B-6911-4582-B0ED-A04384E5DA3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Malawi Income Distribution, by Decile</a:t>
            </a:r>
            <a:endParaRPr b="1" lang="en-US" sz="28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7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rank’s frog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599840"/>
            <a:ext cx="7773840" cy="4267080"/>
          </a:xfrm>
          <a:prstGeom prst="rect">
            <a:avLst/>
          </a:prstGeom>
          <a:ln w="0">
            <a:noFill/>
          </a:ln>
        </p:spPr>
      </p:pic>
      <p:sp>
        <p:nvSpPr>
          <p:cNvPr id="204" name="Foot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Canberra, 21-22 May 2009                           Sustainable Development Group Conference – Social Protection</a:t>
            </a: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      Slide </a:t>
            </a:r>
            <a:fld id="{AD9F4F07-E4D6-430F-993B-34961F996F22}" type="slidenum">
              <a:rPr b="0" lang="en-GB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7632720" cy="39304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7"/>
          <p:cNvGrpSpPr/>
          <p:nvPr/>
        </p:nvGrpSpPr>
        <p:grpSpPr>
          <a:xfrm>
            <a:off x="7164000" y="3860640"/>
            <a:ext cx="1141200" cy="757080"/>
            <a:chOff x="7164000" y="3860640"/>
            <a:chExt cx="1141200" cy="757080"/>
          </a:xfrm>
        </p:grpSpPr>
        <p:pic>
          <p:nvPicPr>
            <p:cNvPr id="207" name="Picture 14" descr="20544089"/>
            <p:cNvPicPr/>
            <p:nvPr/>
          </p:nvPicPr>
          <p:blipFill>
            <a:blip r:embed="rId3"/>
            <a:stretch/>
          </p:blipFill>
          <p:spPr>
            <a:xfrm flipH="1">
              <a:off x="7164000" y="3860640"/>
              <a:ext cx="9349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5"/>
            <p:cNvSpPr/>
            <p:nvPr/>
          </p:nvSpPr>
          <p:spPr>
            <a:xfrm>
              <a:off x="7182360" y="4003560"/>
              <a:ext cx="112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$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7093080" y="3828960"/>
            <a:ext cx="1167120" cy="752400"/>
            <a:chOff x="7093080" y="3828960"/>
            <a:chExt cx="1167120" cy="752400"/>
          </a:xfrm>
        </p:grpSpPr>
        <p:pic>
          <p:nvPicPr>
            <p:cNvPr id="210" name="Picture 18" descr="frog2"/>
            <p:cNvPicPr/>
            <p:nvPr/>
          </p:nvPicPr>
          <p:blipFill>
            <a:blip r:embed="rId4"/>
            <a:stretch/>
          </p:blipFill>
          <p:spPr>
            <a:xfrm>
              <a:off x="7093080" y="3828960"/>
              <a:ext cx="10080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9"/>
            <p:cNvSpPr/>
            <p:nvPr/>
          </p:nvSpPr>
          <p:spPr>
            <a:xfrm>
              <a:off x="7110000" y="411156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ff"/>
                  </a:solidFill>
                  <a:latin typeface="Arial"/>
                </a:rPr>
                <a:t>$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7110000" y="3925800"/>
            <a:ext cx="1150200" cy="798480"/>
            <a:chOff x="7110000" y="3925800"/>
            <a:chExt cx="1150200" cy="798480"/>
          </a:xfrm>
        </p:grpSpPr>
        <p:pic>
          <p:nvPicPr>
            <p:cNvPr id="213" name="Picture 21" descr="frog3"/>
            <p:cNvPicPr/>
            <p:nvPr/>
          </p:nvPicPr>
          <p:blipFill>
            <a:blip r:embed="rId5"/>
            <a:stretch/>
          </p:blipFill>
          <p:spPr>
            <a:xfrm>
              <a:off x="7164360" y="3925800"/>
              <a:ext cx="9367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22"/>
            <p:cNvSpPr/>
            <p:nvPr/>
          </p:nvSpPr>
          <p:spPr>
            <a:xfrm>
              <a:off x="7110000" y="396864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Arial"/>
                </a:rPr>
                <a:t>$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og1.wav"/>
                                        </p:tgtEl>
                                      </p:cMediaNode>
                                    </p:audio>
                                    <p:animMotion origin="layout" path="M -0.12101 -0.06899 L -0.06042 -0.1544 C -0.04688 -0.17477 -0.03333 -0.18149 -0.02292 -0.17616 C -0.01059 -0.17084 -0.00452 -0.15278 -0.00452 -0.12524 L 1.38889E-006 -0.00903 E">
                                      <p:cBhvr>
                                        <p:cTn id="1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og2.wav"/>
                                        </p:tgtEl>
                                      </p:cMediaNode>
                                    </p:audio>
                                    <p:animMotion origin="layout" path="M -0.36788 -0.16088 L -0.21476 -0.3 C -0.18333 -0.32824 -0.14601 -0.33287 -0.11493 -0.31597 C -0.07813 -0.30069 -0.05764 -0.25902 -0.05035 -0.20648 L -0.0099 0.03195 E">
                                      <p:cBhvr>
                                        <p:cTn id="2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rog2A.wav"/>
                                        </p:tgtEl>
                                      </p:cMediaNode>
                                    </p:audio>
                                    <p:animMotion origin="layout" path="M -0.6184 -0.26482 L -0.39687 -0.43588 C -0.34739 -0.47616 -0.29097 -0.48218 -0.23784 -0.46042 C -0.17864 -0.4345 -0.13489 -0.38334 -0.11441 -0.31274 L -0.00903 -0.00047 E">
                                      <p:cBhvr>
                                        <p:cTn id="3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79280" y="158760"/>
            <a:ext cx="79930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Complementary vs Competing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24000" y="1326240"/>
            <a:ext cx="849600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405a67"/>
                </a:solidFill>
                <a:uFillTx/>
                <a:latin typeface="Verdana"/>
              </a:rPr>
              <a:t>Com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address different goals: economic growth vs social welf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ifferent time horizons: long term vs short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different needs of different vulnerable groups: small farmers vs severely depr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405a67"/>
                </a:solidFill>
                <a:uFillTx/>
                <a:latin typeface="Verdana"/>
              </a:rPr>
              <a:t>Comp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limited public budgetary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opportunity cost’ for achieving vulnerability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efficiency in achieving hunger protection go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litical headway and commi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Summarising Complement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55640" y="2721600"/>
            <a:ext cx="770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mentarity can be depicted by two intersecting 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ap represents extent that fertiliser subsidy provides a reliable defence against hunger for the poorest members of the farming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roportion of vulnerable people protected by the fertiliser subsidy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1" name="Content Placeholder 4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785000" cy="437040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E633-394D-4E9A-9A1D-E754FDCB8EF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53928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 larger the overlap, the more the fertiliser subsidy provides a social protection function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5" name="Content Placeholder 4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785000" cy="437040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7027-EC1A-49BA-8ECB-7E54161972E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539280"/>
            <a:ext cx="821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 smaller the overlap, the more social cash transfers are needed to protect the vulnerabl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pic>
        <p:nvPicPr>
          <p:cNvPr id="149" name="Content Placeholder 4" descr=""/>
          <p:cNvPicPr/>
          <p:nvPr/>
        </p:nvPicPr>
        <p:blipFill>
          <a:blip r:embed="rId1"/>
          <a:stretch/>
        </p:blipFill>
        <p:spPr>
          <a:xfrm>
            <a:off x="652320" y="1566720"/>
            <a:ext cx="7815240" cy="437040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69BC-7B84-495F-9C7B-A654D14C908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Straight Arrow Connector 6"/>
          <p:cNvCxnSpPr/>
          <p:nvPr/>
        </p:nvCxnSpPr>
        <p:spPr>
          <a:xfrm flipH="1">
            <a:off x="4570200" y="1285920"/>
            <a:ext cx="3600" cy="2288160"/>
          </a:xfrm>
          <a:prstGeom prst="straightConnector1">
            <a:avLst/>
          </a:prstGeom>
          <a:ln w="63360">
            <a:solidFill>
              <a:srgbClr val="00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539640" y="374760"/>
            <a:ext cx="77724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Fertiliser Subsi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95280" y="1649160"/>
            <a:ext cx="8496360" cy="40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ot a welfare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in economic terms, seeks to overcome sub-optimal use of a key productiv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reduces risk and input affordability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upposed to accomplish a transitional, bridging,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an result in higher yields, with output and income gains for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once higher use achieved, should be gradually phas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544680" y="404640"/>
            <a:ext cx="7772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Vulnerability Reduction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667400" y="2789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95280" y="1609920"/>
            <a:ext cx="82105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needs land and labour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therefore excludes the landless and HHs lacking active lab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quantity available at subsidised price is ra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creates parallel market in coupons or subsidised suppl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studies invariably find that non-poor are chief benefici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1199"/>
              </a:spcBef>
              <a:buClr>
                <a:srgbClr val="bac543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poorest farmers sell coupons, since cash is more valuable to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9:39:51Z</dcterms:created>
  <dc:creator>Frank Ellis</dc:creator>
  <dc:description/>
  <dc:language>en-US</dc:language>
  <cp:lastModifiedBy>Nicholas Freeland</cp:lastModifiedBy>
  <dcterms:modified xsi:type="dcterms:W3CDTF">2009-10-06T05:54:28Z</dcterms:modified>
  <cp:revision>151</cp:revision>
  <dc:subject/>
  <dc:title>Livelihoods Framework</dc:title>
</cp:coreProperties>
</file>