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frog2A.wav" ContentType="audio/x-wav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frog2.wav" ContentType="audio/x-wav"/>
  <Override PartName="/ppt/media/image16.png" ContentType="image/png"/>
  <Override PartName="/ppt/media/frog1.wav" ContentType="audio/x-wav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9928225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9288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2"/>
          </p:nvPr>
        </p:nvSpPr>
        <p:spPr>
          <a:xfrm>
            <a:off x="562248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75920" y="1077840"/>
            <a:ext cx="7177320" cy="538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3"/>
          </p:nvPr>
        </p:nvSpPr>
        <p:spPr>
          <a:xfrm>
            <a:off x="-36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4"/>
          </p:nvPr>
        </p:nvSpPr>
        <p:spPr>
          <a:xfrm>
            <a:off x="562248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GB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6697D81-09CB-469E-B359-35C1B0EB75FB}" type="slidenum"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62217AE-45C2-4FB3-9448-F728B5E616B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624640" y="13639680"/>
            <a:ext cx="4303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33827189-B383-4BF7-9ADB-3BDFEC89915E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323720" y="6821280"/>
            <a:ext cx="728028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07FAB01-5151-420D-B540-033BF631E79B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5AD0451-40D7-42C8-BA51-26C6D6E68BC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8739F5A9-335D-4503-B8F4-ECB045A4AD4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8F2AF3C4-2EA7-415A-B19B-EE801F2EE5F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4052F8E-F78C-4458-98C7-21195310F419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3E46896-6DE6-4477-8FEB-31A13E4E1D99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CA4B29FC-C8C5-4B0C-B418-FABADBD6504D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8A7CDAE-5223-4ED5-A1A3-431B2468ACA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1313F486-B673-43BD-92FB-6A6BD442AC7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DEA0C88-FCAA-4992-8B14-5B85D5DD43B5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15C0AD6B-A380-4696-9EFE-BAD936F62A4D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CFF07C61-EDBA-408B-BE0E-EB8A7EB8F25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1F6CE90D-A602-47F5-A545-8E282DF4587B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5626080" y="13639680"/>
            <a:ext cx="4302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70920" bIns="70920" anchor="b">
            <a:noAutofit/>
          </a:bodyPr>
          <a:p>
            <a:pPr algn="r">
              <a:tabLst>
                <a:tab algn="l" pos="0"/>
                <a:tab algn="l" pos="1387440"/>
                <a:tab algn="l" pos="2774880"/>
                <a:tab algn="l" pos="4162320"/>
                <a:tab algn="l" pos="5549760"/>
                <a:tab algn="l" pos="6937200"/>
                <a:tab algn="l" pos="8325000"/>
                <a:tab algn="l" pos="9712440"/>
                <a:tab algn="l" pos="11101320"/>
                <a:tab algn="l" pos="12488760"/>
                <a:tab algn="l" pos="13876200"/>
                <a:tab algn="l" pos="15263640"/>
              </a:tabLst>
            </a:pPr>
            <a:fld id="{E8C36484-359F-4C7E-83B0-88335FCD43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654200" y="1076400"/>
            <a:ext cx="6619680" cy="53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8600" rIns="138600" tIns="69120" bIns="69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92160" y="6819840"/>
            <a:ext cx="794376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5F3EA3D-D23B-44BB-A5E1-ED61387CD0AC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F1E80B2-3783-4295-8A9D-3C56023E5FC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CF46503-3691-44A8-B186-B10775FD421D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F1F9BA1-623B-49F5-9CEF-6E243EE2417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0FF0-134B-4307-BAA2-032D4712B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65DE-DD1E-44C3-887A-9F449EE41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DF46-45B8-4565-81F5-920525AA4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AD66-414C-4922-A197-55F12EBF0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4BB8-365B-4E7F-8227-CF96150655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E8D5-1D52-4CB7-B916-D53A33C656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383F-68FC-46F7-9340-837A40B99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BED9-B0C6-4F4C-B6A6-3823FF14C7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F629-1518-4981-A6B9-893181227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4EA4-176D-4CB9-AFE1-FCA2CCC21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B81B-7230-484E-BB49-F2DC9E862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85AD-8B77-4B19-A2E2-FDC3559D64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4ADE-163B-400C-A1CB-2D2710D8E21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frog1.wav"/><Relationship Id="rId7" Type="http://schemas.openxmlformats.org/officeDocument/2006/relationships/audio" Target="../media/frog2.wav"/><Relationship Id="rId8" Type="http://schemas.openxmlformats.org/officeDocument/2006/relationships/audio" Target="../media/frog2A.wav"/><Relationship Id="rId9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1989000"/>
            <a:ext cx="56163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ertiliser subsidies and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cash transfers:</a:t>
            </a:r>
            <a:br>
              <a:rPr sz="2800"/>
            </a:b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or competing instruments for reducing vulnerability to hunger?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Nicholas Freeland, based on a Brief by</a:t>
            </a:r>
            <a:br>
              <a:rPr sz="2000"/>
            </a:br>
            <a:r>
              <a:rPr b="1" lang="en-GB" sz="2200" spc="-1" strike="noStrike">
                <a:solidFill>
                  <a:srgbClr val="405a67"/>
                </a:solidFill>
                <a:latin typeface="Verdana"/>
              </a:rPr>
              <a:t>Professor Frank Ellis, RHVP</a:t>
            </a:r>
            <a:endParaRPr b="1" lang="en-US" sz="22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320" y="5357520"/>
            <a:ext cx="80722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EC responses to the social consequences of the crisis in Af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Dar-Es-Salaam, 5-9 October 200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620640"/>
            <a:ext cx="8497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Gains for the Rural Poorest and Most Vuln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0920" y="2485080"/>
            <a:ext cx="858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pon or fertiliser sales provide a cash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(very expensive way of providing a cash trans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ower food prices improve food security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creased demand for rural labour, creates jobs, raises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Basic data Malawi fertiliser subsidy 2005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00280"/>
          <a:ext cx="8424720" cy="4098960"/>
        </p:xfrm>
        <a:graphic>
          <a:graphicData uri="http://schemas.openxmlformats.org/drawingml/2006/table">
            <a:tbl>
              <a:tblPr/>
              <a:tblGrid>
                <a:gridCol w="1204920"/>
                <a:gridCol w="671400"/>
                <a:gridCol w="1252800"/>
                <a:gridCol w="1116000"/>
                <a:gridCol w="1077840"/>
                <a:gridCol w="853920"/>
                <a:gridCol w="1168560"/>
                <a:gridCol w="1079280"/>
              </a:tblGrid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H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No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US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723960"/>
                          <a:tab algn="l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1,3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7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,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8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4,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0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6,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,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,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406"/>
          <p:cNvSpPr/>
          <p:nvPr/>
        </p:nvSpPr>
        <p:spPr>
          <a:xfrm>
            <a:off x="765000" y="587628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5a67"/>
                </a:solidFill>
                <a:latin typeface="Arial"/>
              </a:rPr>
              <a:t>Sources: Dorward &amp; Chirwa (2009); IMF (2008; 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 compared to GDP and government revenue 2004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557360"/>
          <a:ext cx="8424720" cy="4425840"/>
        </p:xfrm>
        <a:graphic>
          <a:graphicData uri="http://schemas.openxmlformats.org/drawingml/2006/table">
            <a:tbl>
              <a:tblPr/>
              <a:tblGrid>
                <a:gridCol w="1565280"/>
                <a:gridCol w="1386000"/>
                <a:gridCol w="1385640"/>
                <a:gridCol w="1386000"/>
                <a:gridCol w="1386000"/>
                <a:gridCol w="131580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ov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</a:t>
                      </a: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-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1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8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6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4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4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374760"/>
            <a:ext cx="81342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Aggregate Maize Balance Sheet 2004/05–2008/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844640"/>
          <a:ext cx="8263080" cy="3219480"/>
        </p:xfrm>
        <a:graphic>
          <a:graphicData uri="http://schemas.openxmlformats.org/drawingml/2006/table">
            <a:tbl>
              <a:tblPr/>
              <a:tblGrid>
                <a:gridCol w="1440000"/>
                <a:gridCol w="2274840"/>
                <a:gridCol w="2273400"/>
                <a:gridCol w="227484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ational Food Requi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Domestic Avai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et Maize Gap/Surplus 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/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03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-53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/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18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62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/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25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44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18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/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35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79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3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/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4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1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15"/>
          <p:cNvSpPr/>
          <p:nvPr/>
        </p:nvSpPr>
        <p:spPr>
          <a:xfrm>
            <a:off x="725760" y="5263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  <a:ea typeface="MS Mincho"/>
              </a:rPr>
              <a:t>Source: MoAFS (2008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Production, Supply, Sea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41240" y="1773360"/>
            <a:ext cx="7718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pparent steep &amp; sustained production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ntry in surplus since 2005-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however, prices tell more complex 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ssible production over-esti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mpacts of govt position in marketed supply (only 15% production sold on ave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rice seasonality as bad as ever most recent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68360" y="26208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easonal Maize Price Instability</a:t>
            </a:r>
            <a:br>
              <a:rPr sz="2800"/>
            </a:b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Jan 2005 to Jan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468360" y="1268280"/>
          <a:ext cx="820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20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Tentative Conclusions about the 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773360"/>
            <a:ext cx="7934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xcept in 2006-07, subsidy has failed to protect the most vulnerable from seasonal maize price h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is reflects possible inaccuracies in the real production gains from the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t also reflects market supply constraints caused by ADMARC monopoly and import b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unusual for fertiliser subsidies to be found to benefit the better off rather than the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5280" y="51912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trengths of Social Cash Transfer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31640" y="2162160"/>
            <a:ext cx="85330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ach those unable to generate a livelihood due to lack of land or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qually effective in urban and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elivery using electronic methods can be secure at low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udget cost for most options considerably below that of the fertiliser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arative Attributes of Social Protection Altern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700280"/>
          <a:ext cx="8496000" cy="3997080"/>
        </p:xfrm>
        <a:graphic>
          <a:graphicData uri="http://schemas.openxmlformats.org/drawingml/2006/table">
            <a:tbl>
              <a:tblPr/>
              <a:tblGrid>
                <a:gridCol w="1960560"/>
                <a:gridCol w="914400"/>
                <a:gridCol w="1307880"/>
                <a:gridCol w="1500120"/>
                <a:gridCol w="1393920"/>
                <a:gridCol w="1419120"/>
              </a:tblGrid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Un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er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mb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ili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i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Po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Benefic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3,4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5,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,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7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7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otal 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,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,000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G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361"/>
          <p:cNvSpPr/>
          <p:nvPr/>
        </p:nvSpPr>
        <p:spPr>
          <a:xfrm>
            <a:off x="569880" y="573408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* assumes substantial fall-back from 2008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imilar Findings in Zambia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1208520"/>
            <a:ext cx="86058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has a Fertiliser Support Programme (FSP), as well as pilot social cash transfer 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also has a consumer maize subsidy, implemented through its Food Reserve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 combined cost of these two programmes leapt from ZK425bn in 2007 to ZK840bn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ecoming about 7 per cent of total revenue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are that with Govt contribution of ZK3bn/year to social cash transfer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ven more than in Malawi, Zambia’s FSP has been shown to benefit better-off rather than po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620640"/>
            <a:ext cx="777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verage of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1672920"/>
            <a:ext cx="7991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and competing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 and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scale and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impacts on vulnerability to hu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impacts on maize production, supply and seasonal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cope for more than one major lever of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ve and welfare policie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519120"/>
            <a:ext cx="7772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Conclusion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00" y="1460880"/>
            <a:ext cx="8532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when a country is prepared to spend 10-15% of its budget on fertiliser subsidies, it cannot then evoke ‘lack of affordability’ as a reason for not considering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virtually all feasible social transfer alternatives come in at a fraction of the cost of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on and welfare policies need to be pursued in tandem: they are 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scaling back fertiliser subsidies to the region of 5-7% of the budget would allow 5% of the budget to be spent on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E3A-98E3-48A1-A2E1-CE956B5D764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42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alawi Ultra-Poor Labour-Constrained Households by District (%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611280" y="1341360"/>
          <a:ext cx="813744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374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3FC-4D2E-4083-814C-32F69AB0926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Income Distribution, by Decile</a:t>
            </a:r>
            <a:endParaRPr b="1" lang="en-US" sz="28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7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rank’s frog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38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Canberra, 21-22 May 2009                           Sustainable Development Group Conference – Social Protection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      Slide </a:t>
            </a:r>
            <a:fld id="{984FC2AC-4DBD-49C9-BC1F-D6FDA64E26BB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7632720" cy="39304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7"/>
          <p:cNvGrpSpPr/>
          <p:nvPr/>
        </p:nvGrpSpPr>
        <p:grpSpPr>
          <a:xfrm>
            <a:off x="7164000" y="3860640"/>
            <a:ext cx="1141200" cy="757080"/>
            <a:chOff x="7164000" y="3860640"/>
            <a:chExt cx="1141200" cy="757080"/>
          </a:xfrm>
        </p:grpSpPr>
        <p:pic>
          <p:nvPicPr>
            <p:cNvPr id="207" name="Picture 14" descr="20544089"/>
            <p:cNvPicPr/>
            <p:nvPr/>
          </p:nvPicPr>
          <p:blipFill>
            <a:blip r:embed="rId3"/>
            <a:stretch/>
          </p:blipFill>
          <p:spPr>
            <a:xfrm flipH="1">
              <a:off x="7164000" y="3860640"/>
              <a:ext cx="9349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7182360" y="4003560"/>
              <a:ext cx="112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$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7093080" y="3828960"/>
            <a:ext cx="1167120" cy="752400"/>
            <a:chOff x="7093080" y="3828960"/>
            <a:chExt cx="1167120" cy="752400"/>
          </a:xfrm>
        </p:grpSpPr>
        <p:pic>
          <p:nvPicPr>
            <p:cNvPr id="210" name="Picture 18" descr="frog2"/>
            <p:cNvPicPr/>
            <p:nvPr/>
          </p:nvPicPr>
          <p:blipFill>
            <a:blip r:embed="rId4"/>
            <a:stretch/>
          </p:blipFill>
          <p:spPr>
            <a:xfrm>
              <a:off x="7093080" y="3828960"/>
              <a:ext cx="1008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9"/>
            <p:cNvSpPr/>
            <p:nvPr/>
          </p:nvSpPr>
          <p:spPr>
            <a:xfrm>
              <a:off x="7110000" y="411156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ff"/>
                  </a:solidFill>
                  <a:latin typeface="Arial"/>
                </a:rPr>
                <a:t>$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7110000" y="3925800"/>
            <a:ext cx="1150200" cy="798480"/>
            <a:chOff x="7110000" y="3925800"/>
            <a:chExt cx="1150200" cy="798480"/>
          </a:xfrm>
        </p:grpSpPr>
        <p:pic>
          <p:nvPicPr>
            <p:cNvPr id="213" name="Picture 21" descr="frog3"/>
            <p:cNvPicPr/>
            <p:nvPr/>
          </p:nvPicPr>
          <p:blipFill>
            <a:blip r:embed="rId5"/>
            <a:stretch/>
          </p:blipFill>
          <p:spPr>
            <a:xfrm>
              <a:off x="7164360" y="3925800"/>
              <a:ext cx="936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2"/>
            <p:cNvSpPr/>
            <p:nvPr/>
          </p:nvSpPr>
          <p:spPr>
            <a:xfrm>
              <a:off x="7110000" y="396864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Arial"/>
                </a:rPr>
                <a:t>$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og1.wav"/>
                                        </p:tgtEl>
                                      </p:cMediaNode>
                                    </p:audio>
                                    <p:animMotion origin="layout" path="M -0.12101 -0.06899 L -0.06042 -0.1544 C -0.04688 -0.17477 -0.03333 -0.18149 -0.02292 -0.17616 C -0.01059 -0.17084 -0.00452 -0.15278 -0.00452 -0.12524 L 1.38889E-006 -0.00903 E">
                                      <p:cBhvr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og2.wav"/>
                                        </p:tgtEl>
                                      </p:cMediaNode>
                                    </p:audio>
                                    <p:animMotion origin="layout" path="M -0.36788 -0.16088 L -0.21476 -0.3 C -0.18333 -0.32824 -0.14601 -0.33287 -0.11493 -0.31597 C -0.07813 -0.30069 -0.05764 -0.25902 -0.05035 -0.20648 L -0.0099 0.03195 E">
                                      <p:cBhvr>
                                        <p:cTn id="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rog2A.wav"/>
                                        </p:tgtEl>
                                      </p:cMediaNode>
                                    </p:audio>
                                    <p:animMotion origin="layout" path="M -0.6184 -0.26482 L -0.39687 -0.43588 C -0.34739 -0.47616 -0.29097 -0.48218 -0.23784 -0.46042 C -0.17864 -0.4345 -0.13489 -0.38334 -0.11441 -0.31274 L -0.00903 -0.00047 E">
                                      <p:cBhvr>
                                        <p:cTn id="3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58760"/>
            <a:ext cx="7993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lementary vs Competing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326240"/>
            <a:ext cx="8496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ddress different goals: economic growth vs social welf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time horizons: long term vs short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needs of different vulnerable groups: small farmers vs severely depr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imited public budgetary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pportunity cost’ for achieving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fficiency in achieving hunger protection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litical headway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ummarising Complement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2721600"/>
            <a:ext cx="770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mentarity can be depicted by two intersecting 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ap represents extent that fertiliser subsidy provides a reliable defence against hunger for the poorest members of the farming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roportion of vulnerable people protected by the fertiliser subsid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1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A14B-EBB4-461D-B861-97B619F4A81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3928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larger the overlap, the more the fertiliser subsidy provides a social protection function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69A-0991-4383-B345-DFCEED52BC7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539280"/>
            <a:ext cx="821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smaller the overlap, the more social cash transfers are needed to protect the vulnerabl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9" name="Content Placeholder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7815240" cy="4370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C01B-0E14-43E1-8F38-B5C6C46677F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1649160"/>
            <a:ext cx="849636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a welfare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 economic terms, seeks to overcome sub-optimal use of a key productiv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duces risk and input affordability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upposed to accomplish a transitional, bridging,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an result in higher yields, with output and income gains f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nce higher use achieved, should be gradually phas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44680" y="404640"/>
            <a:ext cx="7772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Vulnerability Reduction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95280" y="1609920"/>
            <a:ext cx="82105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eeds land and labou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refore excludes the landless and HHs lacking active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quantity available at subsidised price is ra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reates parallel market in coupons or subsidised supp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tudies invariably find that non-poor are chief benefici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orest farmers sell coupons, since cash is more valuable 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9:39:51Z</dcterms:created>
  <dc:creator>Frank Ellis</dc:creator>
  <dc:description/>
  <dc:language>en-US</dc:language>
  <cp:lastModifiedBy>Nicholas Freeland</cp:lastModifiedBy>
  <dcterms:modified xsi:type="dcterms:W3CDTF">2009-10-06T05:54:28Z</dcterms:modified>
  <cp:revision>151</cp:revision>
  <dc:subject/>
  <dc:title>Livelihoods Framework</dc:title>
</cp:coreProperties>
</file>