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35080" y="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05720"/>
            <a:ext cx="293544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35080" y="9405720"/>
            <a:ext cx="293508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069A2BE-457A-41AF-93FE-9F1DABF9D6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itional support to hot spot areas in both 2008 and 2009 this increasing the total transfers of at least 30% for these benefici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nsuring this flexibility also requires proper budgeting including provision for additional support or timely additional funding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nd appropriate EW system to tiimely identify hot spot areas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nors have basically covered these in the first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need for a simplified approach is raising due to the complexity of the targeting (and retargeting) proces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here is a logical link between targeting method and type of conditions for tran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Ethiopia, unconditional tranfers are culturally difficult to be accepted. It all comes down to self image...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C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35080" y="9405720"/>
            <a:ext cx="293508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6D8F045-EABA-41F2-B179-7FD196A283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405720"/>
            <a:ext cx="293544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35080" y="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35440" y="9406080"/>
            <a:ext cx="29350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F4E2BCA-150A-4332-BDEB-B755C5E54E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Panel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SNP does indeed acts as a safety net, an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imeliness of transfers is critic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targeting system &amp; dilution mechanis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While droughts and other disasters are significant triggers, more important are the to these shocks and which have undermined livelihoods. These f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utually reinforcing Outputs of the FS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lus Resettlement Progra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e vision for graduation requires close complementarity among the FSP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 =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mentary Community Investment Program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apacity building addresses MoARD and MoF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Pastoral programme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rogressive scale up in Afar and Somali based on a set of minimum requirements to be fulf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Risk Management Mechanism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new facility introduced to address transitory needs of PSNP and non-PSNP beneficiaries not requiring emergency intervention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asing out of food security loans delivered by non-financial providers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ong capacity building sub-component addressing both institutional capacity to manage and implement HABP and awareness creation, knowledge, skill and confidence building among clients/beneficiari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e experience and discussion around the PSNP has certainly contributed to push for the definition of a social protection strate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NP design has been a joint exercise GoE-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rinciples are basically in line with the definitions that Stephen Deveraux has given about a social protectio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NP is intended to create the conditions for a more effective support through complementary intervention aimed to support asset building, graduation and ultimately poverty re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In Ethiopia it has been the case since 2005… The PSNP has actually covered a relevant part of the need previously covered by the relief system through the humanitarian appeals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On top of 8 million PSNP beneficiaries, relief system still assists some millions people every year (4,5 in 2008 and 6,4 in 2009)…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is suggests that there is a relevant number of people who should be covered by the programme but is no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a number of surveys it appears that in PSNP Districts, food prices can be higher, particularly in isolated Distri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FB0-4267-4F87-AF36-07C951E6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C07-DA11-4891-A356-4B92B660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3B48-FB81-4FF2-BEDE-EDE9FD8F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EB2-61B7-40FA-89DC-17D30A68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7F89-D8FA-4F02-970B-FE8D4567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3007-6757-4360-9DFF-CA6A531C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7A4D-9A78-4258-B48B-DAB0B7E5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7CC2-CCA7-4CDC-8D3F-9B720F82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35C5-16FA-494B-A7EB-7269CC32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8911-DE84-434B-8F84-6225C0BA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B6B7-A9A8-4B1B-9110-8E8C583E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9BB-6A72-4826-8392-81B8713D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0E3C-DEE8-40CC-AC51-679ED54C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4332-8749-4F70-8301-492C9855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C565-C15D-4CE0-A2C2-AA87DFF1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CBE2-3837-4D39-AC76-2171E1FB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E6B6-C840-49D1-BAA4-5CF16581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B93-DF05-437D-8CD7-EE47C025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1E5-9560-42A5-B122-2C35D05C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66CF-BD35-40C9-B99B-C5B21BDA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59B5-965D-4C66-8654-B1B98242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888-F0F3-4E0E-8CF8-8CFD9C17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FE8-53F3-48B7-B455-543E4EDE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E6E-9EBE-41FC-A374-45142D0F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8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8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8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FEE2-C84F-413A-BAC7-39E0700CCEC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E3AB-0267-442E-AC23-6627719166A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11675" r="0" b="6569"/>
          <a:stretch/>
        </p:blipFill>
        <p:spPr>
          <a:xfrm>
            <a:off x="3276720" y="4527720"/>
            <a:ext cx="2666880" cy="806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762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Success and limits of the </a:t>
            </a:r>
            <a:br>
              <a:rPr sz="3200"/>
            </a:b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THE PRODUCTIVE SAFETY NET PROGRAMME</a:t>
            </a:r>
            <a:br>
              <a:rPr sz="3200"/>
            </a:b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in Ethiopi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52720" y="152280"/>
            <a:ext cx="1252800" cy="966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80680" y="5775480"/>
            <a:ext cx="277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r Es Salam, Octo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33"/>
                </a:solidFill>
                <a:latin typeface="Garamond"/>
              </a:rPr>
              <a:t>From safety Net to Social Protection...?</a:t>
            </a:r>
            <a:br>
              <a:rPr sz="3200"/>
            </a:br>
            <a:r>
              <a:rPr b="0" lang="it-IT" sz="3200" spc="-1" strike="noStrike">
                <a:solidFill>
                  <a:srgbClr val="006633"/>
                </a:solidFill>
                <a:latin typeface="Garamond"/>
              </a:rPr>
              <a:t>Transfer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81360"/>
            <a:ext cx="822960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162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Cash &amp; food transfers, conditioned to the participation to PW + about 20% unconditioned Direct Support to specific categorie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7840" y="1295280"/>
            <a:ext cx="740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How and what is the programme transfer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55720" y="609588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003399"/>
                </a:solidFill>
                <a:latin typeface="Arial"/>
              </a:rPr>
              <a:t>1) 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300 Birr/year = 24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905120"/>
            <a:ext cx="82296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162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399"/>
                </a:solidFill>
                <a:latin typeface="Arial"/>
              </a:rPr>
              <a:t>Food ration</a:t>
            </a: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 is based of SPHERE standard (15 kg cereals + pulse and oil per months per person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8195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162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399"/>
                </a:solidFill>
                <a:latin typeface="Arial"/>
              </a:rPr>
              <a:t>Cash transfers</a:t>
            </a: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 “indexed” (yearly wage rate review) and increased from 30 (in 2006) to 50 Birr (in 2009) per month for 6 months a year</a:t>
            </a:r>
            <a:r>
              <a:rPr b="0" lang="en-GB" sz="2600" spc="-1" strike="noStrike" baseline="30000">
                <a:solidFill>
                  <a:srgbClr val="003399"/>
                </a:solidFill>
                <a:latin typeface="Arial"/>
              </a:rPr>
              <a:t>1</a:t>
            </a: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 to (partially) ensure parity with the food ra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360" y="4572000"/>
            <a:ext cx="79405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spcAft>
                <a:spcPts val="162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Additional 2 to 3 months of support to hot spot areas in both 2008 and 200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17440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In Ethiopia it is particularly difficult because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75 million population,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3 million have a social security package (pension and health care),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8 million PSNP beneficiaries,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3 to 6 million receiving emergency food aid every y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30% of the population living with less that 1 US$ per 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1360" y="12636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Targeting poverty in poor countries with low administrative capacity is always challeng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33"/>
                </a:solidFill>
                <a:latin typeface="Garamond"/>
              </a:rPr>
              <a:t>From safety Net to Social Protection...?</a:t>
            </a:r>
            <a:br>
              <a:rPr sz="3200"/>
            </a:br>
            <a:r>
              <a:rPr b="0" lang="it-IT" sz="3200" spc="-1" strike="noStrike">
                <a:solidFill>
                  <a:srgbClr val="006633"/>
                </a:solidFill>
                <a:latin typeface="Garamond"/>
              </a:rPr>
              <a:t>Targeting - 1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9480" y="30571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Districts mapping based of historical relief ai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Community based self assessmen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Income/assets based benchmarks established for each national state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762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6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Categorical targeting was rejected by the GoE in 2005. Targeting is done throug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7680" y="5186520"/>
            <a:ext cx="7483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6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Inclusion/exclusion errors are still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33"/>
                </a:solidFill>
                <a:latin typeface="Garamond"/>
              </a:rPr>
              <a:t>From safety Net to Social Protection...?</a:t>
            </a:r>
            <a:br>
              <a:rPr sz="3200"/>
            </a:br>
            <a:r>
              <a:rPr b="0" lang="it-IT" sz="3200" spc="-1" strike="noStrike">
                <a:solidFill>
                  <a:srgbClr val="006633"/>
                </a:solidFill>
                <a:latin typeface="Garamond"/>
              </a:rPr>
              <a:t>Targeting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54380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3399"/>
                </a:solidFill>
                <a:latin typeface="Arial"/>
              </a:rPr>
              <a:t>About programme performance and impacts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eographical coverag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1280" y="990720"/>
            <a:ext cx="805968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Timeliness of transf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320" y="952560"/>
            <a:ext cx="883908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533520" y="228600"/>
            <a:ext cx="8305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33"/>
                </a:solidFill>
                <a:latin typeface="Garamond"/>
              </a:rPr>
              <a:t>PSNP Impact on inco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33"/>
                </a:solidFill>
                <a:latin typeface="Garamond"/>
              </a:rPr>
              <a:t>Average Household Incomes, 2006 &amp;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Chart 7" descr=""/>
          <p:cNvPicPr/>
          <p:nvPr/>
        </p:nvPicPr>
        <p:blipFill>
          <a:blip r:embed="rId1"/>
          <a:stretch/>
        </p:blipFill>
        <p:spPr>
          <a:xfrm>
            <a:off x="500040" y="1600200"/>
            <a:ext cx="80726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re achievemen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hift from relief and involvement of Gvt and national structures in management and implement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 decline in self reported consumption level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 decline in asset levels relative to non beneficiari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mbined access to PSNP and HAB improved FS of 0.81 months since the introduction of the program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tting up of the required administrative &amp; institutional structur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tting up and management of some 34.000 PW projects/year at community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lexibility to adapt transfers to changing &amp; difficult external conditions (2008-2009 crisis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Constrain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nly 50% of PSNP beneficiaries have been in the programme for three years on a row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ery low integration between PSNP and HAB…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ery low graduation rate (60.000 HH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ery high variability in capacity &amp; performances among Regions and District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inancial management still insufficient &amp; delay in transf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roded purchasing power of the cash transf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eak M&amp;E and ESMF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ow management capacity, high staff turn ov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26668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54380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3399"/>
                </a:solidFill>
                <a:latin typeface="Arial"/>
              </a:rPr>
              <a:t>About the way forward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33"/>
                </a:solidFill>
                <a:latin typeface="Garamond"/>
              </a:rPr>
              <a:t>Ethiopia and Social Protection - 1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8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Agriculture is the key sector as it is a source of livelihood for 85% of the rural population; many of whom are small, poor farmers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8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It remains subject to severe and frequent shocks due to droughts and natural disast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8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Factors which increase vulnerability include: land degradation, limited household assets, low levels of farm technology, lack of employment opportunities and population pressur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8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30% of the population live below the national poverty line (&lt; 1US$/day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33"/>
                </a:solidFill>
                <a:latin typeface="Garamond"/>
              </a:rPr>
              <a:t>The FSP structur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441360" y="1981080"/>
            <a:ext cx="1844640" cy="3111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b812f"/>
                </a:solidFill>
                <a:latin typeface="Arial"/>
              </a:rPr>
              <a:t>F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b812f"/>
                </a:solidFill>
                <a:latin typeface="Arial"/>
              </a:rPr>
              <a:t>Institutional capacity to manage the FSP and effectively link up with wider processes and other programmes strengthened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27360" y="1643040"/>
            <a:ext cx="3139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PSNP - Food consumption sustainably assured and asset depletion sustainably prev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27360" y="3076560"/>
            <a:ext cx="313992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HABP - Income sources diversified and productive assets incre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4219560"/>
            <a:ext cx="312408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CCI - Access to adequate enabling infrastructure, services and natural environment secu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84960" y="2971800"/>
            <a:ext cx="26067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Arial"/>
              </a:rPr>
              <a:t>Confidence, knowledge and skills of food insecure people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1447920"/>
            <a:ext cx="4038480" cy="4038480"/>
          </a:xfrm>
          <a:prstGeom prst="bracePair">
            <a:avLst>
              <a:gd name="adj" fmla="val 8333"/>
            </a:avLst>
          </a:prstGeom>
          <a:noFill/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The graduation process in the new phas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4920" y="1389240"/>
            <a:ext cx="8610480" cy="4616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352680" y="1585800"/>
            <a:ext cx="762120" cy="7621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1509840"/>
            <a:ext cx="762120" cy="761760"/>
          </a:xfrm>
          <a:prstGeom prst="ellipse">
            <a:avLst/>
          </a:prstGeom>
          <a:noFill/>
          <a:ln w="442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509840"/>
            <a:ext cx="761760" cy="7617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1357200"/>
            <a:ext cx="3429000" cy="1067040"/>
          </a:xfrm>
          <a:prstGeom prst="ellipse">
            <a:avLst/>
          </a:prstGeom>
          <a:noFill/>
          <a:ln w="442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509840"/>
            <a:ext cx="762120" cy="761760"/>
          </a:xfrm>
          <a:prstGeom prst="ellipse">
            <a:avLst/>
          </a:prstGeom>
          <a:noFill/>
          <a:ln w="442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50680" y="1066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e6525"/>
                </a:solidFill>
                <a:latin typeface="Arial"/>
              </a:rPr>
              <a:t>HA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Funding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167652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onor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00% of PSNP, $440 M/yea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apacity building component of the HABP, $20 M/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Go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redit component of the HAB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00% CCI and Resettle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otal ETB 2 Bill/year (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3% of national annual budget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5257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8320" y="2286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4191120" cy="3181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648320" y="34290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80880" y="228600"/>
            <a:ext cx="4191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114800" cy="2970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4114800" cy="3120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495680" y="228600"/>
            <a:ext cx="4160880" cy="2971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4495680" y="3276720"/>
            <a:ext cx="42721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6633"/>
                </a:solidFill>
                <a:latin typeface="Garamond"/>
              </a:rPr>
              <a:t>Thank You</a:t>
            </a:r>
            <a:endParaRPr b="0" lang="en-US" sz="9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11675" r="0" b="6569"/>
          <a:stretch/>
        </p:blipFill>
        <p:spPr>
          <a:xfrm>
            <a:off x="4267080" y="5362560"/>
            <a:ext cx="4438800" cy="1343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52280" y="5438880"/>
            <a:ext cx="11145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bout the PSNP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mproving accountabilit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roduction of a Beneficiary Charter and Client cards;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computer assisted payroll system (PASS) becomes mandatory for all PSNP District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rengthening capaciti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rengthening Regional Units and managemen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t up of a Capacity Building Facility (CIDA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bout the HABP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viewed and more comprehensive approach for the provision of technical and financial servic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cus on demand-driven service delivery and market responsiveness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H business plan development provided through the Extension servi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nancial services provided through sustainable finance providers (MFIs, RuSACCOs, VSLA );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28560" y="2274840"/>
            <a:ext cx="805824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46640" y="1712880"/>
            <a:ext cx="67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umber of People in Need According to Emergency App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33"/>
                </a:solidFill>
                <a:latin typeface="Garamond"/>
              </a:rPr>
              <a:t>Ethiopia and Social Protection - 2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Policy environment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GoE is developing a National Plan for Social Protection based on experience in the implementation of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The PASDEP (Plan for Accelerated Sustained Development to End Poverty = Ethiopia PRS, 2005) &amp;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Rural Development Policy and Food Security Strategy (2006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Gvt already has in place some elements of a minimum package (the health waiver system and other interventions) but does not have these actions brought together under one umbrella policy or national pla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PSNP has become the framework for this discuss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33"/>
                </a:solidFill>
                <a:latin typeface="Garamond"/>
              </a:rPr>
              <a:t>Ethiopia and Social Protection - 3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53452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33"/>
                </a:solidFill>
                <a:latin typeface="Garamond"/>
              </a:rPr>
              <a:t>From relief to a predictable Safety Net - 1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514600"/>
            <a:ext cx="792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hift from emergency to a predictable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moothing HH food consumption and protecting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rengthening HH resiliency to modest shoc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reak dependence on food aid introducing a cash first princ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640" y="1284120"/>
            <a:ext cx="740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Designed and launched in 2005, the PSNP has been conceived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from the CSP 2007…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The programme has been successful in meeting its goal of transitioning from a relief-oriented to a development-oriented 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predictable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 safety ne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PSNP has the potential to evolve into a comprehensive social protection strategy in the longer term: from a geographical focused programme into an entitlement based intervention that is part of the Government’s social protection policy”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33"/>
                </a:solidFill>
                <a:latin typeface="Garamond"/>
              </a:rPr>
              <a:t>From safety Net to Social Protection...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A predictable SN is expected to reduce emergency assistance and allow moving resources to developmental programs…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28195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In Ethiopia it has been the case since 2005, bu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7242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and on top of these, relief system still assists some millions people every year (4,5 in 2008 and 6,4 in 20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8098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PSNP in 4 years has increased its caseload from 5,5 to 8 million beneficiar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057400" y="2133720"/>
            <a:ext cx="50292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Y ?!</a:t>
            </a:r>
            <a:endParaRPr b="0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33"/>
                </a:solidFill>
                <a:latin typeface="Garamond"/>
              </a:rPr>
              <a:t>From safety Net to Social Protection...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Because the coverage is not enough or targeting is not appropriate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886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Because economic growth is not playing its role as exp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8954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Because transfers are not adequ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52578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Others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33"/>
                </a:solidFill>
                <a:latin typeface="Garamond"/>
              </a:rPr>
              <a:t>From safety Net to Social Protection...?</a:t>
            </a:r>
            <a:br>
              <a:rPr sz="3600"/>
            </a:b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Economic growth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It is expected that transfers will help to generate economic grow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2096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In Ethiop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Impact assessments show that PSNP has protected assets but the impact of combined actions for HH asset building has not been satisfactory as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03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Arial"/>
              </a:rPr>
              <a:t>Reason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Arial"/>
              </a:rPr>
              <a:t>areas isolated and not linked to the market,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Arial"/>
              </a:rPr>
              <a:t>reduced opportunities for on &amp; off farm (innovative) activities,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Arial"/>
              </a:rPr>
              <a:t>land tenure system,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Arial"/>
              </a:rPr>
              <a:t>reduced access to agricultural inputs and to (micro) finance services, …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Arial"/>
              </a:rPr>
              <a:t>           </a:t>
            </a:r>
            <a:r>
              <a:rPr b="0" lang="en-GB" sz="3000" spc="-1" strike="noStrike">
                <a:solidFill>
                  <a:srgbClr val="003399"/>
                </a:solidFill>
                <a:latin typeface="Arial"/>
              </a:rPr>
              <a:t>weak conducive environment for rural economic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53341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5:30Z</dcterms:created>
  <dc:creator>Sarah Coll-Black</dc:creator>
  <dc:description/>
  <dc:language>en-US</dc:language>
  <cp:lastModifiedBy>cdc</cp:lastModifiedBy>
  <dcterms:modified xsi:type="dcterms:W3CDTF">2009-10-05T19:51:00Z</dcterms:modified>
  <cp:revision>67</cp:revision>
  <dc:subject/>
  <dc:title>Slide 1</dc:title>
</cp:coreProperties>
</file>