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frog2A.wav" ContentType="audio/x-wav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frog2.wav" ContentType="audio/x-wav"/>
  <Override PartName="/ppt/media/image16.png" ContentType="image/png"/>
  <Override PartName="/ppt/media/frog1.wav" ContentType="audio/x-wav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9928225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9288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2"/>
          </p:nvPr>
        </p:nvSpPr>
        <p:spPr>
          <a:xfrm>
            <a:off x="562248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75920" y="1077840"/>
            <a:ext cx="7177320" cy="538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3"/>
          </p:nvPr>
        </p:nvSpPr>
        <p:spPr>
          <a:xfrm>
            <a:off x="-36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4"/>
          </p:nvPr>
        </p:nvSpPr>
        <p:spPr>
          <a:xfrm>
            <a:off x="562248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GB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A936443A-A6C4-4D36-80E1-AB95CCD272FF}" type="slidenum"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E1E21F43-010E-4F16-97A7-033027573BA9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624640" y="13639680"/>
            <a:ext cx="4303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E474EB7-60EF-4D5A-B86E-6887D9BE2929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323720" y="6821280"/>
            <a:ext cx="728028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2398B99-10C4-47B1-834A-9C45E53BCE0C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CAE0B32-6FAC-4A18-9BB0-042598F57F0C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B3FB687-B1D5-4392-A72B-F39B2CDDE097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A7637CF6-C970-41BD-B247-AC50AE003024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822AD483-AFE5-4D0C-AF25-9E76B8376B02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753B285-E70B-4EE7-977A-BDA594C20A2F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14919F8-7411-46B2-AF64-D8E78F28C51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EB1251C0-F61F-4A1F-8429-1A4E0132B1A5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6755D9E9-B0D8-4A36-B0F4-55360D022052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C1D385E-6AB5-4576-AFE3-5A400E51C4EF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029E706-FE8C-440F-A9C8-4C41F35C3ECA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DCA2D45-5EB7-409D-AAEA-0E403BF309F7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04EA03B2-52FB-4E8D-AE6A-D2BDCCBD2CB9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5626080" y="13639680"/>
            <a:ext cx="4302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70920" bIns="70920" anchor="b">
            <a:noAutofit/>
          </a:bodyPr>
          <a:p>
            <a:pPr algn="r">
              <a:tabLst>
                <a:tab algn="l" pos="0"/>
                <a:tab algn="l" pos="1387440"/>
                <a:tab algn="l" pos="2774880"/>
                <a:tab algn="l" pos="4162320"/>
                <a:tab algn="l" pos="5549760"/>
                <a:tab algn="l" pos="6937200"/>
                <a:tab algn="l" pos="8325000"/>
                <a:tab algn="l" pos="9712440"/>
                <a:tab algn="l" pos="11101320"/>
                <a:tab algn="l" pos="12488760"/>
                <a:tab algn="l" pos="13876200"/>
                <a:tab algn="l" pos="15263640"/>
              </a:tabLst>
            </a:pPr>
            <a:fld id="{F29E3F85-3B81-4CD0-8BF7-02EBB28225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654200" y="1076400"/>
            <a:ext cx="6619680" cy="53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8600" rIns="138600" tIns="69120" bIns="69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92160" y="6819840"/>
            <a:ext cx="7943760" cy="64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2FC57F0-DA15-4A45-A4AB-820474618978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0190CF4A-F939-4CF9-840E-3163B909AB36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4B8D37F-DBF0-404B-BACD-04F42463571E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F0BE4ED2-125B-4AD0-A9E2-66F0636EA2EE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107E-3A02-42B3-8D12-E63CA1505C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E95F-2DE4-4029-A2E0-01AC448FA7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9CB3-DAD4-4041-9AFE-63DA8CD404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76CF-9F9A-4506-91D3-C531F2F4BC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AA59-400D-4C9A-B6D9-4C023CBC2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B0A6-A4E3-4929-B487-921A17F964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B6F7-FC8E-41F4-AC24-B32E01980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378A-DB5F-4B05-A929-B0CC0D8D4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F3E2-899C-45A9-AE38-361A1E40CD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9842-53B5-48FB-A930-2FEA5EE2E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DB9A-F191-4A6B-898A-D29B46495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00F6-1DED-4A02-A79B-C3F4F18981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27E8-94E5-45C4-90E9-968798A9DD5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../media/frog1.wav"/><Relationship Id="rId7" Type="http://schemas.openxmlformats.org/officeDocument/2006/relationships/audio" Target="../media/frog2.wav"/><Relationship Id="rId8" Type="http://schemas.openxmlformats.org/officeDocument/2006/relationships/audio" Target="../media/frog2A.wav"/><Relationship Id="rId9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1989000"/>
            <a:ext cx="56163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ertiliser subsidies and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cash transfers:</a:t>
            </a:r>
            <a:br>
              <a:rPr sz="2800"/>
            </a:b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or competing instruments for reducing vulnerability to hunger?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Nicholas Freeland, based on a Brief by</a:t>
            </a:r>
            <a:br>
              <a:rPr sz="2000"/>
            </a:br>
            <a:r>
              <a:rPr b="1" lang="en-GB" sz="2200" spc="-1" strike="noStrike">
                <a:solidFill>
                  <a:srgbClr val="405a67"/>
                </a:solidFill>
                <a:latin typeface="Verdana"/>
              </a:rPr>
              <a:t>Professor Frank Ellis, RHVP</a:t>
            </a:r>
            <a:endParaRPr b="1" lang="en-US" sz="22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1320" y="5357520"/>
            <a:ext cx="80722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EC responses to the social consequences of the crisis in Af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Dar-Es-Salaam, 5-9 October 200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620640"/>
            <a:ext cx="8497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Gains for the Rural Poorest and Most Vuln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0920" y="2485080"/>
            <a:ext cx="8583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pon or fertiliser sales provide a cash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(very expensive way of providing a cash transf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ower food prices improve food security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creased demand for rural labour, creates jobs, raises w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Basic data Malawi fertiliser subsidy 2005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700280"/>
          <a:ext cx="8424720" cy="4098960"/>
        </p:xfrm>
        <a:graphic>
          <a:graphicData uri="http://schemas.openxmlformats.org/drawingml/2006/table">
            <a:tbl>
              <a:tblPr/>
              <a:tblGrid>
                <a:gridCol w="1204920"/>
                <a:gridCol w="671400"/>
                <a:gridCol w="1252800"/>
                <a:gridCol w="1116000"/>
                <a:gridCol w="1077840"/>
                <a:gridCol w="853920"/>
                <a:gridCol w="1168560"/>
                <a:gridCol w="1079280"/>
              </a:tblGrid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H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No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t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US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723960"/>
                          <a:tab algn="l" pos="901800"/>
                          <a:tab algn="l" pos="1803240"/>
                          <a:tab algn="l" pos="2705040"/>
                          <a:tab algn="l" pos="3606840"/>
                          <a:tab algn="l" pos="4508640"/>
                          <a:tab algn="l" pos="5410080"/>
                          <a:tab algn="l" pos="6311880"/>
                          <a:tab algn="l" pos="7213680"/>
                          <a:tab algn="l" pos="8115480"/>
                          <a:tab algn="l" pos="9016920"/>
                          <a:tab algn="l" pos="9918720"/>
                          <a:tab algn="l" pos="1082052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1,3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7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,9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8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4,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0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6,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1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,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,4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406"/>
          <p:cNvSpPr/>
          <p:nvPr/>
        </p:nvSpPr>
        <p:spPr>
          <a:xfrm>
            <a:off x="765000" y="587628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5a67"/>
                </a:solidFill>
                <a:latin typeface="Arial"/>
              </a:rPr>
              <a:t>Sources: Dorward &amp; Chirwa (2009); IMF (2008; 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 compared to GDP and government revenue 2004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557360"/>
          <a:ext cx="8424720" cy="4425840"/>
        </p:xfrm>
        <a:graphic>
          <a:graphicData uri="http://schemas.openxmlformats.org/drawingml/2006/table">
            <a:tbl>
              <a:tblPr/>
              <a:tblGrid>
                <a:gridCol w="1565280"/>
                <a:gridCol w="1386000"/>
                <a:gridCol w="1385640"/>
                <a:gridCol w="1386000"/>
                <a:gridCol w="1386000"/>
                <a:gridCol w="131580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m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ov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</a:t>
                      </a: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-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1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4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84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6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4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4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68360" y="374760"/>
            <a:ext cx="81342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Aggregate Maize Balance Sheet 2004/05–2008/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844640"/>
          <a:ext cx="8263080" cy="3219480"/>
        </p:xfrm>
        <a:graphic>
          <a:graphicData uri="http://schemas.openxmlformats.org/drawingml/2006/table">
            <a:tbl>
              <a:tblPr/>
              <a:tblGrid>
                <a:gridCol w="1440000"/>
                <a:gridCol w="2274840"/>
                <a:gridCol w="2273400"/>
                <a:gridCol w="2274840"/>
              </a:tblGrid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ational Food Requi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Domestic Avail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et Maize Gap/Surplus 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/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039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-53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/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18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62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/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25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44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189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/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35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79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3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/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4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1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15"/>
          <p:cNvSpPr/>
          <p:nvPr/>
        </p:nvSpPr>
        <p:spPr>
          <a:xfrm>
            <a:off x="725760" y="52632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  <a:ea typeface="MS Mincho"/>
              </a:rPr>
              <a:t>Source: MoAFS (2008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Production, Supply, Sea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41240" y="1773360"/>
            <a:ext cx="77184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pparent steep &amp; sustained production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ntry in surplus since 2005-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however, prices tell more complex 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ssible production over-esti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mpacts of govt position in marketed supply (only 15% production sold on aver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rice seasonality as bad as ever most recent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68360" y="262080"/>
            <a:ext cx="77724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easonal Maize Price Instability</a:t>
            </a:r>
            <a:br>
              <a:rPr sz="2800"/>
            </a:br>
            <a:r>
              <a:rPr b="1" lang="en-GB" sz="2000" spc="-1" strike="noStrike">
                <a:solidFill>
                  <a:srgbClr val="405a67"/>
                </a:solidFill>
                <a:latin typeface="Verdana"/>
              </a:rPr>
              <a:t>Jan 2005 to Jan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468360" y="1268280"/>
          <a:ext cx="820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20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Tentative Conclusions about the 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773360"/>
            <a:ext cx="79344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xcept in 2006-07, subsidy has failed to protect the most vulnerable from seasonal maize price hi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is reflects possible inaccuracies in the real production gains from the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t also reflects market supply constraints caused by ADMARC monopoly and import b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unusual for fertiliser subsidies to be found to benefit the better off rather than the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95280" y="51912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trengths of Social Cash Transfer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31640" y="2162160"/>
            <a:ext cx="85330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ach those unable to generate a livelihood due to lack of land or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qually effective in urban and rura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elivery using electronic methods can be secure at low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udget cost for most options considerably below that of the fertiliser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arative Attributes of Social Protection Altern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4000" y="1700280"/>
          <a:ext cx="8496000" cy="3997080"/>
        </p:xfrm>
        <a:graphic>
          <a:graphicData uri="http://schemas.openxmlformats.org/drawingml/2006/table">
            <a:tbl>
              <a:tblPr/>
              <a:tblGrid>
                <a:gridCol w="1960560"/>
                <a:gridCol w="914400"/>
                <a:gridCol w="1307880"/>
                <a:gridCol w="1500120"/>
                <a:gridCol w="1393920"/>
                <a:gridCol w="1419120"/>
              </a:tblGrid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Un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ers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oo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mb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ili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i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Po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Benefic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3,4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5,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,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7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7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otal 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,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,000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G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0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Budg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361"/>
          <p:cNvSpPr/>
          <p:nvPr/>
        </p:nvSpPr>
        <p:spPr>
          <a:xfrm>
            <a:off x="569880" y="5734080"/>
            <a:ext cx="57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* assumes substantial fall-back from 2008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imilar Findings in Zambia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000" y="1208520"/>
            <a:ext cx="86058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has a Fertiliser Support Programme (FSP), as well as pilot social cash transfer program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also has a consumer maize subsidy, implemented through its Food Reserve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 combined cost of these two programmes leapt from ZK425bn in 2007 to ZK840bn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ecoming about 7 per cent of total revenue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are that with Govt contribution of ZK3bn/year to social cash transfer pil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ven more than in Malawi, Zambia’s FSP has been shown to benefit better-off rather than po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9640" y="620640"/>
            <a:ext cx="777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verage of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9640" y="1672920"/>
            <a:ext cx="7991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and competing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 and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scale and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impacts on vulnerability to hu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impacts on maize production, supply and seasonal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cope for more than one major lever of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ve and welfare policie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519120"/>
            <a:ext cx="77724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Conclusion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6000" y="1460880"/>
            <a:ext cx="85327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when a country is prepared to spend 10-15% of its budget on fertiliser subsidies, it cannot then evoke ‘lack of affordability’ as a reason for not considering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virtually all feasible social transfer alternatives come in at a fraction of the cost of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on and welfare policies need to be pursued in tandem: they are 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scaling back fertiliser subsidies to the region of 5-7% of the budget would allow 5% of the budget to be spent on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F7A8-424C-4A35-AD59-9FDDF7E75F4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342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alawi Ultra-Poor Labour-Constrained Households by District (%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611280" y="1341360"/>
          <a:ext cx="813744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13744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5B35-D094-472E-9526-3D9068A0589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Income Distribution, by Decile</a:t>
            </a:r>
            <a:endParaRPr b="1" lang="en-US" sz="28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7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rank’s frog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38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Canberra, 21-22 May 2009                           Sustainable Development Group Conference – Social Protection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      Slide </a:t>
            </a:r>
            <a:fld id="{5C21FC8D-E099-4A65-8881-59A404BADD7E}" type="slidenum">
              <a:rPr b="0" lang="en-GB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7632720" cy="39304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7"/>
          <p:cNvGrpSpPr/>
          <p:nvPr/>
        </p:nvGrpSpPr>
        <p:grpSpPr>
          <a:xfrm>
            <a:off x="7164000" y="3860640"/>
            <a:ext cx="1141200" cy="757080"/>
            <a:chOff x="7164000" y="3860640"/>
            <a:chExt cx="1141200" cy="757080"/>
          </a:xfrm>
        </p:grpSpPr>
        <p:pic>
          <p:nvPicPr>
            <p:cNvPr id="207" name="Picture 14" descr="20544089"/>
            <p:cNvPicPr/>
            <p:nvPr/>
          </p:nvPicPr>
          <p:blipFill>
            <a:blip r:embed="rId3"/>
            <a:stretch/>
          </p:blipFill>
          <p:spPr>
            <a:xfrm flipH="1">
              <a:off x="7164000" y="3860640"/>
              <a:ext cx="9349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5"/>
            <p:cNvSpPr/>
            <p:nvPr/>
          </p:nvSpPr>
          <p:spPr>
            <a:xfrm>
              <a:off x="7182360" y="4003560"/>
              <a:ext cx="112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$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7093080" y="3828960"/>
            <a:ext cx="1167120" cy="752400"/>
            <a:chOff x="7093080" y="3828960"/>
            <a:chExt cx="1167120" cy="752400"/>
          </a:xfrm>
        </p:grpSpPr>
        <p:pic>
          <p:nvPicPr>
            <p:cNvPr id="210" name="Picture 18" descr="frog2"/>
            <p:cNvPicPr/>
            <p:nvPr/>
          </p:nvPicPr>
          <p:blipFill>
            <a:blip r:embed="rId4"/>
            <a:stretch/>
          </p:blipFill>
          <p:spPr>
            <a:xfrm>
              <a:off x="7093080" y="3828960"/>
              <a:ext cx="10080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9"/>
            <p:cNvSpPr/>
            <p:nvPr/>
          </p:nvSpPr>
          <p:spPr>
            <a:xfrm>
              <a:off x="7110000" y="411156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ff"/>
                  </a:solidFill>
                  <a:latin typeface="Arial"/>
                </a:rPr>
                <a:t>$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7110000" y="3925800"/>
            <a:ext cx="1150200" cy="798480"/>
            <a:chOff x="7110000" y="3925800"/>
            <a:chExt cx="1150200" cy="798480"/>
          </a:xfrm>
        </p:grpSpPr>
        <p:pic>
          <p:nvPicPr>
            <p:cNvPr id="213" name="Picture 21" descr="frog3"/>
            <p:cNvPicPr/>
            <p:nvPr/>
          </p:nvPicPr>
          <p:blipFill>
            <a:blip r:embed="rId5"/>
            <a:stretch/>
          </p:blipFill>
          <p:spPr>
            <a:xfrm>
              <a:off x="7164360" y="3925800"/>
              <a:ext cx="936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22"/>
            <p:cNvSpPr/>
            <p:nvPr/>
          </p:nvSpPr>
          <p:spPr>
            <a:xfrm>
              <a:off x="7110000" y="396864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Arial"/>
                </a:rPr>
                <a:t>$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og1.wav"/>
                                        </p:tgtEl>
                                      </p:cMediaNode>
                                    </p:audio>
                                    <p:animMotion origin="layout" path="M -0.12101 -0.06899 L -0.06042 -0.1544 C -0.04688 -0.17477 -0.03333 -0.18149 -0.02292 -0.17616 C -0.01059 -0.17084 -0.00452 -0.15278 -0.00452 -0.12524 L 1.38889E-006 -0.00903 E">
                                      <p:cBhvr>
                                        <p:cTn id="1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og2.wav"/>
                                        </p:tgtEl>
                                      </p:cMediaNode>
                                    </p:audio>
                                    <p:animMotion origin="layout" path="M -0.36788 -0.16088 L -0.21476 -0.3 C -0.18333 -0.32824 -0.14601 -0.33287 -0.11493 -0.31597 C -0.07813 -0.30069 -0.05764 -0.25902 -0.05035 -0.20648 L -0.0099 0.03195 E">
                                      <p:cBhvr>
                                        <p:cTn id="2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rog2A.wav"/>
                                        </p:tgtEl>
                                      </p:cMediaNode>
                                    </p:audio>
                                    <p:animMotion origin="layout" path="M -0.6184 -0.26482 L -0.39687 -0.43588 C -0.34739 -0.47616 -0.29097 -0.48218 -0.23784 -0.46042 C -0.17864 -0.4345 -0.13489 -0.38334 -0.11441 -0.31274 L -0.00903 -0.00047 E">
                                      <p:cBhvr>
                                        <p:cTn id="3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9280" y="158760"/>
            <a:ext cx="79930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lementary vs Competing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24000" y="1326240"/>
            <a:ext cx="84960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ddress different goals: economic growth vs social welf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time horizons: long term vs short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needs of different vulnerable groups: small farmers vs severely depr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imited public budgetary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pportunity cost’ for achieving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fficiency in achieving hunger protection 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litical headway and commi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ummarising Complement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55640" y="2721600"/>
            <a:ext cx="770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mentarity can be depicted by two intersecting 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ap represents extent that fertiliser subsidy provides a reliable defence against hunger for the poorest members of the farming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roportion of vulnerable people protected by the fertiliser subsidy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1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967-D306-4B02-92A2-E0ED6A58EFF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3928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larger the overlap, the more the fertiliser subsidy provides a social protection function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5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E826-F0E7-42AD-9B2B-A93C0FFC72E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539280"/>
            <a:ext cx="821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smaller the overlap, the more social cash transfers are needed to protect the vulnerabl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9" name="Content Placeholder 4" descr=""/>
          <p:cNvPicPr/>
          <p:nvPr/>
        </p:nvPicPr>
        <p:blipFill>
          <a:blip r:embed="rId1"/>
          <a:stretch/>
        </p:blipFill>
        <p:spPr>
          <a:xfrm>
            <a:off x="652320" y="1566720"/>
            <a:ext cx="7815240" cy="437040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3C5-4383-4712-ADEF-A2849E02CD2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53964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95280" y="1649160"/>
            <a:ext cx="849636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a welfare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 economic terms, seeks to overcome sub-optimal use of a key productiv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duces risk and input affordability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upposed to accomplish a transitional, bridging,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an result in higher yields, with output and income gains f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nce higher use achieved, should be gradually phas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544680" y="404640"/>
            <a:ext cx="7772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Vulnerability Reduction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95280" y="1609920"/>
            <a:ext cx="82105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eeds land and labour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refore excludes the landless and HHs lacking active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quantity available at subsidised price is ra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reates parallel market in coupons or subsidised supp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tudies invariably find that non-poor are chief benefici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orest farmers sell coupons, since cash is more valuable to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9:39:51Z</dcterms:created>
  <dc:creator>Frank Ellis</dc:creator>
  <dc:description/>
  <dc:language>en-US</dc:language>
  <cp:lastModifiedBy>Nicholas Freeland</cp:lastModifiedBy>
  <dcterms:modified xsi:type="dcterms:W3CDTF">2009-10-06T05:54:28Z</dcterms:modified>
  <cp:revision>151</cp:revision>
  <dc:subject/>
  <dc:title>Livelihoods Framework</dc:title>
</cp:coreProperties>
</file>