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1E85862-FDB6-4454-977B-C1151869FF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tional support to hot spot areas in both 2008 and 2009 this increasing the total transfers of at least 30% for these benefici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nsuring this flexibility also requires proper budgeting including provision for additional support or timely additional funding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d appropriate EW system to tiimely identify hot spot area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nors have basically covered these in the first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need for a simplified approach is raising due to the complexity of the targeting (and retargeting) proces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here is a logical link between targeting method and type of conditions for tran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Ethiopia, unconditional tranfers are culturally difficult to be accepted. It all comes down to self image...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C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F68D9D-97B0-4896-B1DA-2FF562FCB9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0C191D1-2010-474F-B348-A7329AA685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Panel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SNP does indeed acts as a safety net, an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liness of transfers is critic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targeting system &amp; dilution mechanis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hile droughts and other disasters are significant triggers, more important are the to these shocks and which have undermined livelihoods. These f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utually reinforcing Outputs of the F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lus Resettlement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e vision for graduation requires close complementarity among the FSP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 =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mentary Community Investment Program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apacity building addresses MoARD and Mo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astoral programme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gressive scale up in Afar and Somali based on a set of minimum requirements to be fulf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isk Management Mechanism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new facility introduced to address transitory needs of PSNP and non-PSNP beneficiaries not requiring emergency intervention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asing out of food security loans delivered by non-financial providers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ong capacity building sub-component addressing both institutional capacity to manage and implement HABP and awareness creation, knowledge, skill and confidence building among clients/beneficiar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experience and discussion around the PSNP has certainly contributed to push for the definition of a social protection strate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NP design has been a joint exercise GoE-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rinciples are basically in line with the definitions that Stephen Deveraux has given about a social protec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NP is intended to create the conditions for a more effective support through complementary intervention aimed to support asset building, graduation and ultimately poverty re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n Ethiopia it has been the case since 2005… The PSNP has actually covered a relevant part of the need previously covered by the relief system through the humanitarian appeals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n top of 8 million PSNP beneficiaries, relief system still assists some millions people every year (4,5 in 2008 and 6,4 in 2009)…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is suggests that there is a relevant number of people who should be covered by the programme but is no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a number of surveys it appears that in PSNP Districts, food prices can be higher, particularly in isolated Distr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7EC-5E59-41F6-8A81-8FF0387D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2F2-65CA-4912-966E-A796E9D7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F45-F490-4824-ACD3-15091CA8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7F1-7B48-4969-A628-24225681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380C-3690-48ED-8CF2-257A14A3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0F28-F82B-4EB0-98B0-243E526F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3EE0-493B-4401-9D13-960A9C01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8546-6ADA-4A33-9877-C69D296B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BE74-72CA-4EB5-A465-E4936C3A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FF93-27A8-4482-A76A-4EF42EAC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1A8-5F7B-433D-A340-07E7518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9E1-4F89-4137-A277-1DEDE33E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23EC-F2AF-4BCB-BFD8-5734123F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603E-EE5B-4CB3-8B37-7DE64A44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46E2-67FA-4EC9-8CF3-68F48221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4EFE-22B7-4DC3-8AA6-5F954CB2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26E-E125-4818-BEEC-5A251894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97C-CBB3-433B-8388-D6786310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94F-D6BA-415B-A7F3-0EBBDF3A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C23-1BEC-4F2A-BFFA-E9F1E1CE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739-29FC-4BB9-8A3E-FBC11857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147-B656-48BD-AEE8-DCA01F83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A68-8781-4D8B-A09D-6A821154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518-AE41-4804-BA94-F4F6B1D1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8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8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5A1-E5D2-415F-9483-E2D788433F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E82D-9DBF-4524-A4BC-C0D143785D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11675" r="0" b="6569"/>
          <a:stretch/>
        </p:blipFill>
        <p:spPr>
          <a:xfrm>
            <a:off x="3276720" y="4527720"/>
            <a:ext cx="2666880" cy="806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62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Success and limits of the 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THE PRODUCTIVE SAFETY NET PROGRAMME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in Ethiopi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52720" y="152280"/>
            <a:ext cx="1252800" cy="9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80680" y="5775480"/>
            <a:ext cx="27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r Es Salam, 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br>
              <a:rPr sz="3200"/>
            </a:b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Transfer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Cash &amp; food transfers, conditioned to the participation to PW + about 20% unconditioned Direct Support to specific categori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7840" y="1295280"/>
            <a:ext cx="74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How and what is the programme transfer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5720" y="60958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1) 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300 Birr/year = 24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905120"/>
            <a:ext cx="82296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Food ration</a:t>
            </a: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 is based of SPHERE standard (15 kg cereals + pulse and oil per months per perso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8195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Cash transfers</a:t>
            </a: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 “indexed” (yearly wage rate review) and increased from 30 (in 2006) to 50 Birr (in 2009) per month for 6 months a year</a:t>
            </a:r>
            <a:r>
              <a:rPr b="0" lang="en-GB" sz="2600" spc="-1" strike="noStrike" baseline="30000">
                <a:solidFill>
                  <a:srgbClr val="003399"/>
                </a:solidFill>
                <a:latin typeface="Arial"/>
              </a:rPr>
              <a:t>1</a:t>
            </a: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 to (partially) ensure parity with the food r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360" y="4572000"/>
            <a:ext cx="7940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Additional 2 to 3 months of support to hot spot areas in both 2008 and 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17440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 Ethiopia it is particularly difficult because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75 million population,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3 million have a social security package (pension and health care),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8 million PSNP beneficiaries,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3 to 6 million receiving emergency food aid every y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30% of the population living with less that 1 US$ per 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360" y="1263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Targeting poverty in poor countries with low administrative capacity is always challeng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br>
              <a:rPr sz="3200"/>
            </a:b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Targeting - 1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3057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istricts mapping based of historical relief ai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ommunity based self assess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come/assets based benchmarks established for each national stat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6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6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Categorical targeting was rejected by the GoE in 2005. Targeting is done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7680" y="5186520"/>
            <a:ext cx="7483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6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clusion/exclusion errors are still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br>
              <a:rPr sz="3200"/>
            </a:b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Targeting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54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3399"/>
                </a:solidFill>
                <a:latin typeface="Arial"/>
              </a:rPr>
              <a:t>About programme performance and impacts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eographical coverag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990720"/>
            <a:ext cx="80596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Timeliness of transf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320" y="952560"/>
            <a:ext cx="88390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3520" y="228600"/>
            <a:ext cx="8305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SNP Impact on inco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Average Household Incomes, 2006 &amp;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Chart 7" descr=""/>
          <p:cNvPicPr/>
          <p:nvPr/>
        </p:nvPicPr>
        <p:blipFill>
          <a:blip r:embed="rId1"/>
          <a:stretch/>
        </p:blipFill>
        <p:spPr>
          <a:xfrm>
            <a:off x="500040" y="1600200"/>
            <a:ext cx="80726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re achievem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ift from relief and involvement of Gvt and national structures in management and implement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 decline in self reported consumption leve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 decline in asset levels relative to non beneficiari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bined access to PSNP and HAB improved FS of 0.81 months since the introduction of the progra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tting up of the required administrative &amp; institutional structu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tting up and management of some 34.000 PW projects/year at community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lexibility to adapt transfers to changing &amp; difficult external conditions (2008-2009 crisi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onstrai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ly 50% of PSNP beneficiaries have been in the programme for three years on a row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ry low integration between PSNP and HAB…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ry low graduation rate (60.000 HH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ry high variability in capacity &amp; performances among Regions and Distric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nancial management still insufficient &amp; delay in transf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roded purchasing power of the cash transf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ak M&amp;E and ESMF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w management capacity, high staff turn ov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26668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54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3399"/>
                </a:solidFill>
                <a:latin typeface="Arial"/>
              </a:rPr>
              <a:t>About the way forward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Ethiopia and Social Protection - 1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8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griculture is the key sector as it is a source of livelihood for 85% of the rural population; many of whom are small, poor farmers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8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t remains subject to severe and frequent shocks due to droughts and natural disast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8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Factors which increase vulnerability include: land degradation, limited household assets, low levels of farm technology, lack of employment opportunities and population pressu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8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30% of the population live below the national poverty line (&lt; 1US$/day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The FSP struc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441360" y="1981080"/>
            <a:ext cx="1844640" cy="311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b812f"/>
                </a:solidFill>
                <a:latin typeface="Arial"/>
              </a:rPr>
              <a:t>F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b812f"/>
                </a:solidFill>
                <a:latin typeface="Arial"/>
              </a:rPr>
              <a:t>Institutional capacity to manage the FSP and effectively link up with wider processes and other programmes strengthene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27360" y="1643040"/>
            <a:ext cx="3139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PSNP - Food consumption sustainably assured and asset depletion sustainably prev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27360" y="3076560"/>
            <a:ext cx="31399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HABP - Income sources diversified and productive assets incre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4219560"/>
            <a:ext cx="3124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CCI - Access to adequate enabling infrastructure, services and natural environment secu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84960" y="2971800"/>
            <a:ext cx="2606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Arial"/>
              </a:rPr>
              <a:t>Confidence, knowledge and skills of food insecure people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1447920"/>
            <a:ext cx="4038480" cy="4038480"/>
          </a:xfrm>
          <a:prstGeom prst="bracePair">
            <a:avLst>
              <a:gd name="adj" fmla="val 8333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The graduation process in the new phas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1389240"/>
            <a:ext cx="8610480" cy="4616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52680" y="1585800"/>
            <a:ext cx="762120" cy="7621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1509840"/>
            <a:ext cx="762120" cy="761760"/>
          </a:xfrm>
          <a:prstGeom prst="ellipse">
            <a:avLst/>
          </a:prstGeom>
          <a:noFill/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509840"/>
            <a:ext cx="761760" cy="7617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1357200"/>
            <a:ext cx="3429000" cy="1067040"/>
          </a:xfrm>
          <a:prstGeom prst="ellipse">
            <a:avLst/>
          </a:prstGeom>
          <a:noFill/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509840"/>
            <a:ext cx="762120" cy="761760"/>
          </a:xfrm>
          <a:prstGeom prst="ellipse">
            <a:avLst/>
          </a:prstGeom>
          <a:noFill/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50680" y="1066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e6525"/>
                </a:solidFill>
                <a:latin typeface="Arial"/>
              </a:rPr>
              <a:t>HA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und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6765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onor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00% of PSNP, $440 M/yea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pacity building component of the HABP, $20 M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Go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redit component of the HAB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00% CCI and Resettl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otal ETB 2 Bill/year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% of national annual budge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5257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4191120" cy="318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48320" y="34290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4191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114800" cy="297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4114800" cy="312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160880" cy="297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495680" y="3276720"/>
            <a:ext cx="42721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9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11675" r="0" b="6569"/>
          <a:stretch/>
        </p:blipFill>
        <p:spPr>
          <a:xfrm>
            <a:off x="4267080" y="5362560"/>
            <a:ext cx="4438800" cy="1343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280" y="5438880"/>
            <a:ext cx="11145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bout the PSNP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roving accountabil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roduction of a Beneficiary Charter and Client cards;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computer assisted payroll system (PASS) becomes mandatory for all PSNP Distric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rengthening capacit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rengthening Regional Units and manage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t up of a Capacity Building Facility (CIDA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bout the HABP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viewed and more comprehensive approach for the provision of technical and financial servic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cus on demand-driven service delivery and market responsivenes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H business plan development provided through the Extension servi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nancial services provided through sustainable finance providers (MFIs, RuSACCOs, VSLA );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8560" y="2274840"/>
            <a:ext cx="805824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6640" y="1712880"/>
            <a:ext cx="67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umber of People in Need According to Emergency 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Ethiopia and Social Protection - 2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olicy environment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GoE is developing a National Plan for Social Protection based on experience in the implementation of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The PASDEP (Plan for Accelerated Sustained Development to End Poverty = Ethiopia PRS, 2005) &amp;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ural Development Policy and Food Security Strategy (2006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Gvt already has in place some elements of a minimum package (the health waiver system and other interventions) but does not have these actions brought together under one umbrella policy or national pla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PSNP has become the framework for this discuss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Ethiopia and Social Protection - 3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From relief to a predictable Safety Net - 1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514600"/>
            <a:ext cx="792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hift from emergency to a predictabl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moothing HH food consumption and protecting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rengthening HH resiliency to modest shoc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reak dependence on food aid introducing a cash first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640" y="1284120"/>
            <a:ext cx="740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Designed and launched in 2005, the PSNP has been conceived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rom the CSP 2007…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The programme has been successful in meeting its goal of transitioning from a relief-oriented to a development-oriented 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predictable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safety ne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PSNP has the potential to evolve into a comprehensive social protection strategy in the longer term: from a geographical focused programme into an entitlement based intervention that is part of the Government’s social protection policy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 predictable SN is expected to reduce emergency assistance and allow moving resources to developmental programs…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8195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 Ethiopia it has been the case since 2005, 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242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nd on top of these, relief system still assists some millions people every year (4,5 in 2008 and 6,4 in 20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809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PSNP in 4 years has increased its caseload from 5,5 to 8 million beneficia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057400" y="2133720"/>
            <a:ext cx="5029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Y ?!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Because the coverage is not enough or targeting is not appropriate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886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Because economic growth is not playing its role as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Because transfers are not adequ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257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Other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br>
              <a:rPr sz="3600"/>
            </a:b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conomic growt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t is expected that transfers will help to generate economic grow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2096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 Ethiop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mpact assessments show that PSNP has protected assets but the impact of combined actions for HH asset building has not been satisfactory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Reason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areas isolated and not linked to the market,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reduced opportunities for on &amp; off farm (innovative) activities,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land tenure system,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reduced access to agricultural inputs and to (micro) finance services, …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weak conducive environment for rural economic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3341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5:30Z</dcterms:created>
  <dc:creator>Sarah Coll-Black</dc:creator>
  <dc:description/>
  <dc:language>en-US</dc:language>
  <cp:lastModifiedBy>cdc</cp:lastModifiedBy>
  <dcterms:modified xsi:type="dcterms:W3CDTF">2009-10-05T19:51:00Z</dcterms:modified>
  <cp:revision>67</cp:revision>
  <dc:subject/>
  <dc:title>Slide 1</dc:title>
</cp:coreProperties>
</file>