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383688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17280" y="773280"/>
            <a:ext cx="49402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1"/>
          </p:nvPr>
        </p:nvSpPr>
        <p:spPr>
          <a:xfrm>
            <a:off x="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12"/>
          </p:nvPr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FFBF-2909-4157-AE6A-8BFEF0F5322F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0E66-6B6A-442C-AA18-1844282E0BE4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28E7-4759-4D5F-939A-622919C95408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A10F-50B4-4688-9BD2-7E5005A63317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2FD-4A2C-4E41-8CC6-08FC8589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7A6-E3B6-4B03-98B0-44A7F033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6AC-89EA-42E0-A14F-5D5E6841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300-5D15-498D-B132-6902A2E8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893E-ED13-4EE8-B8A9-F1003F18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0286-CF35-4192-A463-1680AE32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7313-A685-4E5B-9157-7C029E07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E0C9-45B0-40B7-8442-0524ED16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60D0-7051-4240-B0E0-6EAD049C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2E0D-2F62-4ABA-84D9-0AD85249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2639-C964-48D7-852C-74C27B80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3BE-0C97-4B2C-811F-2013B1A8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E96D-FB3B-48A4-B7BA-B53B6465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D1E6-43A9-4456-8202-D6651933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AABD-6A74-4F34-9BE7-3A1825F5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B652-9A32-4C5A-9871-05B8A75D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825E-6963-4827-A0BD-7AB92304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BF381-DB06-4A9D-AB8F-A649799B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F2988-8BB1-4DAD-ABB7-280ECF10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A778-8FC5-4326-8B36-E63AFF74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30F6-A706-48B5-A731-C3451AFD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E429-C59A-48B5-AA9E-B7AFD70F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75A-85A5-4E07-A6E4-063CF1E0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490E-F2DF-4E86-8AFE-F0CC8348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6AA8-BE91-4504-AAC7-569A7A79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52E1-A018-48D1-A327-D993573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592A-DE6C-4F64-AA0B-ADF059CA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54C0-45A8-4AA5-952E-A2BDA98D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3D5D-FE51-416A-91C9-4B8D15FF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FBA62-6C63-40B1-984C-87C3BEE2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050-A106-4943-BD27-86414468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C2F-63DC-4451-8B68-1404A337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F39-5714-48DB-B996-87F86232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9E2-6505-474E-8021-15E79BF4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1B2-C862-45F6-A99B-5780D7E0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3BD-866D-46B7-BE92-6DE8BDDA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78D1-83F8-4A26-9B0E-7DD13A4F159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4E1A-AF30-4CAE-9385-CFDA036D9A83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665280"/>
            <a:ext cx="600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5213-80BF-4311-9FAC-9372FB2C7904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3D47-6E62-466D-8EB2-E5482B1B013B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ZoneTexte 6"/>
          <p:cNvSpPr/>
          <p:nvPr/>
        </p:nvSpPr>
        <p:spPr>
          <a:xfrm>
            <a:off x="1587600" y="2743200"/>
            <a:ext cx="469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Addressing Undernutrition: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Key questions to consider this week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Arial"/>
              </a:rPr>
              <a:t>Claire Chastre, </a:t>
            </a:r>
            <a:br>
              <a:rPr sz="2000"/>
            </a:br>
            <a:r>
              <a:rPr b="1" lang="es-CL" sz="2000" spc="-1" strike="noStrike">
                <a:solidFill>
                  <a:srgbClr val="808080"/>
                </a:solidFill>
                <a:latin typeface="Arial"/>
              </a:rPr>
              <a:t>EC Nutrition Advisory Servic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28520" y="577440"/>
            <a:ext cx="6033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a1f1d"/>
                </a:solidFill>
                <a:latin typeface="Arial"/>
              </a:rPr>
              <a:t>What is malnutrition? 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064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Malnutrition is a physical condition resulting from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inadequate or unbalanced food intake or from poor utilization of food consumed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It includes: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1538280" indent="-4572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80808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Overnutrition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1538280" indent="-4572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80808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Undernutrition: our main focus.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01DA-F25F-4D7E-B0E7-DAD91CFD43E4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317520" y="1574640"/>
            <a:ext cx="77724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o we have a shared understanding of the ‘basics’ in nutrition and why it should given greater emphasis in external assistance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t regional level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75"/>
              </a:spcAft>
              <a:buClr>
                <a:srgbClr val="80808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ow is undernutrition affecting this region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808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ow is the EC planning to respond through a regional programme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808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t national level, what would help you to better address undernutrition in your work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75"/>
              </a:spcAft>
              <a:buClr>
                <a:srgbClr val="80808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ow can you make decisions about the best approach to invest in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75"/>
              </a:spcAft>
              <a:buClr>
                <a:srgbClr val="80808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ference documen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Aft>
                <a:spcPts val="675"/>
              </a:spcAft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view outline of Reference Document and process to develop i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Aft>
                <a:spcPts val="675"/>
              </a:spcAft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view options for indicato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ow would you like to be involved to support the process of finalising the document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11C6-8B82-4DE9-9B78-C1CBDD5EF058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ZoneTexte 6"/>
          <p:cNvSpPr/>
          <p:nvPr/>
        </p:nvSpPr>
        <p:spPr>
          <a:xfrm>
            <a:off x="1587600" y="2743200"/>
            <a:ext cx="46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SOCIAL TRANSFERS – Introdu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Key questions to consider this week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Claire Chastr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89C4-289B-47EA-913C-7470240C6F7E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09480" y="2828880"/>
            <a:ext cx="7061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Regular and predictable non-contributory grants that aim to directly increase or protect the incomes of those living in poverty or at risk of falling into povert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30E2-8FC5-42D3-9FEB-38C704D6D1A8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406440" y="2362320"/>
            <a:ext cx="7772400" cy="28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ocial Transfers and Food 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808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What is the role of social transfers in food security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808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xamples of EC involvement in social transfers in the region  (delegations and ECHO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What are the existing and forthcoming EC documents to support social transfers within the EC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ow do we design and implement a social transfer programme? 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(through an exercise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lbyflores_v</cp:lastModifiedBy>
  <cp:lastPrinted>2003-11-06T16:40:02Z</cp:lastPrinted>
  <dcterms:modified xsi:type="dcterms:W3CDTF">2010-07-18T21:42:40Z</dcterms:modified>
  <cp:revision>859</cp:revision>
  <dc:subject/>
  <dc:title>No Slide Title</dc:title>
</cp:coreProperties>
</file>