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664325" cy="9907588"/>
  <p:custShowLst>
    <p:custShow name="Diaporama personnalisé 1" id="0">
      <p:sldLst>
        <p:sld r:id="rId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6636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2"/>
          </p:nvPr>
        </p:nvSpPr>
        <p:spPr>
          <a:xfrm>
            <a:off x="3774600" y="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853560" y="742680"/>
            <a:ext cx="49532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3"/>
          </p:nvPr>
        </p:nvSpPr>
        <p:spPr>
          <a:xfrm>
            <a:off x="-3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4"/>
          </p:nvPr>
        </p:nvSpPr>
        <p:spPr>
          <a:xfrm>
            <a:off x="377460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DA3DA-1915-423B-A1F3-08F1C5DB1F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80A353-FF39-4914-B0A8-A52EEEEB4B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8EFB9A-DE63-403D-B976-3D9D751A4A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39BBEF-8BE4-4D53-9B39-E066A28CB3E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BE7BF1-37D6-45A3-AC7A-0F2BC2F01F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6474484-F1E4-4F11-B436-1FC7F83981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9AEF25-806E-43D6-999C-5FD2D1CE3B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E84CEF-E517-4854-8C44-015AD9E1CE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76A9AF-9137-4385-AE0E-AFBC6E1930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94A2CA-0369-4158-BEA0-470FDA8A17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31F1D-0951-4A9B-BEC4-C75E1FF0EC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74800B-DD66-4110-8F94-C707475194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5F3B034-68DD-4B64-B206-C14637007B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F161FC-428C-4FB2-B3A7-BDFC2BF55B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774960" y="940896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333451-D19D-48CD-ADF4-0652377EC4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85392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66720" y="4704840"/>
            <a:ext cx="53294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F171-51EA-4C03-B29B-97898CEB2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080E7-4FA8-4F9F-B3A5-FA148CEE0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362A-0236-4042-8084-DC1AB62AA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915E-0DFE-4BFB-8A27-F5C5A8687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FE658-1931-41B8-BAC2-7BCB70CF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54073-35CA-46CD-BCA0-D91B423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A9ACD-40A8-4B43-B052-DE6F8394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5F8A-DF56-4F19-9316-8C9C272EF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66F5F-4324-48F2-B5A2-1D139BA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64BA4-AAF7-4B79-8B50-DE78C3E0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87A51-849D-4746-98C1-C854190B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A5DF-E22B-41D2-A1B7-470BF2B660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B1E05-CA13-4607-B358-A8E2CB72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1031D-EF4E-486C-B5B6-26916EE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1C88F-CE76-4316-9FE6-9F138BB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5375D-D77F-4A0C-92B4-6C690ABD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45005-25B5-4292-8FA1-B445D659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6D36-74DC-4427-A3DE-1703B16EF80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B07-FFFD-469E-BDE1-8E03C3C05D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9708-D1C3-4992-87A2-808D348D70F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28AD-2E6A-41A2-B5DE-69A6251BD1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2A6F-4E6E-4B22-88BD-617E1303E4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AF1DB-DFD7-4728-96B7-1304460EC0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A991-DC3C-4092-A2FB-38CAFA3423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E217-7769-48C1-9B58-14B74BD6A8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25DA-BBDE-46D8-88CA-4341642548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1646-8B24-4512-A07F-A8AEABC873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4475-8B3A-4EE7-AB2C-EDC11C322C8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BBED-8B4E-436B-BA1D-42874E1D98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AACA-BD03-44A4-BA5D-FF627BFA84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AF494-FBC9-4183-8AC5-ED0805AB327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FC6D94-732A-4D2E-8470-918F7FA572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7D295-940A-42A8-9922-23DEE83EB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32C7-DDE3-40B3-8F17-FB5A997B5A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D5AAEB-F088-4540-8377-0FF4EB02F8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58C07-29BE-47D9-A151-3108E1B2064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DE2B6F-5077-4CC3-8FCC-99C65C9BD2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A4496-492E-4C9C-8611-994A730DDE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54964-3496-495D-BFB5-EE71A440177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95E93E-2139-4CD2-8A9C-A749D92B166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7B65F-E80E-4CE1-AFEA-82CD91EDCD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E0655F-731A-424A-9700-F055BC41AFB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E9B13F-55DD-4E8C-A482-FAC7BF84FB9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A22B5-E0ED-48F2-99E3-043E1B749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C594-49AF-4AD6-9080-585814D9C0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AD090F-6DF8-41D5-8377-775D5E0EA7A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2A2A1-CCA8-44CD-9B0D-02F723D0E8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938075-C82A-49FA-84F7-95B224293D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7EF179-2604-44AB-A5FD-16D0982162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7688CC-8637-4F11-9CD2-E4E21D4978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8AE85-4A8E-4537-B79A-9C247656892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9258A-3F7C-4B14-B8D4-5C2828E2B8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5072E8-17A8-4BC0-895A-9361923006C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4C225D-593D-4FD0-99F9-7BC559DCAF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82014-2389-4128-9F65-E925832A9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C2EAB-6A0E-41CF-B070-84A32C895DE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6DB9A5-E260-4E61-8DEC-D56B176F3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C3EC1-C4F4-4CE0-A738-BEB264AFE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3ECE-2EC6-41A4-B3A4-CFE526FB2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2480C-6CFA-42F7-964A-45C795E7C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éunion RPCA, Paris avril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DE6A-529F-4B85-95F9-C2944505A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6948360" y="6237360"/>
            <a:ext cx="129564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4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6948360" y="6237360"/>
            <a:ext cx="1224000" cy="431640"/>
          </a:xfrm>
          <a:prstGeom prst="rect">
            <a:avLst/>
          </a:prstGeom>
          <a:solidFill>
            <a:srgbClr val="b3a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5000"/>
              </a:lnSpc>
              <a:spcBef>
                <a:spcPts val="1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AID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7"/>
          </p:nvPr>
        </p:nvSpPr>
        <p:spPr>
          <a:xfrm>
            <a:off x="2411280" y="6308640"/>
            <a:ext cx="4176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8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0"/>
          </p:nvPr>
        </p:nvSpPr>
        <p:spPr>
          <a:xfrm>
            <a:off x="7956360" y="6248520"/>
            <a:ext cx="50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2268360" y="6308280"/>
            <a:ext cx="468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7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reseau-rosa.eu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300" spc="-1" strike="noStrike">
                <a:solidFill>
                  <a:srgbClr val="99bf14"/>
                </a:solidFill>
                <a:latin typeface="Arial"/>
              </a:rPr>
              <a:t>Food Security Network - ROS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71680" y="3789000"/>
            <a:ext cx="7929360" cy="12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cabd0"/>
                </a:solidFill>
                <a:latin typeface="Arial"/>
              </a:rPr>
              <a:t>A place for information and ex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f7f7f"/>
                </a:solidFill>
                <a:latin typeface="Arial"/>
              </a:rPr>
              <a:t>www.reseau-rosa.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rcRect l="5905" t="0" r="8857" b="23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rcRect l="8857" t="18896" r="8857" b="28343"/>
          <a:stretch/>
        </p:blipFill>
        <p:spPr>
          <a:xfrm>
            <a:off x="0" y="0"/>
            <a:ext cx="9144000" cy="3419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6" descr=""/>
          <p:cNvPicPr/>
          <p:nvPr/>
        </p:nvPicPr>
        <p:blipFill>
          <a:blip r:embed="rId2"/>
          <a:srcRect l="13286" t="18896" r="14762" b="25037"/>
          <a:stretch/>
        </p:blipFill>
        <p:spPr>
          <a:xfrm>
            <a:off x="0" y="3284640"/>
            <a:ext cx="9156600" cy="3573360"/>
          </a:xfrm>
          <a:prstGeom prst="rect">
            <a:avLst/>
          </a:prstGeom>
          <a:ln w="0">
            <a:noFill/>
          </a:ln>
        </p:spPr>
      </p:pic>
      <p:sp>
        <p:nvSpPr>
          <p:cNvPr id="265" name="Oval 7"/>
          <p:cNvSpPr/>
          <p:nvPr/>
        </p:nvSpPr>
        <p:spPr>
          <a:xfrm>
            <a:off x="324000" y="2205000"/>
            <a:ext cx="511164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>
            <a:off x="8172360" y="3284640"/>
            <a:ext cx="792360" cy="43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in coming mon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643040"/>
            <a:ext cx="80726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OSA Newsletter No. 22 - Special issue on Asia :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nd issues, regional food security seminar and key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+ 4 newsle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July and November 2010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LRR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launch of an informal discussion group and identification of lessons learned and best pract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the work on nutrition and 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Food facil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information sha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Image 7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How to contribu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999800"/>
            <a:ext cx="8104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Shar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documentary ressour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Announc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ws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 (events, documents,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Presenting and discussing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your views and experience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with other members (informal forum discuss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identify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best practices and lessons learned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LRRD intervention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Contributing to </a:t>
            </a:r>
            <a:r>
              <a:rPr b="1" lang="fr-FR" sz="3000" spc="-1" strike="noStrike">
                <a:solidFill>
                  <a:srgbClr val="5cabd0"/>
                </a:solidFill>
                <a:latin typeface="Arial"/>
              </a:rPr>
              <a:t>network publications </a:t>
            </a:r>
            <a:r>
              <a:rPr b="0" lang="fr-FR" sz="3000" spc="-1" strike="noStrike">
                <a:solidFill>
                  <a:srgbClr val="000000"/>
                </a:solidFill>
                <a:latin typeface="Arial"/>
              </a:rPr>
              <a:t>(new topics, writing articles, feedbac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39640" y="2714760"/>
            <a:ext cx="810432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5cabd0"/>
                </a:solidFill>
                <a:latin typeface="Arial"/>
              </a:rPr>
              <a:t>Your contribution is important so it can become a shared place for information and ex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5cab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Image 6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ROSA in bri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71680" y="2071440"/>
            <a:ext cx="8286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ROSA is and why it has been set up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at the network could do to support your work on food securit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OSA in coming mont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spcBef>
                <a:spcPts val="85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ow you could contribute to the networ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38c03"/>
                </a:solidFill>
                <a:latin typeface="Arial"/>
              </a:rPr>
              <a:t>What is ROS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9280" y="1785960"/>
            <a:ext cx="831852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Networking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is not new in the food security sector (RESAL - European Food Security Networ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ersistent request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  <a:ea typeface="Arial"/>
              </a:rPr>
              <a:t>for a new network focused on food security (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Regional seminars from 2002 to 2007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Launch of a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pilot phase in 2007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provide a “virtual” space of exchange and deb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Improving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coordination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providing </a:t>
            </a:r>
            <a:r>
              <a:rPr b="1" lang="en-GB" sz="3000" spc="-1" strike="noStrike">
                <a:solidFill>
                  <a:srgbClr val="5cabd0"/>
                </a:solidFill>
                <a:latin typeface="Arial"/>
              </a:rPr>
              <a:t>support</a:t>
            </a:r>
            <a:r>
              <a:rPr b="0" lang="en-GB" sz="3000" spc="-1" strike="noStrike">
                <a:solidFill>
                  <a:srgbClr val="404040"/>
                </a:solidFill>
                <a:latin typeface="Arial"/>
              </a:rPr>
              <a:t> to the EC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8964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A working tool for the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120" y="1714320"/>
            <a:ext cx="84614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Regular newsletter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hat provide an overall overview of the situation, challenges and debates on food security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 online library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with useful documentary resources (nutrition, social transfers, LRR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 space dedicated to the </a:t>
            </a: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dissemination of good practice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and lessons lear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5cab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cabd0"/>
                </a:solidFill>
                <a:latin typeface="Arial"/>
              </a:rPr>
              <a:t>Interactive tools </a:t>
            </a:r>
            <a:r>
              <a:rPr b="0" lang="en-US" sz="3000" spc="-1" strike="noStrike">
                <a:solidFill>
                  <a:srgbClr val="404040"/>
                </a:solidFill>
                <a:latin typeface="Arial"/>
              </a:rPr>
              <a:t>to share ideas and questions (discussion forums) and work together to produce documents (wik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 5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250920" y="1628640"/>
            <a:ext cx="367344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mat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8"/>
          <p:cNvSpPr/>
          <p:nvPr/>
        </p:nvSpPr>
        <p:spPr>
          <a:xfrm>
            <a:off x="4716360" y="1628640"/>
            <a:ext cx="35290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OSA Wat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levan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8" descr=""/>
          <p:cNvPicPr/>
          <p:nvPr/>
        </p:nvPicPr>
        <p:blipFill>
          <a:blip r:embed="rId1"/>
          <a:srcRect l="0" t="6173" r="0" b="0"/>
          <a:stretch/>
        </p:blipFill>
        <p:spPr>
          <a:xfrm>
            <a:off x="324000" y="2637000"/>
            <a:ext cx="266832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26244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4" name="Picture 21" descr=""/>
          <p:cNvPicPr/>
          <p:nvPr/>
        </p:nvPicPr>
        <p:blipFill>
          <a:blip r:embed="rId3"/>
          <a:stretch/>
        </p:blipFill>
        <p:spPr>
          <a:xfrm>
            <a:off x="1476360" y="2637000"/>
            <a:ext cx="238428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5" name="Picture 23" descr=""/>
          <p:cNvPicPr/>
          <p:nvPr/>
        </p:nvPicPr>
        <p:blipFill>
          <a:blip r:embed="rId4"/>
          <a:stretch/>
        </p:blipFill>
        <p:spPr>
          <a:xfrm>
            <a:off x="4500720" y="2637000"/>
            <a:ext cx="254160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6" name="Picture 24" descr=""/>
          <p:cNvPicPr/>
          <p:nvPr/>
        </p:nvPicPr>
        <p:blipFill>
          <a:blip r:embed="rId5"/>
          <a:stretch/>
        </p:blipFill>
        <p:spPr>
          <a:xfrm>
            <a:off x="5292720" y="2637000"/>
            <a:ext cx="247824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25" descr=""/>
          <p:cNvPicPr/>
          <p:nvPr/>
        </p:nvPicPr>
        <p:blipFill>
          <a:blip r:embed="rId6"/>
          <a:stretch/>
        </p:blipFill>
        <p:spPr>
          <a:xfrm>
            <a:off x="6372360" y="2637000"/>
            <a:ext cx="2106360" cy="352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Image 13" descr="http://www.reseau-rosa.eu/squelettes/images/bandeau_newsletter.jpg"/>
          <p:cNvPicPr/>
          <p:nvPr/>
        </p:nvPicPr>
        <p:blipFill>
          <a:blip r:embed="rId7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332000" y="1773360"/>
            <a:ext cx="287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3643560" cy="467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1571760" y="1285920"/>
            <a:ext cx="362880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4" name="Picture 5" descr=""/>
          <p:cNvPicPr/>
          <p:nvPr/>
        </p:nvPicPr>
        <p:blipFill>
          <a:blip r:embed="rId4"/>
          <a:stretch/>
        </p:blipFill>
        <p:spPr>
          <a:xfrm>
            <a:off x="3214800" y="1285920"/>
            <a:ext cx="3479760" cy="47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5" name="Picture 7" descr=""/>
          <p:cNvPicPr/>
          <p:nvPr/>
        </p:nvPicPr>
        <p:blipFill>
          <a:blip r:embed="rId5"/>
          <a:stretch/>
        </p:blipFill>
        <p:spPr>
          <a:xfrm>
            <a:off x="5286240" y="1285920"/>
            <a:ext cx="3571920" cy="470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252720" y="907920"/>
            <a:ext cx="9396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38c03"/>
                </a:solidFill>
                <a:latin typeface="Arial"/>
              </a:rPr>
              <a:t>ROSA News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3"/>
          <p:cNvSpPr/>
          <p:nvPr/>
        </p:nvSpPr>
        <p:spPr>
          <a:xfrm>
            <a:off x="285840" y="1714680"/>
            <a:ext cx="8501040" cy="50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and volatile food prices: implications in terms of 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ild undernutrition: causes, intervention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s with social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cial transfers: concepts, impacts,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R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imate change : links with food security and international negoti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ght to food : key concepts and implementation at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ess to agricultural inputs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ness of these interventions, their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ivate risk management mechanisms: key concepts, advantages and lim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rther topics for coming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Image 13" descr="http://www.reseau-rosa.eu/squelettes/images/bandeau_newsle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6920" y="3068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reseau-rosa.eu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Image 4" descr="http://www.reseau-rosa.eu/squelettes/images/bandeau_newslett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928800"/>
          </a:xfrm>
          <a:prstGeom prst="rect">
            <a:avLst/>
          </a:prstGeom>
          <a:ln w="0">
            <a:noFill/>
          </a:ln>
        </p:spPr>
      </p:pic>
      <p:sp>
        <p:nvSpPr>
          <p:cNvPr id="252" name="Espace réservé du pied de page 5"/>
          <p:cNvSpPr/>
          <p:nvPr/>
        </p:nvSpPr>
        <p:spPr>
          <a:xfrm>
            <a:off x="1000080" y="6381720"/>
            <a:ext cx="728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f7f7f"/>
                </a:solidFill>
                <a:latin typeface="Arial"/>
              </a:rPr>
              <a:t>EC Food Security Seminar –  Jun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C Food Security Seminar – April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0" y="75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1"/>
          <a:srcRect l="0" t="0" r="29524" b="1889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Oval 11"/>
          <p:cNvSpPr/>
          <p:nvPr/>
        </p:nvSpPr>
        <p:spPr>
          <a:xfrm>
            <a:off x="1979640" y="4653000"/>
            <a:ext cx="2448000" cy="936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1692360" y="6308640"/>
            <a:ext cx="576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04:36Z</dcterms:created>
  <dc:creator>Bénédicte HERMELIN</dc:creator>
  <dc:description/>
  <dc:language>en-US</dc:language>
  <cp:lastModifiedBy>albyflores_v</cp:lastModifiedBy>
  <dcterms:modified xsi:type="dcterms:W3CDTF">2010-07-18T21:54:07Z</dcterms:modified>
  <cp:revision>448</cp:revision>
  <dc:subject/>
  <dc:title>Impact of export support measures on food aid and food security</dc:title>
</cp:coreProperties>
</file>