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664325" cy="9907588"/>
  <p:custShowLst>
    <p:custShow name="Diaporama personnalisé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85356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3"/>
          </p:nvPr>
        </p:nvSpPr>
        <p:spPr>
          <a:xfrm>
            <a:off x="-3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4"/>
          </p:nvPr>
        </p:nvSpPr>
        <p:spPr>
          <a:xfrm>
            <a:off x="377460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A8A9F9-2211-4808-872F-E168970328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68431D-22F4-447A-87DF-3AB085DBEF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636745-78C9-4F40-A39A-A7A8CCC920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73E8D2-AABA-4EC2-AE39-55D31BEBC6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8A474E-CF1D-463B-A817-E065F97C9D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D26097-005B-47A3-8D9C-DDC008E5F9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00EBBF-F3DC-40C1-BA02-06BAF16E6A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931C29-2958-40DE-829E-9661BE521C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6EF919-462B-4796-B632-F209A9DA32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18164A-4C1E-4C72-815E-0E898BD731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EE00C9-E910-4659-98B0-324529FD74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65BAA7-E2C9-47F7-8DE5-025673ACE7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741CFC-623A-4594-A83D-F7A82B3E7E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541CFA-2795-4B73-9452-641ACB1B89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C3B2E8-D93A-407E-8384-9B8EDDEEE0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29D9-67DF-47DE-BE80-F35C1B4FF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547B-F6BA-41BB-8102-D63991409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DE5D-25FD-47F3-9786-951D45FAC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6C12-F795-4285-BFE4-72C01B71A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B6B56-E12F-4E8B-B877-7A7987B1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AE8EE-381E-467D-90B0-B078AB56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07BD4-AE56-488D-9F12-7D316119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EA2A1-38C3-42A5-B643-243C0863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6E6F1-096B-47F4-AE2E-5CD3A5FC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DF215-40A9-419D-A002-589226D0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5C418-B67B-4A84-B078-B9180EFB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6F55-78DE-418A-A6F1-A608ECF49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54CC8-14C7-4EE1-9F74-DC53AC9A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09BDA-7921-4C4F-A08F-2A6D4E37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AFD26-1B37-4A64-8C0E-2968D0A6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AA32B-8028-4265-B4D3-BCBAE5BE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E7611-B09F-4E69-AE91-10BA6564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5AFC-CE43-4913-BFAD-5C924EDE77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D7E7-B827-406E-A415-EDDF9CB6D4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F5BF-A213-4CD3-82AA-842C34716C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C189-5955-42FA-824D-FE8A2FE1F7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B2F8-58FE-43E2-8163-A41F12E68B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5AEB-E66E-463D-BDAF-0D78CF8440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330E-A02D-44E9-84DA-4EF61D68BB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E412-01F7-407B-9DA2-B47C853469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D1D2-67AC-46BE-B03D-115D69FCFE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6546-36D2-45FD-B852-0B17C4E020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E303-F7FC-420F-9811-95065531DE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63D3-AF31-429F-BCFB-40BF1EC8EF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921B-4DC0-44BA-B64E-560356BB4A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F028B-EFD2-44F0-BAD0-6CBC18B347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327F2-BD9C-4A16-9BD0-70D4EE73B0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02FEA-4FEC-4F38-823D-6B7479F2A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561C-5AAB-472A-BDEB-D5086D0204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B48A8-FE33-4343-A532-2B9B60681E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14B4B-7CCA-4DCE-B72C-DE99BC75CA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E1233-DCCF-4A29-9D32-DDD851CEEF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D9D5A-657E-4AE1-9B0F-76B4A1E0F3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968A8-7F81-47AD-B88B-C489146CF7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3DA33-B3D4-4BBD-9E05-141051882A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CFBA2-A729-4023-80AB-65DC1F9C72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AFCFA-A5D1-42E3-91DB-1AF5B82EC7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A9E6B-02F7-4529-BD85-694237537FB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6BF7F5-720B-4036-9D0F-A110F5324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97D8-F899-4D97-9A2D-FD81E5DF0B7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09D56-509B-40E9-A771-9C77195C938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BABD4-F46B-460F-9F69-BFEFE182E2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09E30-F7AC-4235-A4F3-7A11EA084A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17E1F-9A7E-41CF-8152-563802093B2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E7422-7EF0-4CBF-9FF8-4D0077C92D4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14E0C-E32D-40E7-8890-1E41B3C4DBF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8C8BD2-CCF0-4510-B1C0-4172475614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1AA92F-A8A9-4722-831F-FDC6A7D4D8A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3AF63-E12B-4A0E-93A9-13CEA6D5E8E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2AD2B-DC6A-4D43-9A0B-0593611F4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883E-CA73-400C-9999-872CD4CD264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4D1EC-3001-40B6-893B-C3CB9E9E8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2765-9FE1-47E4-83B5-388962E32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260F-2638-4E4E-A36D-E00BD521B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6A8C-95A2-4927-B2D2-1CF3F48AD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6948360" y="6237360"/>
            <a:ext cx="129564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éunion RPCA, Paris avril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BEA9-4A68-4714-A771-E10CF3FF4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6948360" y="6237360"/>
            <a:ext cx="129564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948360" y="6237360"/>
            <a:ext cx="122400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2411280" y="6308640"/>
            <a:ext cx="4176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8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0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eseau-rosa.e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300" spc="-1" strike="noStrike">
                <a:solidFill>
                  <a:srgbClr val="99bf14"/>
                </a:solidFill>
                <a:latin typeface="Arial"/>
              </a:rPr>
              <a:t>Food Security Network - ROS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71680" y="3789000"/>
            <a:ext cx="792936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abd0"/>
                </a:solidFill>
                <a:latin typeface="Arial"/>
              </a:rPr>
              <a:t>A place for information and ex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www.reseau-rosa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rcRect l="5905" t="0" r="8857" b="23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Espace réservé du pied de pag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rcRect l="8857" t="18896" r="8857" b="28343"/>
          <a:stretch/>
        </p:blipFill>
        <p:spPr>
          <a:xfrm>
            <a:off x="0" y="0"/>
            <a:ext cx="9144000" cy="3419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rcRect l="13286" t="18896" r="14762" b="25037"/>
          <a:stretch/>
        </p:blipFill>
        <p:spPr>
          <a:xfrm>
            <a:off x="0" y="3284640"/>
            <a:ext cx="9156600" cy="3573360"/>
          </a:xfrm>
          <a:prstGeom prst="rect">
            <a:avLst/>
          </a:prstGeom>
          <a:ln w="0">
            <a:noFill/>
          </a:ln>
        </p:spPr>
      </p:pic>
      <p:sp>
        <p:nvSpPr>
          <p:cNvPr id="265" name="Oval 7"/>
          <p:cNvSpPr/>
          <p:nvPr/>
        </p:nvSpPr>
        <p:spPr>
          <a:xfrm>
            <a:off x="324000" y="2205000"/>
            <a:ext cx="511164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8172360" y="3284640"/>
            <a:ext cx="79236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ROSA in coming 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643040"/>
            <a:ext cx="807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ROSA Newsletter No. 22 - Special issue on Asia 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 issues, regional food security seminar and key doc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+ 4 newsle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July and November 201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the work on LRR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launch of an informal discussion group and identification of lessons learned and best pract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the work on nutrition and 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Food facilit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information sha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Image 7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How to contrib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999800"/>
            <a:ext cx="810432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haring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documentary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nnouncing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new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(events, documents,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esenting and discussing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your views and experiences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with other members (informal forum discuss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tributing to identify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best practices and lessons learned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(LRRD interv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tributing to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network publications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(new topics, writing articles, feedbac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pied de pag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Image 6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39640" y="2714760"/>
            <a:ext cx="81043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5cabd0"/>
                </a:solidFill>
                <a:latin typeface="Arial"/>
              </a:rPr>
              <a:t>Your contribution is important so it can become a shared place for information and ex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5cab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pied de pag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Image 6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38c03"/>
                </a:solidFill>
                <a:latin typeface="Arial"/>
              </a:rPr>
              <a:t>ROSA in br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71680" y="2071440"/>
            <a:ext cx="828648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ROSA is and why it has been set up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the network could do to support your work on food securit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OSA in coming mont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you could contribute to the net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38c03"/>
                </a:solidFill>
                <a:latin typeface="Arial"/>
              </a:rPr>
              <a:t>What is RO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9280" y="1785960"/>
            <a:ext cx="831852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Networking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 is not new in the food security sector (RESAL - European Food Security Networ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A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persistent request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for a new network focused on food security (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Regional seminars from 2002 to 20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Launch of a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pilot phase in 2007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o provide a “virtual” space of exchange and deb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Improving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coordination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404040"/>
                </a:solidFill>
                <a:latin typeface="Arial"/>
              </a:rPr>
              <a:t>providing </a:t>
            </a:r>
            <a:r>
              <a:rPr b="1" lang="en-GB" sz="3000" spc="-1" strike="noStrike">
                <a:solidFill>
                  <a:srgbClr val="5cabd0"/>
                </a:solidFill>
                <a:latin typeface="Arial"/>
              </a:rPr>
              <a:t>support</a:t>
            </a:r>
            <a:r>
              <a:rPr b="0" lang="en-GB" sz="3000" spc="-1" strike="noStrike">
                <a:solidFill>
                  <a:srgbClr val="404040"/>
                </a:solidFill>
                <a:latin typeface="Arial"/>
              </a:rPr>
              <a:t> to the EC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A working tool for the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120" y="1714320"/>
            <a:ext cx="84614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Regular newsletters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hat provide an overall overview of the situation, challenges and debates on food security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An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 online library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with useful documentary resources (nutrition, social transfers, LRR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A space dedicated to the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dissemination of good practices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and lessons lear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Interactive tools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o share ideas and questions (discussion forums) and work together to produce documents (wik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ROSA News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332000" y="17733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250920" y="1628640"/>
            <a:ext cx="367344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SA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at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716360" y="1628640"/>
            <a:ext cx="35290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SA Wat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leva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8" descr=""/>
          <p:cNvPicPr/>
          <p:nvPr/>
        </p:nvPicPr>
        <p:blipFill>
          <a:blip r:embed="rId1"/>
          <a:srcRect l="0" t="6173" r="0" b="0"/>
          <a:stretch/>
        </p:blipFill>
        <p:spPr>
          <a:xfrm>
            <a:off x="324000" y="2637000"/>
            <a:ext cx="266832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20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262440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21" descr=""/>
          <p:cNvPicPr/>
          <p:nvPr/>
        </p:nvPicPr>
        <p:blipFill>
          <a:blip r:embed="rId3"/>
          <a:stretch/>
        </p:blipFill>
        <p:spPr>
          <a:xfrm>
            <a:off x="1476360" y="2637000"/>
            <a:ext cx="238428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5" name="Picture 23" descr=""/>
          <p:cNvPicPr/>
          <p:nvPr/>
        </p:nvPicPr>
        <p:blipFill>
          <a:blip r:embed="rId4"/>
          <a:stretch/>
        </p:blipFill>
        <p:spPr>
          <a:xfrm>
            <a:off x="4500720" y="2637000"/>
            <a:ext cx="254160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6" name="Picture 24" descr=""/>
          <p:cNvPicPr/>
          <p:nvPr/>
        </p:nvPicPr>
        <p:blipFill>
          <a:blip r:embed="rId5"/>
          <a:stretch/>
        </p:blipFill>
        <p:spPr>
          <a:xfrm>
            <a:off x="5292720" y="2637000"/>
            <a:ext cx="247824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7" name="Picture 25" descr=""/>
          <p:cNvPicPr/>
          <p:nvPr/>
        </p:nvPicPr>
        <p:blipFill>
          <a:blip r:embed="rId6"/>
          <a:stretch/>
        </p:blipFill>
        <p:spPr>
          <a:xfrm>
            <a:off x="6372360" y="2637000"/>
            <a:ext cx="210636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Image 13" descr="http://www.reseau-rosa.eu/squelettes/images/bandeau_newsletter.jpg"/>
          <p:cNvPicPr/>
          <p:nvPr/>
        </p:nvPicPr>
        <p:blipFill>
          <a:blip r:embed="rId7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332000" y="17733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Image 13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3643560" cy="46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1571760" y="1285920"/>
            <a:ext cx="3628800" cy="47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Picture 5" descr=""/>
          <p:cNvPicPr/>
          <p:nvPr/>
        </p:nvPicPr>
        <p:blipFill>
          <a:blip r:embed="rId4"/>
          <a:stretch/>
        </p:blipFill>
        <p:spPr>
          <a:xfrm>
            <a:off x="3214800" y="1285920"/>
            <a:ext cx="3479760" cy="47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5" name="Picture 7" descr=""/>
          <p:cNvPicPr/>
          <p:nvPr/>
        </p:nvPicPr>
        <p:blipFill>
          <a:blip r:embed="rId5"/>
          <a:stretch/>
        </p:blipFill>
        <p:spPr>
          <a:xfrm>
            <a:off x="5286240" y="1285920"/>
            <a:ext cx="3571920" cy="47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252720" y="907920"/>
            <a:ext cx="9396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ROSA News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3"/>
          <p:cNvSpPr/>
          <p:nvPr/>
        </p:nvSpPr>
        <p:spPr>
          <a:xfrm>
            <a:off x="285840" y="1714680"/>
            <a:ext cx="8501040" cy="50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gh and volatile food prices: implications in terms of 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ild undernutrition: causes, intervention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s with social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cial transfers: concepts, impacts,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imate change : links with food security and international negot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ght to food : key concepts and implementation at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ess to agricultural inputs 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ness of these interventions, their advantages and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e risk management mechanisms: key concepts, advantages and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topics for coming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Image 13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6920" y="3068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reseau-rosa.eu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Image 4" descr="http://www.reseau-rosa.eu/squelettes/images/bandeau_newslet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52" name="Espace réservé du pied de pag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rcRect l="0" t="0" r="29524" b="188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Oval 11"/>
          <p:cNvSpPr/>
          <p:nvPr/>
        </p:nvSpPr>
        <p:spPr>
          <a:xfrm>
            <a:off x="1979640" y="4653000"/>
            <a:ext cx="244800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692360" y="630864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8:04:36Z</dcterms:created>
  <dc:creator>Bénédicte HERMELIN</dc:creator>
  <dc:description/>
  <dc:language>en-US</dc:language>
  <cp:lastModifiedBy>albyflores_v</cp:lastModifiedBy>
  <dcterms:modified xsi:type="dcterms:W3CDTF">2010-07-18T21:54:07Z</dcterms:modified>
  <cp:revision>448</cp:revision>
  <dc:subject/>
  <dc:title>Impact of export support measures on food aid and food security</dc:title>
</cp:coreProperties>
</file>