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ED12-7F99-40A0-8D30-749747E6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5191-D471-434E-B09F-067F85DB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BEC47-5F01-47CE-9F84-F1F5559D5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1D4E-EEDF-4915-BAE7-AA68CB7ED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22E8B-65CE-4712-AE04-D5213A893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48264-2987-495F-98B5-C766AB616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33EE7-490D-48A2-B29C-501E2058D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8C2D1-FA3E-4BD7-A135-5E8DBC423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BD523-44F6-4E47-8356-586CB42CC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5AFA-AB57-4BB2-96FA-BB1B0964F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4D418-0165-4589-91EB-123440D8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FDAC-3163-42ED-8CF2-C85E46215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07B95-A3F3-4849-9C72-D62BD3E3B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8B172-81EF-4819-B099-C09431E0B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93CB0-4D88-418E-8B0D-1404FD723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7716D-A9D6-430F-9602-1BDAD1274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A4E78-4468-42DE-A0EA-7554F5B1D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D4A2E3-F7D3-464B-BF31-C03E505D3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7881F-80EB-4E5B-A768-2CE44C0E2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8372C-1773-4C87-8976-7DB93349E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4EFEC-2B6E-49CA-A534-D3ADA27DA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C3442E-152D-4D2D-A23E-56D7FB66B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5D8D5-0AF2-48FC-8774-8AAACDF89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E32AA-A38C-4F57-906C-96F294A1A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D6DBA-29F1-44AE-8DD6-961F32421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AE1E3-F1A5-45E4-AB98-94B046F56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E6619-D83E-492B-A4E9-AD73A8C84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8C7E6-3564-4A31-BD0A-1511EBAB8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FDD8B-7725-4F0D-8426-058EE58A4D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F7BA44-89A0-4AA4-9CAF-725E01019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41068-43E5-46A7-AC03-5735FC5A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B27A5-3873-4574-B878-3F202006D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09C5C-5879-4BF2-A2E8-301E50139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BAFEF-2986-4176-B169-472A504EA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7D8C-1FA3-44B2-B004-07CB7097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E03A-4C14-4C79-9F26-C3839D860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1146-96BF-41E2-B56F-3ADAD7441210}"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F507-F3E5-4202-8608-71F415743A3D}"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E993-6BEE-499B-B8BF-96DBE25F53F7}"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CD2D-C375-45AC-A9F2-E366D39C174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CDC6-777B-493B-99A6-102ACB918E4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6391-A26F-4454-B108-BC75C6F26FE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984C-B437-4FD2-A5D4-3CEC79D1D78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2966-6920-40D1-A5BE-50FD63E91F1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B22E-2516-4E43-B578-C1E84C5DAA6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9025-72FE-4C6A-8D71-B333FE0CC94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8877-1BAF-45CA-9D7D-E28DAB4C7CD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964B-EEF5-4C9F-83BA-56245748EF51}"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E73D-D100-4487-ACFC-E987E9D2AD7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77F1-4384-478D-9A94-0BDB907304A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2105-3324-4913-8A88-38E036DA0B1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B193-E6E5-4E43-9411-91F42B06141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3B3D-F8EC-41A0-90E2-626839DD6B3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730A-019A-4089-B766-894A448F132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4416-918B-4F72-9C69-2AE6499C266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3CF3-ECBF-41A7-822F-A4C7D4478EB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Nicholas Freeland</cp:lastModifiedBy>
  <cp:lastPrinted>2003-11-06T16:40:02Z</cp:lastPrinted>
  <dcterms:modified xsi:type="dcterms:W3CDTF">2010-06-24T08:56:40Z</dcterms:modified>
  <cp:revision>855</cp:revision>
  <dc:subject/>
  <dc:title>No Slide Title</dc:title>
</cp:coreProperties>
</file>