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664325" cy="9907588"/>
  <p:custShowLst>
    <p:custShow name="Diaporama personnalisé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F6128F-B6BA-4777-842E-C8BFD33EFA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B31A34-6CB7-4954-9791-586923195F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EEF4C7-9999-4096-A7D6-45B17BBFE4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B8EDFC-E0F4-4EC1-9D3F-6C2162D164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FA157F-D323-4D82-A728-F30714DADA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E96DCF-A975-4C32-BAB6-CD4BFF9A76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368A1F-C5FD-45D2-93EF-9B6E0FE845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07A347-C884-41EF-86EC-A245EC68C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9A31B4-66DC-4B01-B96F-0FBDA0C452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5385DA-D1AB-412E-BE59-7F68CC07BD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2A2E69-2806-4E7A-ABD9-C19B3E9F67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206E94-AABE-463C-9853-F5681FE3E1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688D2D-4B58-4064-B650-4191BDF7D5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58E6D9-D923-484C-B8E7-341947053F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518F6F-58DD-46C7-BDD7-6415778945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2FEB-3F04-405D-99DC-942EF655F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F0CF-1EBC-4A89-A60D-A0E1EB7DE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F1DE-A5A1-47BA-9C30-61C95F58A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F18C-B8F1-4EAF-90F6-E7BA985F3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5DD1A-78B9-45D9-A8CB-06A0462B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7136-B2E7-4D40-938B-B1BAA0D6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B7AC-531A-488B-8881-EDF6B703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46F30-E943-46F7-9883-C9883D3C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E3698-9DC0-4B1D-9917-29CA2343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F5B24-22F2-4125-AF93-5334513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E4900-4441-49D0-A1CE-3A2E8BAE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36D6-FC5A-4484-959D-33CD16913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4590E-6063-4C44-B1E6-0B020F86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EA39-F493-4F99-97D0-F2E172BF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5209F-60C0-44E7-BDAC-2782F6AB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15FAD-9556-4770-A154-FF34686C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015F-4D70-4128-BB67-915D2A53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D3E6-4E61-4FF0-8ACD-24600AE169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1D2E-2C9B-4517-B19A-328F7C69E6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E88-5ED6-49C1-BD20-9E286D00EC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529E-A09F-48F7-82A0-087C97A785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0CA7-684A-4A53-B8C7-814FA4544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305C-6CC8-4BCD-9A17-57E45E6478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2E3B-2EED-4229-89E0-BEF74BDE38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2BF-DD68-40C7-84D3-77CE4F049A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AB43-D633-4B2E-A8C6-D6B34D2550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FE84-ADCD-4B2B-9C4E-928F00F571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3FE-5643-4B04-8EC7-7BC0F6CE784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7323-1B77-4CB0-965E-722DB02786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CCF6-06DF-47AA-A794-72320794B4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808C6-9722-4A5C-AD89-7988FA755A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CE064-704C-49DB-8317-99A92E871F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504C9-1A2F-4CC0-A2BB-5F8D69C1B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5B20-97A6-43BC-85A3-2374AE65B2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98257-19B8-4445-9631-0B51CAC988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74037-D7D6-4FE3-84E8-B39D626879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40747-EDC4-46F6-BDAF-5FB3BC3224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334A8B-98D3-45C3-AF2B-47B22160F2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E1FCC-40F4-428B-B7E7-4AE646F2F77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50C09-0496-4266-BF5A-718C3B98DF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5F2E1-FF0E-404A-BFCB-E35052D818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A4349-B88E-4699-ADAE-E861AF8116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37E1C-B449-4C6A-A92C-DC3CFF0CC7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8760C-04DB-4F27-8176-4EE81809BE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0EBC-E4D5-495E-B609-401014C65F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2DF716-B339-4DED-B248-4311F4D096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1A4F3-F3C7-435B-8937-F4B8D18C3A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2110C-4A1B-4B26-90E6-43E67FAAF1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1B3B2C-D910-4082-AED9-6924B1BFD35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7D6704-A1A9-491E-ACE4-B8C3A347D9A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B0283-06D9-4269-9460-1EFCDD8E8F2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623E20-23F4-489A-8790-A13E87DBA57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4EC080-40BA-4A67-8356-A48DB40EDF5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2E3863-BEE4-4062-8279-B350FF3019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09A3C2-0012-4900-AC8A-9877C1637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5F9E-6789-45BB-8AEE-50C249FC3DF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A5E956-AB37-4E3D-A78E-4D54588B76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A038-9DB7-4300-933B-921683ED8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B046-7ADB-40B3-B819-8DC34DADF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9B22-6028-4ACA-A910-493D5B930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C0E1-846F-4F20-805B-7CBA2F25E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99bf14"/>
                </a:solidFill>
                <a:latin typeface="Arial"/>
              </a:rPr>
              <a:t>Food Security Network - ROS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71680" y="3789000"/>
            <a:ext cx="79293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bd0"/>
                </a:solidFill>
                <a:latin typeface="Arial"/>
              </a:rPr>
              <a:t>A place for information an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www.reseau-ros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in coming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807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OSA Newsletter No. 22 - Special issue on Asia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issues, regional food security seminar and key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+ 4 newsle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July and November 20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LR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launch of an informal discussion group and identification of lessons learned and bes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nutrition and 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Food fac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formation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7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How to contrib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999800"/>
            <a:ext cx="8104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har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documentary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nounc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w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events, documents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esenting and discuss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your views and experience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ith other members (informal forum discuss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identify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best practices and lessons learned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RRD interv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twork publication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new topics, writing articles, feedba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640" y="2714760"/>
            <a:ext cx="81043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5cabd0"/>
                </a:solidFill>
                <a:latin typeface="Arial"/>
              </a:rPr>
              <a:t>Your contribution is important so it can become a shared place for information and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5cab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ROSA in 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2071440"/>
            <a:ext cx="8286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ROSA is and why it has been set u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the network could do to support your work on food secur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SA in coming mon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ould contribute to the net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What is RO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785960"/>
            <a:ext cx="83185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Networking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is not new in the food security sector (RESAL - European Food Security Networ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ersistent request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for a new network focused on food security (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Regional seminars from 2002 to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Launch of 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ilot phase in 2007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provide a “virtual” space of exchange and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Improv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coordination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providing </a:t>
            </a:r>
            <a:r>
              <a:rPr b="1" lang="en-GB" sz="3000" spc="-1" strike="noStrike">
                <a:solidFill>
                  <a:srgbClr val="5cabd0"/>
                </a:solidFill>
                <a:latin typeface="Arial"/>
              </a:rPr>
              <a:t>support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 to the EC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A working tool for th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120" y="1714320"/>
            <a:ext cx="8461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egular newsletter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at provide an overall overview of the situation, challenges and debates on food secur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 online library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with useful documentary resources (nutrition, social transfers, LRR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 space dedicated to the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dissemination of good practice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d lessons lea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Interactive tool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share ideas and questions (discussion forums) and work together to produce documents (wik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Image 13" descr="http://www.reseau-rosa.eu/squelettes/images/bandeau_newsletter.jpg"/>
          <p:cNvPicPr/>
          <p:nvPr/>
        </p:nvPicPr>
        <p:blipFill>
          <a:blip r:embed="rId7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364356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71760" y="1285920"/>
            <a:ext cx="36288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3214800" y="1285920"/>
            <a:ext cx="34797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357192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285840" y="1714680"/>
            <a:ext cx="850104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and volatile food prices: implications in terms of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undernutrition: causes, intervention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s with social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transfers: concepts, impacts,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mate change : links with food security and international negot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food : key concepts and implementation at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gricultural inputs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ness of these interventions, their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risk management mechanisms: key concepts,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topics for coming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 4" descr="http://www.reseau-rosa.eu/squelettes/images/bandeau_newslet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albyflores_v</cp:lastModifiedBy>
  <dcterms:modified xsi:type="dcterms:W3CDTF">2010-07-18T21:54:07Z</dcterms:modified>
  <cp:revision>448</cp:revision>
  <dc:subject/>
  <dc:title>Impact of export support measures on food aid and food security</dc:title>
</cp:coreProperties>
</file>