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18D-E3A2-4485-87D4-6200013C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8EFC-6E75-4B95-ADBA-ABDD02F6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150-6FF9-4C5A-AB77-EEA3DC8B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A4E-205D-4F25-8D83-93F06923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91BB-6DA0-44D7-B42F-17A060DE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664-E977-40CE-864B-93DCE2C8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69A-BCCB-4E51-BD70-122DAD84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97F-621B-4121-80EC-EDBAE609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616C-92D4-464C-80FE-CA4656C4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D49A-14A4-4B4D-BCC4-4FF5462E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F5EB-5B15-44A9-94A7-A2524DD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49F-0CF6-4A93-BE61-EEEEB80B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0C1B-345F-4E7E-BFAB-CFD9D92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5BCC-FB05-47E1-B739-B042277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1697-B4CD-4A7C-92C0-A7AF7346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0624-CA56-4D9F-A890-74DB0065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A329-D7AC-486C-A4E9-7AEA79D8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1662E-74EB-4ADC-B449-B1F65E85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D851-396B-470E-A965-E5CFBA20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8007A-3316-494C-ADE6-15528902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89562-F33B-451F-94CE-BA44FE89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2A219-2ECA-4441-B486-1FC226D7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486-BF94-4843-847E-28F75FF8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C7B00-5039-4B3D-827C-85FB712C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08E6-3E78-4238-8F21-4BC39267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60E1-901B-4F2E-9E45-DB3F602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050D-1019-437E-B71C-6DBB6A45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7F90-3DE4-4112-BD29-9631150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B6AC1-E300-4662-B5B3-5FFFF7C8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4E6C-45DB-463E-A4F9-EE9265AF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795-2750-4B1F-8AFB-0E3D0798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9E4-E64B-4E47-9361-987A521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6F9-4E18-4C9C-840C-8A294433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A1A-E462-44D7-9804-39CC610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C56-AEF6-4F5D-A138-BE11CFD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58E-9BA9-45B7-92EC-1B50E67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D7A1-A5F5-4EDF-BB0F-0F81ADD0875B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3A4-1163-40A2-AB65-F9DA7033C9CF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9349-195D-4242-82D2-EF8DC466098B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43C-F489-49FA-A368-9EF7D4DD84A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1587600" y="2743200"/>
            <a:ext cx="46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OBJECTIVES OF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Nicholas Freel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6BDE-6F6A-4123-8E3D-929941693417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77840" y="2494080"/>
            <a:ext cx="843264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gal framework that defines and protects citizens’ righ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bour law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 standard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ti-discrimination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) Social Justi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1E6-51C8-46E4-A361-ACAF22568F7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87" name="Group 24"/>
          <p:cNvGrpSpPr/>
          <p:nvPr/>
        </p:nvGrpSpPr>
        <p:grpSpPr>
          <a:xfrm>
            <a:off x="685800" y="1460520"/>
            <a:ext cx="7620120" cy="5295600"/>
            <a:chOff x="685800" y="1460520"/>
            <a:chExt cx="7620120" cy="5295600"/>
          </a:xfrm>
        </p:grpSpPr>
        <p:sp>
          <p:nvSpPr>
            <p:cNvPr id="188" name="Slide Number Placeholder 3"/>
            <p:cNvSpPr/>
            <p:nvPr/>
          </p:nvSpPr>
          <p:spPr>
            <a:xfrm>
              <a:off x="685800" y="6422400"/>
              <a:ext cx="17496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63A805D-1CC7-40B7-B6CB-20C3331D6437}" type="slidenum">
                <a:rPr b="0" lang="en-US" sz="1000" spc="-1" strike="noStrike">
                  <a:solidFill>
                    <a:srgbClr val="00a6c8"/>
                  </a:solidFill>
                  <a:latin typeface="Verdana"/>
                  <a:ea typeface="宋体"/>
                </a:rPr>
                <a:t>&lt;number&gt;</a:t>
              </a:fld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9" name="Text Box 4"/>
            <p:cNvSpPr/>
            <p:nvPr/>
          </p:nvSpPr>
          <p:spPr>
            <a:xfrm>
              <a:off x="2849400" y="5586840"/>
              <a:ext cx="27118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Times New Roman"/>
                </a:rPr>
                <a:t>Provis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4482720" y="3646080"/>
              <a:ext cx="2777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849400" y="3777120"/>
              <a:ext cx="271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Times New Roman"/>
                </a:rPr>
                <a:t>Preven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2977920" y="1854000"/>
              <a:ext cx="23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8000"/>
                  </a:solidFill>
                  <a:latin typeface="Times New Roman"/>
                </a:rPr>
                <a:t>Promo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5541480" y="1573920"/>
              <a:ext cx="2314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 flipV="1">
              <a:off x="4179600" y="2832480"/>
              <a:ext cx="0" cy="601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749880" y="2797200"/>
              <a:ext cx="205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cc"/>
                  </a:solidFill>
                  <a:latin typeface="Times New Roman"/>
                </a:rPr>
                <a:t>Springboard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1869840" y="1993320"/>
              <a:ext cx="0" cy="80316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1869840" y="2018880"/>
              <a:ext cx="66168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1869840" y="3259800"/>
              <a:ext cx="0" cy="66888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1869840" y="3929040"/>
              <a:ext cx="59472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959760" y="4848480"/>
              <a:ext cx="18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Times New Roman"/>
                </a:rPr>
                <a:t>Safety net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 flipV="1">
              <a:off x="1869840" y="425160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1869840" y="4212000"/>
              <a:ext cx="594720" cy="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1869840" y="531288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1869840" y="5965560"/>
              <a:ext cx="594720" cy="1440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3174840" y="15238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3174840" y="5268600"/>
              <a:ext cx="1984320" cy="1136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3199680" y="34336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4179600" y="4671720"/>
              <a:ext cx="0" cy="601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Rectangle 23"/>
            <p:cNvSpPr/>
            <p:nvPr/>
          </p:nvSpPr>
          <p:spPr>
            <a:xfrm>
              <a:off x="5379480" y="1460520"/>
              <a:ext cx="2926440" cy="48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500"/>
                </a:spcAft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08000"/>
                  </a:solidFill>
                  <a:uFillTx/>
                  <a:latin typeface="Arial"/>
                </a:rPr>
                <a:t>Livelihood promotion</a:t>
              </a:r>
              <a:br>
                <a:rPr sz="1600"/>
              </a:br>
              <a:r>
                <a:rPr b="0" lang="en-GB" sz="1600" spc="-1" strike="noStrike">
                  <a:solidFill>
                    <a:srgbClr val="008000"/>
                  </a:solidFill>
                  <a:latin typeface="Arial"/>
                </a:rPr>
                <a:t>[“Risk reduc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Micro-cred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Public works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School feeding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9900"/>
                  </a:solidFill>
                  <a:uFillTx/>
                  <a:latin typeface="Arial"/>
                </a:rPr>
                <a:t>Social insur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9900"/>
                  </a:solidFill>
                  <a:latin typeface="Arial"/>
                </a:rPr>
                <a:t>[“Risk mitiga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Unemployment benef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Weather insurance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Burial societies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Social assist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[“Risk coping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Emergency food aid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Support to PLWHA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Old age grant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6DC0-3A1B-4A88-AA86-D269C362097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917720" y="1523880"/>
            <a:ext cx="49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 princip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30120" y="2145960"/>
            <a:ext cx="8394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ecognise the importance of social protec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Support national policy prioriti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Minimise policy intrus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ationalise donor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Encompass a diversity of approach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vulnerabili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Limit pilot projec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ind new levers of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Involve participan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outcom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977760" y="6553080"/>
            <a:ext cx="75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DS/ODI/DEV/RHVP Joint Statement on “Social Protection in Africa: Where Next?”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62A-D608-478A-A2D5-EFC198ECA6F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54080" y="2828880"/>
            <a:ext cx="661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296F-59CB-4CEC-A548-925288CB033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54080" y="2828880"/>
            <a:ext cx="66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cial Protection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a response to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ULNERABILITY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3915-2267-48D0-86BB-2C5B47BA1C7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9" name="Content Placeholder 4" descr=""/>
          <p:cNvPicPr/>
          <p:nvPr/>
        </p:nvPicPr>
        <p:blipFill>
          <a:blip r:embed="rId1"/>
          <a:stretch/>
        </p:blipFill>
        <p:spPr>
          <a:xfrm>
            <a:off x="103320" y="3456000"/>
            <a:ext cx="8534160" cy="26956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977760" y="2168640"/>
            <a:ext cx="66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ULNERABILITY =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D29F-393E-48F1-9EDD-98477D428A8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2" name="Content Placeholder 6" descr=""/>
          <p:cNvPicPr/>
          <p:nvPr/>
        </p:nvPicPr>
        <p:blipFill>
          <a:blip r:embed="rId1"/>
          <a:stretch/>
        </p:blipFill>
        <p:spPr>
          <a:xfrm>
            <a:off x="60480" y="1706400"/>
            <a:ext cx="846108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9609-AF57-4A25-BFB8-4F12F9064620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4" name="Content Placeholder 6" descr=""/>
          <p:cNvPicPr/>
          <p:nvPr/>
        </p:nvPicPr>
        <p:blipFill>
          <a:blip r:embed="rId1"/>
          <a:stretch/>
        </p:blipFill>
        <p:spPr>
          <a:xfrm>
            <a:off x="60480" y="171936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02B8-BFDE-4076-8D76-8A7E5E6FA62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6" name="Content Placeholder 6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9220-3A1F-4EAD-B9E5-2B96A52DD66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7840" y="2494080"/>
            <a:ext cx="84326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contributory social transfer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pens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 benefi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ability allow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hool fee/health waiver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permutation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m: cash/food/vouchers/inputs/asse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rgeting: poorest/categories/univers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ditions: conditional/public works/uncondition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) Social Assist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9FB-4C77-4152-896A-F093D5C5B859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77840" y="2494080"/>
            <a:ext cx="843264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ibutory schemes, often managed by governmen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tirement pens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employment benefi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tional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ten only formal secto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) Social Insur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Nicholas Freeland</cp:lastModifiedBy>
  <cp:lastPrinted>2003-11-06T16:40:02Z</cp:lastPrinted>
  <dcterms:modified xsi:type="dcterms:W3CDTF">2010-06-24T08:56:30Z</dcterms:modified>
  <cp:revision>855</cp:revision>
  <dc:subject/>
  <dc:title>No Slide Title</dc:title>
</cp:coreProperties>
</file>