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664325" cy="9907588"/>
  <p:custShowLst>
    <p:custShow name="Diaporama personnalisé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85356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3"/>
          </p:nvPr>
        </p:nvSpPr>
        <p:spPr>
          <a:xfrm>
            <a:off x="-3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4"/>
          </p:nvPr>
        </p:nvSpPr>
        <p:spPr>
          <a:xfrm>
            <a:off x="377460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1A8E71-E643-4633-8D5A-0DC6D6A0AB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A83C20-6627-4ECA-8A81-E735F56F5C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027D2E-8DA8-47D2-AF94-403EEB8737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F8E400-94C5-4250-90C1-0342E26367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542D21-A878-4F7E-B6D5-A07823DA5D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791890-97AD-4EC3-82A0-5CBCFCA3A4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A59B98-BE8F-4054-A639-A0DB142256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BA6803-031C-4E40-9CC7-59100F6A9D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0F7AF0-8A57-497D-97AB-C6B2DB3622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0D516C-C268-4A62-8FB5-A504098C57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A322DE-B453-445B-B258-40DC69DE27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FDCB8E-B7D0-4906-9FD9-F60039968A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5ADFF7-2802-4B9C-80FB-DFCB487BBD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DC59CE-17B9-4473-924A-4E9F33B7F0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52943F-793C-48DA-A63D-B24B9CB1DE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5C79-B1ED-422D-BFBE-AB7A817B2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4188-237D-4AC8-884B-AEC0D3941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0B98-883B-41E8-AF00-F7724AA72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104C-CC3E-42CB-9696-687D610F1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2CC35-3E40-4C3E-93F8-044454F7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2E2D1-3423-4EB8-826F-C7670C52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63265-53E7-4A25-AED8-C9DE0F28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1AA3A-4F95-4094-84C1-A1C21C87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ACF92-D58E-43AB-B611-89F06E64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56058-EDEE-40A1-8151-FF1B983D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8E263-D0D2-4F00-990C-E43AC45F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8D4D-5CED-485E-B585-9BD2BBEA88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912E8-5BDA-4B56-A222-8E2134D6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7CE49-265C-4A49-8121-DC6CFBA0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75788-E7C2-4ACA-8939-4D7DB7A5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35D35-096E-4D6A-998F-E4C872CA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78B3A-EBA0-4BEF-B0C1-499A42E3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91C6-1F54-4E41-A809-C53595D112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2014-22C3-4AF8-B3BD-F0DED4DB2A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16ED-9685-4F3E-A6F1-BEB256975C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432C-D59B-4B92-9152-28CAA089FE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2178-D4A5-4CA2-A373-900D8E3C3E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E3769-7805-40C8-929F-7910E92260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652D-DA70-4355-B605-BE3CE8ECE8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4DEC-CB24-40AB-B18E-C2AABE0111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CD2A-C01E-4A7E-8894-1E600A425A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B6E0-B2F2-4258-98F2-3BBA9D0516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B436-28D4-41BE-9D9B-7455F2A55B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4926-8171-418E-B458-6FA02E30D0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2DCF-5DBC-4AF9-A6B6-690321BA95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8B4DB-6757-4D2C-9D2F-FE9BFA77E5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164E5-DA89-45DC-BF03-66C133D389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404A0-0AF3-4B9F-BD79-55D062674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10D1-9A96-49EB-8970-C486558FD4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529FF-D63A-454C-8F4C-0923054714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04794-E0E3-4B83-9AD0-613498364D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67E02-14E4-4E17-A78C-50AB184F9F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C30E3-595A-4F6F-B47D-CE9A51EE2C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BB744-1131-4FB1-B5CC-5766579BAD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1F348-60B5-40B0-A4C5-58B1700A46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C6685-D50E-4095-AA54-D8FE2C626E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8B5B8-13D1-4383-B438-CC7BF17D07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DB764-CEE7-4EC1-9551-1A8FFA6CA6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07C150-FA19-470F-B7F7-6090244EE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2B92-F51A-473E-B029-A95DF8EF890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FC17F-431A-4ACC-AB99-8709249F80F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4F55E-E035-4D1F-A632-E889D424385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3EAC7-C278-4CFA-8DF8-5172A3A97F3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40ACC-B0FA-4019-900F-40808844E5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879C2-317E-40EA-BB9E-29F5EF9F28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0C46E-BF6D-402D-985A-B5AD116D847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817B2-768E-4FD4-B1F3-1EBBC2733E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B78DBF-87F6-42A2-BAEC-BACEF846550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8AF34-EDC6-46B5-B5B9-DE093DD3248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0F5EC0-3061-4F9A-9EC8-2172D52EF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A944-886F-4EE8-914A-736F7C707E2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784E98-9DB9-457E-A32F-2822D5492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3C02-CF39-4A39-B97B-BB6B5B684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8827-FE55-4C08-AF37-CEADF4A38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CD02-361B-4E81-8DC4-66A9EC2DB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éunion RPCA, Paris av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3C15-0CC2-4687-9BF7-039488562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948360" y="6237360"/>
            <a:ext cx="122400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2411280" y="6308640"/>
            <a:ext cx="4176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8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0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eseau-rosa.e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300" spc="-1" strike="noStrike">
                <a:solidFill>
                  <a:srgbClr val="99bf14"/>
                </a:solidFill>
                <a:latin typeface="Arial"/>
              </a:rPr>
              <a:t>Food Security Network - ROS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71680" y="3789000"/>
            <a:ext cx="792936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abd0"/>
                </a:solidFill>
                <a:latin typeface="Arial"/>
              </a:rPr>
              <a:t>A place for information and ex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www.reseau-rosa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rcRect l="5905" t="0" r="8857" b="23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rcRect l="8857" t="18896" r="8857" b="28343"/>
          <a:stretch/>
        </p:blipFill>
        <p:spPr>
          <a:xfrm>
            <a:off x="0" y="0"/>
            <a:ext cx="9144000" cy="3419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rcRect l="13286" t="18896" r="14762" b="25037"/>
          <a:stretch/>
        </p:blipFill>
        <p:spPr>
          <a:xfrm>
            <a:off x="0" y="3284640"/>
            <a:ext cx="9156600" cy="3573360"/>
          </a:xfrm>
          <a:prstGeom prst="rect">
            <a:avLst/>
          </a:prstGeom>
          <a:ln w="0">
            <a:noFill/>
          </a:ln>
        </p:spPr>
      </p:pic>
      <p:sp>
        <p:nvSpPr>
          <p:cNvPr id="265" name="Oval 7"/>
          <p:cNvSpPr/>
          <p:nvPr/>
        </p:nvSpPr>
        <p:spPr>
          <a:xfrm>
            <a:off x="324000" y="2205000"/>
            <a:ext cx="511164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8172360" y="3284640"/>
            <a:ext cx="79236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in coming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643040"/>
            <a:ext cx="807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ROSA Newsletter No. 22 - Special issue on Asia 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 issues, regional food security seminar and key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+ 4 newsle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July and November 201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the work on LRR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launch of an informal discussion group and identification of lessons learned and best pract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the work on nutrition and 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Food facilit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information 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Image 7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How to contrib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999800"/>
            <a:ext cx="81043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har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documentary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nnounc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new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(events, documents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esenting and discuss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your views and experiences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with other members (informal forum discuss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tributing to identify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best practices and lessons learned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(LRRD interv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tributing to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network publications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(new topics, writing articles, feedbac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Image 6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39640" y="2714760"/>
            <a:ext cx="81043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5cabd0"/>
                </a:solidFill>
                <a:latin typeface="Arial"/>
              </a:rPr>
              <a:t>Your contribution is important so it can become a shared place for information and ex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5cab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mage 6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38c03"/>
                </a:solidFill>
                <a:latin typeface="Arial"/>
              </a:rPr>
              <a:t>ROSA in br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71680" y="2071440"/>
            <a:ext cx="82864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ROSA is and why it has been set up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the network could do to support your work on food secur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OSA in coming mont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you could contribute to the net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38c03"/>
                </a:solidFill>
                <a:latin typeface="Arial"/>
              </a:rPr>
              <a:t>What is RO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9280" y="1785960"/>
            <a:ext cx="831852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Networking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 is not new in the food security sector (RESAL - European Food Security Networ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A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persistent request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for a new network focused on food security (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Regional seminars from 2002 to 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Launch of a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pilot phase in 2007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o provide a “virtual” space of exchange and deb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Improv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coordination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404040"/>
                </a:solidFill>
                <a:latin typeface="Arial"/>
              </a:rPr>
              <a:t>providing </a:t>
            </a:r>
            <a:r>
              <a:rPr b="1" lang="en-GB" sz="3000" spc="-1" strike="noStrike">
                <a:solidFill>
                  <a:srgbClr val="5cabd0"/>
                </a:solidFill>
                <a:latin typeface="Arial"/>
              </a:rPr>
              <a:t>support</a:t>
            </a:r>
            <a:r>
              <a:rPr b="0" lang="en-GB" sz="3000" spc="-1" strike="noStrike">
                <a:solidFill>
                  <a:srgbClr val="404040"/>
                </a:solidFill>
                <a:latin typeface="Arial"/>
              </a:rPr>
              <a:t> to the EC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A working tool for the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120" y="1714320"/>
            <a:ext cx="84614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Regular newsletter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hat provide an overall overview of the situation, challenges and debates on food security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n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 online library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with useful documentary resources (nutrition, social transfers, LRR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 space dedicated to the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dissemination of good practice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nd lessons lear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Interactive tool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o share ideas and questions (discussion forums) and work together to produce documents (wik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News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332000" y="1773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250920" y="1628640"/>
            <a:ext cx="367344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at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716360" y="1628640"/>
            <a:ext cx="35290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Wat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lev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"/>
          <p:cNvPicPr/>
          <p:nvPr/>
        </p:nvPicPr>
        <p:blipFill>
          <a:blip r:embed="rId1"/>
          <a:srcRect l="0" t="6173" r="0" b="0"/>
          <a:stretch/>
        </p:blipFill>
        <p:spPr>
          <a:xfrm>
            <a:off x="324000" y="2637000"/>
            <a:ext cx="266832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20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26244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21" descr=""/>
          <p:cNvPicPr/>
          <p:nvPr/>
        </p:nvPicPr>
        <p:blipFill>
          <a:blip r:embed="rId3"/>
          <a:stretch/>
        </p:blipFill>
        <p:spPr>
          <a:xfrm>
            <a:off x="1476360" y="2637000"/>
            <a:ext cx="238428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5" name="Picture 23" descr=""/>
          <p:cNvPicPr/>
          <p:nvPr/>
        </p:nvPicPr>
        <p:blipFill>
          <a:blip r:embed="rId4"/>
          <a:stretch/>
        </p:blipFill>
        <p:spPr>
          <a:xfrm>
            <a:off x="4500720" y="2637000"/>
            <a:ext cx="25416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Picture 24" descr=""/>
          <p:cNvPicPr/>
          <p:nvPr/>
        </p:nvPicPr>
        <p:blipFill>
          <a:blip r:embed="rId5"/>
          <a:stretch/>
        </p:blipFill>
        <p:spPr>
          <a:xfrm>
            <a:off x="5292720" y="2637000"/>
            <a:ext cx="247824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25" descr=""/>
          <p:cNvPicPr/>
          <p:nvPr/>
        </p:nvPicPr>
        <p:blipFill>
          <a:blip r:embed="rId6"/>
          <a:stretch/>
        </p:blipFill>
        <p:spPr>
          <a:xfrm>
            <a:off x="6372360" y="2637000"/>
            <a:ext cx="210636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Image 13" descr="http://www.reseau-rosa.eu/squelettes/images/bandeau_newsletter.jpg"/>
          <p:cNvPicPr/>
          <p:nvPr/>
        </p:nvPicPr>
        <p:blipFill>
          <a:blip r:embed="rId7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332000" y="1773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mage 13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3643560" cy="46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1571760" y="1285920"/>
            <a:ext cx="362880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Picture 5" descr=""/>
          <p:cNvPicPr/>
          <p:nvPr/>
        </p:nvPicPr>
        <p:blipFill>
          <a:blip r:embed="rId4"/>
          <a:stretch/>
        </p:blipFill>
        <p:spPr>
          <a:xfrm>
            <a:off x="3214800" y="1285920"/>
            <a:ext cx="347976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" name="Picture 7" descr=""/>
          <p:cNvPicPr/>
          <p:nvPr/>
        </p:nvPicPr>
        <p:blipFill>
          <a:blip r:embed="rId5"/>
          <a:stretch/>
        </p:blipFill>
        <p:spPr>
          <a:xfrm>
            <a:off x="5286240" y="1285920"/>
            <a:ext cx="3571920" cy="47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252720" y="907920"/>
            <a:ext cx="9396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News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3"/>
          <p:cNvSpPr/>
          <p:nvPr/>
        </p:nvSpPr>
        <p:spPr>
          <a:xfrm>
            <a:off x="285840" y="1714680"/>
            <a:ext cx="850104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 and volatile food prices: implications in terms of 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ild undernutrition: causes, intervention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s with social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cial transfers: concepts, impacts,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imate change : links with food security and international negot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ght to food : key concepts and implementation at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ess to agricultural inputs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ness of these interventions, their advantages an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e risk management mechanisms: key concepts, advantages an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topics for coming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Image 13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eseau-rosa.eu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mage 4" descr="http://www.reseau-rosa.eu/squelettes/images/bandeau_newslet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52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rcRect l="0" t="0" r="29524" b="188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Oval 11"/>
          <p:cNvSpPr/>
          <p:nvPr/>
        </p:nvSpPr>
        <p:spPr>
          <a:xfrm>
            <a:off x="1979640" y="4653000"/>
            <a:ext cx="244800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692360" y="630864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04:36Z</dcterms:created>
  <dc:creator>Bénédicte HERMELIN</dc:creator>
  <dc:description/>
  <dc:language>en-US</dc:language>
  <cp:lastModifiedBy>albyflores_v</cp:lastModifiedBy>
  <dcterms:modified xsi:type="dcterms:W3CDTF">2010-07-18T21:54:07Z</dcterms:modified>
  <cp:revision>448</cp:revision>
  <dc:subject/>
  <dc:title>Impact of export support measures on food aid and food security</dc:title>
</cp:coreProperties>
</file>