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8B3-D947-4D3B-B5C6-A0D3E464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70A-467F-47A3-88CD-8CFADD60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A8C-065F-470E-BBD9-C14C9530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B79-F5B7-491A-B346-99AE198C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F969-1401-41F8-A137-B20BE6FE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4354-5C3C-472F-81B0-8666EA9C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8725-535B-4C89-B53D-FDA0F0D8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0165-5FC2-4E3A-9AF5-AF913D93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8A9D-6E47-422C-8EA3-EA25E0C9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B698-8061-4E5C-BCE7-C3E5125E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CE54-3B73-4EDE-B48C-0D81ACFD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EDC-CD62-4383-910B-C962651C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6FDA-27A2-4322-9BD1-BDCCAFF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E7AA-7EFC-45AF-8F72-712A736A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5245-7AAB-41AD-9E61-05E82A39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EB62-11AD-4F8B-8477-53D9B6C4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A150-FEF2-4E62-A81E-EDA3AD2A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0897-5484-4F6C-93C9-83B94EBD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57C6-BC00-46BF-BF99-46DC049E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FCBD-CC66-41C4-9928-6D9ACC68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DA1AD-1593-4B6F-8593-10E48FC4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F58A6-7600-45CD-A77B-9D61A33B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CF48-2081-4068-9973-3099E482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0D52-0107-4305-9548-36072AE8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8BF1-6FB5-4B2F-95D1-C2C6064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3589-026F-421A-9A26-34AD3A15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3833-4A77-4E48-BD53-BE28E103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1931-80E0-4913-847B-8249AE8B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5F31-97E5-4F15-AFAB-77B65766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A80F-F39E-4CFD-A5C6-9513CD32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A9E-6480-46BD-A025-1456B052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5AD-F3D7-499B-8083-77E3C6C8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FB0-FD3B-42FC-A080-914A776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EB2-BF02-444A-A1B6-9716AA49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A66-40B1-46EA-B8D8-54CB4F71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ECD-2A6B-40B7-8A99-4CF9BDEE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E57D-75E1-4DE5-A3CB-AAE07617191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BDA7-3BDA-435C-9B08-0587B61E6096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9E66-BFC5-47C6-8B1E-F3080186D460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7705-B0A8-4AAE-AF86-AE2E499C6CF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ZoneTexte 6"/>
          <p:cNvSpPr/>
          <p:nvPr/>
        </p:nvSpPr>
        <p:spPr>
          <a:xfrm>
            <a:off x="1587600" y="2743200"/>
            <a:ext cx="46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OBJECTIVES OF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SOCIAL PROTE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Nicholas Freel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A414-7AFE-4ED4-ADB6-9292BA02223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77840" y="2494080"/>
            <a:ext cx="843264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gal framework that defines and protects citizens’ right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bour law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and safety standard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ti-discrimination polic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) Social Justi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9F34-B9DB-41EA-8977-A8D9C93D996C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87" name="Group 24"/>
          <p:cNvGrpSpPr/>
          <p:nvPr/>
        </p:nvGrpSpPr>
        <p:grpSpPr>
          <a:xfrm>
            <a:off x="685800" y="1460520"/>
            <a:ext cx="7620120" cy="5295600"/>
            <a:chOff x="685800" y="1460520"/>
            <a:chExt cx="7620120" cy="5295600"/>
          </a:xfrm>
        </p:grpSpPr>
        <p:sp>
          <p:nvSpPr>
            <p:cNvPr id="188" name="Slide Number Placeholder 3"/>
            <p:cNvSpPr/>
            <p:nvPr/>
          </p:nvSpPr>
          <p:spPr>
            <a:xfrm>
              <a:off x="685800" y="6422400"/>
              <a:ext cx="174960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6A99ED7-FA7F-4027-92CF-BDB29CC8CFDE}" type="slidenum">
                <a:rPr b="0" lang="en-US" sz="1000" spc="-1" strike="noStrike">
                  <a:solidFill>
                    <a:srgbClr val="00a6c8"/>
                  </a:solidFill>
                  <a:latin typeface="Verdana"/>
                  <a:ea typeface="宋体"/>
                </a:rPr>
                <a:t>&lt;number&gt;</a:t>
              </a:fld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89" name="Text Box 4"/>
            <p:cNvSpPr/>
            <p:nvPr/>
          </p:nvSpPr>
          <p:spPr>
            <a:xfrm>
              <a:off x="2849400" y="5586840"/>
              <a:ext cx="27118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Times New Roman"/>
                </a:rPr>
                <a:t>Provis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4482720" y="3646080"/>
              <a:ext cx="2777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849400" y="3777120"/>
              <a:ext cx="271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Times New Roman"/>
                </a:rPr>
                <a:t>Prevent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2977920" y="1854000"/>
              <a:ext cx="23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8000"/>
                  </a:solidFill>
                  <a:latin typeface="Times New Roman"/>
                </a:rPr>
                <a:t>Promot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5541480" y="1573920"/>
              <a:ext cx="2314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 flipV="1">
              <a:off x="4179600" y="2832480"/>
              <a:ext cx="0" cy="601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749880" y="2797200"/>
              <a:ext cx="205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cc"/>
                  </a:solidFill>
                  <a:latin typeface="Times New Roman"/>
                </a:rPr>
                <a:t>Springboards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 flipV="1">
              <a:off x="1869840" y="1993320"/>
              <a:ext cx="0" cy="80316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>
              <a:off x="1869840" y="2018880"/>
              <a:ext cx="661680" cy="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1869840" y="3259800"/>
              <a:ext cx="0" cy="66888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1869840" y="3929040"/>
              <a:ext cx="594720" cy="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959760" y="4848480"/>
              <a:ext cx="18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Times New Roman"/>
                </a:rPr>
                <a:t>Safety nets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 flipV="1">
              <a:off x="1869840" y="4251600"/>
              <a:ext cx="0" cy="66744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1869840" y="4212000"/>
              <a:ext cx="594720" cy="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>
              <a:off x="1869840" y="5312880"/>
              <a:ext cx="0" cy="66744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1869840" y="5965560"/>
              <a:ext cx="594720" cy="1440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5" name="Oval 19"/>
            <p:cNvSpPr/>
            <p:nvPr/>
          </p:nvSpPr>
          <p:spPr>
            <a:xfrm>
              <a:off x="3174840" y="1523880"/>
              <a:ext cx="1984320" cy="12024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3174840" y="5268600"/>
              <a:ext cx="1984320" cy="1136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>
              <a:off x="3199680" y="3433680"/>
              <a:ext cx="1984320" cy="120240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 flipV="1">
              <a:off x="4179600" y="4671720"/>
              <a:ext cx="0" cy="601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9" name="Rectangle 23"/>
            <p:cNvSpPr/>
            <p:nvPr/>
          </p:nvSpPr>
          <p:spPr>
            <a:xfrm>
              <a:off x="5379480" y="1460520"/>
              <a:ext cx="2926440" cy="48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500"/>
                </a:spcAft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08000"/>
                  </a:solidFill>
                  <a:uFillTx/>
                  <a:latin typeface="Arial"/>
                </a:rPr>
                <a:t>Livelihood promotion</a:t>
              </a:r>
              <a:br>
                <a:rPr sz="1600"/>
              </a:br>
              <a:r>
                <a:rPr b="0" lang="en-GB" sz="1600" spc="-1" strike="noStrike">
                  <a:solidFill>
                    <a:srgbClr val="008000"/>
                  </a:solidFill>
                  <a:latin typeface="Arial"/>
                </a:rPr>
                <a:t>[“Risk reduction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Micro-credit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Public works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School feeding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800"/>
                </a:spcAft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ff9900"/>
                  </a:solidFill>
                  <a:uFillTx/>
                  <a:latin typeface="Arial"/>
                </a:rPr>
                <a:t>Social insurance</a:t>
              </a:r>
              <a:br>
                <a:rPr sz="1600"/>
              </a:br>
              <a:r>
                <a:rPr b="0" lang="en-GB" sz="1600" spc="-1" strike="noStrike">
                  <a:solidFill>
                    <a:srgbClr val="ff9900"/>
                  </a:solidFill>
                  <a:latin typeface="Arial"/>
                </a:rPr>
                <a:t>[“Risk mitigation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Unemployment benefit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Weather insurance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Burial societies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80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Social assistance</a:t>
              </a:r>
              <a:br>
                <a:rPr sz="1600"/>
              </a:br>
              <a:r>
                <a:rPr b="0" lang="en-GB" sz="1600" spc="-1" strike="noStrike">
                  <a:solidFill>
                    <a:srgbClr val="ff0000"/>
                  </a:solidFill>
                  <a:latin typeface="Arial"/>
                </a:rPr>
                <a:t>[“Risk coping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Emergency food aid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Support to PLWHA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Old age grant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1C45-DD63-4F02-B854-AD83E94A73B1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917720" y="1523880"/>
            <a:ext cx="49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n principl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30120" y="2145960"/>
            <a:ext cx="8394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Recognise the importance of social protec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Support national policy prioriti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Minimise policy intrus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Rationalise donor suppor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Encompass a diversity of approach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ocus on vulnerabilit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Limit pilot project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ind new levers of suppor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Involve participant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ocus on outcom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977760" y="6553080"/>
            <a:ext cx="75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DS/ODI/DEV/RHVP Joint Statement on “Social Protection in Africa: Where Next?”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C3CA-FA07-44F6-A9B1-5EDEDD3052D7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054080" y="2828880"/>
            <a:ext cx="661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and predictable non-contributory grants that aim to directly increase or protect the incomes of those living in poverty or at risk of falling into povert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C0A5-7B4B-4E52-8D73-12FD7A504F1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54080" y="2828880"/>
            <a:ext cx="66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cial Protection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a response to: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ULNERABILITY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2F0-727D-4F75-B357-2041127734F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9" name="Content Placeholder 4" descr=""/>
          <p:cNvPicPr/>
          <p:nvPr/>
        </p:nvPicPr>
        <p:blipFill>
          <a:blip r:embed="rId1"/>
          <a:stretch/>
        </p:blipFill>
        <p:spPr>
          <a:xfrm>
            <a:off x="103320" y="3456000"/>
            <a:ext cx="8534160" cy="26956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977760" y="2168640"/>
            <a:ext cx="66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ULNERABILITY =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77F4-75D5-468A-887D-F1752D8F1C05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2" name="Content Placeholder 6" descr=""/>
          <p:cNvPicPr/>
          <p:nvPr/>
        </p:nvPicPr>
        <p:blipFill>
          <a:blip r:embed="rId1"/>
          <a:stretch/>
        </p:blipFill>
        <p:spPr>
          <a:xfrm>
            <a:off x="60480" y="1706400"/>
            <a:ext cx="846108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DCEE-6A8D-41ED-BFE3-25698245D5AF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4" name="Content Placeholder 6" descr=""/>
          <p:cNvPicPr/>
          <p:nvPr/>
        </p:nvPicPr>
        <p:blipFill>
          <a:blip r:embed="rId1"/>
          <a:stretch/>
        </p:blipFill>
        <p:spPr>
          <a:xfrm>
            <a:off x="60480" y="1719360"/>
            <a:ext cx="8461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7B89-2304-452B-A486-7F3B5BB6FC55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6" name="Content Placeholder 6" descr=""/>
          <p:cNvPicPr/>
          <p:nvPr/>
        </p:nvPicPr>
        <p:blipFill>
          <a:blip r:embed="rId1"/>
          <a:stretch/>
        </p:blipFill>
        <p:spPr>
          <a:xfrm>
            <a:off x="60480" y="1689120"/>
            <a:ext cx="8461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33E4-91A8-4FA2-9DEF-7655E610F565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7840" y="2494080"/>
            <a:ext cx="84326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n-contributory social transfer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pension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ild benefi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ability allow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hool fee/health waiver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permutation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m: cash/food/vouchers/inputs/asse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rgeting: poorest/categories/univers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ditions: conditional/public works/uncondition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) Social Assistan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9FFE-C4EA-4D9B-AB3B-D588B4A1B1A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77840" y="2494080"/>
            <a:ext cx="843264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ributory schemes, often managed by government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tirement pens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employment benefi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ational insur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insur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ten only formal sector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) Social Insuran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Nicholas Freeland</cp:lastModifiedBy>
  <cp:lastPrinted>2003-11-06T16:40:02Z</cp:lastPrinted>
  <dcterms:modified xsi:type="dcterms:W3CDTF">2010-06-24T08:56:30Z</dcterms:modified>
  <cp:revision>855</cp:revision>
  <dc:subject/>
  <dc:title>No Slide Title</dc:title>
</cp:coreProperties>
</file>