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D86E-0330-4CAB-83FE-9D71BAFF0A1B}" type="datetime"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33CE-E94E-4606-B70D-4EE326269CA4}" type="slidenum"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st steps of FO's: acknowledge (recognize) the various dimensions of family farming, its utility (economic, social, environmental, cultural) to fight against a negative image (a "nobody",jobless), to convince members of FO's they can be proud to be farm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t was also necessary was to analyze and understand the concept: for instance, poverty. We were not poor at the independence, we became with external misleading prescriptions and wrong national leadershi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have to constantly battle against bias, bad conceptions and prescriptions: for instance, we think that competitiveness is only a part of the solution (some models overemphasized this issu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ow we have some successes: we gained our autonomy and maintained it. We are part of the policy dialogue but watch out: the networking from local to continental is also important but; don't be mistaken: there are a lot of "virus" in every scheme that we have to be conscious of. We have access to some resour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bout the ECD cooperation: impossible to qualify it in one word: part of the solution and part of the problem. Some good initiatives that make our own process possible/ We are asking not only resources but more flexibility constant dialog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8900-F5B3-4BC5-A531-D73D3D68CC16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1533-EE7E-41F8-89C0-1D556BAC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1EB-FB37-4CE4-89AA-CABAB038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466-2435-4C32-AB48-3259B87D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D4D-8EB7-4CAC-82A8-CC899588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8EF4-C591-4AB3-B69F-C6570846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670B-A6E4-4F1C-A05F-FC2C3732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8F21-6A3C-40D0-9A4C-0A2484CB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0301-E196-4AB2-BD11-461105EF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D795-8A43-4DB8-A013-63AB4EE2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458C-4439-4710-A2C0-4A2158E7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FFF7-1FA0-4ED3-8DD8-EF330A69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01F8-8640-4B35-9026-ABFB0E31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F1DC-CD2E-45DA-8A61-3A4AEB80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9F9C-0394-4CC4-B74C-4C411989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F7AF-A3DA-4039-81BC-5BD6DE6F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BC2C-0EE3-4FE0-9F76-08625CBD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C8DE-6AE8-4CE1-87CB-97F500B6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645-7534-4661-84E3-730F695D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1926-DF1B-4706-9C58-818E725B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AAA0-795F-4FF1-ABA8-2A21D436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2CCA-07B4-4FDF-BD2A-2605E38B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08F-11F0-409E-B3B2-494CD7BF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EE6D-56FC-4950-8520-D5D14D99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D781-3824-45F8-99ED-818033BC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99EB-77AF-4055-9B0D-FDE72E8E4308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C3C8-1624-4B13-BFC0-F69CF35474CB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Hot Topics in Agricultur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Brussels, 12 to 14 July 2010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Re-cap Day 2 </a:t>
            </a:r>
            <a:br>
              <a:rPr sz="2400"/>
            </a:b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Supporting Farmer Organisation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Role of FOs and EC support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Wim Olthof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s as service providers, advocacy and development partner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irect (EDF) or through with co-financiers (CTA, IFAD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FAD: Support to FOs in Africa (5 RFOs and 36 NFO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GRICORD: Farmers Fighting Poverty (FFT) (Member States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View from the ground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Mamadou Cissokh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cknowledge family farming – recognise its role in agricultural development – Pillar of the econom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amily farming as a profession – not a baseline; more production for the market is not the only direction for develop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s increasingly recognised at the plicy tabl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s need direct link / dialogue to DPs; support to FOs not via 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Re-cap Day 2 </a:t>
            </a:r>
            <a:br>
              <a:rPr sz="2400"/>
            </a:b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Supporting Farmer Organisation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Support to FOs in Ivory Coast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– Yves Gille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uge agriculture potential: based on Commodity Chai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s – many and varied – linked to commodi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nabling environment: legal frame yes – but not enforced; G creams off the production and trade and interferes with FO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Need for more professional, autonomous, integrated FO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Representativeness: No FO represents ALL farmers – do not confuse with legitimacy!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Role: Country ownership is NOT government ownership: FOs have to be part of the packa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Direct support by DPs: Not a question of whether but of how! But be clear on purpose of support (advocacy, commercial) and select appropriate modes of deliver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92CB-7931-40E1-948F-423ABF141B7C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-7632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Re-cap Day 1 </a:t>
            </a: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Setting the Scen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A new perspective on peasants/smallholders </a:t>
            </a:r>
            <a:r>
              <a:rPr b="0" i="1" lang="en-GB" sz="1800" spc="-1" strike="noStrike">
                <a:solidFill>
                  <a:srgbClr val="103c72"/>
                </a:solidFill>
                <a:latin typeface="Verdana"/>
              </a:rPr>
              <a:t>van der Ploe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 holistic approach based on livelihoods as opposed to production system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 which self-suffiency, autonomy, pride play a big rol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...produces for the market without being dependent on the market”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balance in production between ‘for the market’ and ‘for self’ provides protection against market turbulenc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avoid one dimensional focus on commercialisation (as in “farming as a business, not a way of life!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but instead focus on multi-functionality, low external input agriculture, pluri-activity, local cooperation, technical efficien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Re-cap Day 1 </a:t>
            </a: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Setting the Scen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Verdana"/>
              </a:rPr>
              <a:t>Agriculture as an awkward sector </a:t>
            </a:r>
            <a:r>
              <a:rPr b="0" i="1" lang="en-US" sz="1800" spc="-1" strike="noStrike">
                <a:solidFill>
                  <a:srgbClr val="103c72"/>
                </a:solidFill>
                <a:latin typeface="Verdana"/>
              </a:rPr>
              <a:t>by Steve Wiggi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Agriculture crucial to poverty reduction because of increased incomes, increased employment, growth in local economy and reduced food pri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there are African agricultural successes! (Ghana, Burkina Faso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Good policy is key – good governance a pre-requisit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Distinguish between simple and complex and between policy and implementation (programme) level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Look at sequencing – depending on departure point / target group: step up – step out – hang i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Among the ultra-poor – invest education/health in the next gener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-cap Day 1  </a:t>
            </a:r>
            <a:r>
              <a:rPr b="1" lang="en-GB" sz="2400" spc="-1" strike="noStrike">
                <a:solidFill>
                  <a:srgbClr val="19194d"/>
                </a:solidFill>
                <a:latin typeface="Verdana"/>
              </a:rPr>
              <a:t>Pastoralism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astoralism: issues and challenges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Michele Nor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The Boran in Northern Kenya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Daoud Tari Abkul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-cap Day 1  </a:t>
            </a:r>
            <a:r>
              <a:rPr b="1" lang="en-GB" sz="2400" spc="-1" strike="noStrike">
                <a:solidFill>
                  <a:srgbClr val="19194d"/>
                </a:solidFill>
                <a:latin typeface="Verdana"/>
              </a:rPr>
              <a:t>Pastoralism – Group Work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olicy level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dentify the role of pastoralists (environmental profil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clude pastoralist organisations in the policy dialogu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astoralists became thematic group in PRSP dialogue in Kenya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nsure that pastoralism is included in the policy and legal framework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nyan PRSP now has separate chapter on pastoralism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conomic policy has a Arid and Semi Arid Lands chapte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Mainstream pastoralism in the overall sector policy framework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nya now has Nomadic Education Poli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stablish pastoralism as a separate sector or sub-secto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-cap Day 1  </a:t>
            </a:r>
            <a:r>
              <a:rPr b="1" lang="en-GB" sz="2400" spc="-1" strike="noStrike">
                <a:solidFill>
                  <a:srgbClr val="19194d"/>
                </a:solidFill>
                <a:latin typeface="Verdana"/>
              </a:rPr>
              <a:t>Pastoralism – Group Work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Support to the agriculture sector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stablish pastoralism as a separate sector or sub-secto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nya has a Ministry of ASAL (for Northern Kenya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dentify your partners (not just Min of Agric!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Understand pastoralism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ollect (jointly) information for evidence-based plan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upport donor coordination around the issue of  support to pastoralist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upport to pastoralism to be included in NIPs, CSP, sector assessments, SPSPs etc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dentify appropriate EC instruments and mechanism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inancial modalities (e.g. specific proceedures instead of budget support) or thematic budget line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-cap Day 1  </a:t>
            </a:r>
            <a:r>
              <a:rPr b="1" lang="en-GB" sz="2400" spc="-1" strike="noStrike">
                <a:solidFill>
                  <a:srgbClr val="19194d"/>
                </a:solidFill>
                <a:latin typeface="Verdana"/>
              </a:rPr>
              <a:t>Pastoralism – Group Work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Community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Generate information – for policy, but also self-ima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ottom up organisation and mobilis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evelop representation skills (lobbying, advocacy, negoti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ild capacity and confidence (literac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evelop and strengthen pastoral forums that make a link from local to national level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upport free information flow (radio and mobile phone coverag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upport education and training tailored to pastoralists bith in delivery and cont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omali – teachers move with the group and the herd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Re-cap Day 2 </a:t>
            </a:r>
            <a:br>
              <a:rPr sz="2400"/>
            </a:b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Agriculture growth and social transfer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560" y="13716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3520" indent="-17352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Social Transfers: overview EC support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- Hervé Busschaer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30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arly emphasis on food </a:t>
            </a:r>
            <a:r>
              <a:rPr b="0" i="1" lang="en-GB" sz="1800" spc="-1" strike="noStrike">
                <a:solidFill>
                  <a:srgbClr val="103c72"/>
                </a:solidFill>
                <a:latin typeface="Verdana"/>
              </a:rPr>
              <a:t>availability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; now also focus on </a:t>
            </a:r>
            <a:r>
              <a:rPr b="0" i="1" lang="en-GB" sz="1800" spc="-1" strike="noStrike">
                <a:solidFill>
                  <a:srgbClr val="103c72"/>
                </a:solidFill>
                <a:latin typeface="Verdana"/>
              </a:rPr>
              <a:t>acces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30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ifferent forms: Cash, Food, Asset transfers, Input transfer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30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eference for cash transfers – not always possibl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30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f Doc on Social Transfers and Food Secur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Agriculture growth &amp; social protection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Nicholas Freelan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30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griculture and social policies often separate:  different institutions both at country level and in DP structur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30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T ultimately same target group that has to graduate up the ladde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30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Therefore: instruments to be joined up in a continuous spectrum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30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ynergies within instrumen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30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ynergies between instruments are exploited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Re-cap Day 2 </a:t>
            </a:r>
            <a:br>
              <a:rPr sz="2400"/>
            </a:b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Agriculture growth and social transfer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23880"/>
            <a:ext cx="838188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Cash transfers in Bangladesh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Koen Duchateau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VGDUP: 80,000 ultra-poor women; cash transfers, life skills, IGA training, asset transfer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OPA: 25,000 women in WCG; cash for rural road maintenance; savings, training, linkage with other service provider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Cash transfers in Ethiopia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Eshetu Mulatu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ductive Safety Net Programme (PSNP); cash transfer and PW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Most of central Ethiopia, 7,5 M beneficiaries; 370 M € annuall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Graduation out of poverty is possible but only if: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35480" indent="-282960">
              <a:lnSpc>
                <a:spcPts val="2798"/>
              </a:lnSpc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Cash transfers are part of a packa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35480" indent="-282960">
              <a:lnSpc>
                <a:spcPts val="2798"/>
              </a:lnSpc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Different programmes are linked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Look at well targeted and low transactions cost instruments (E-Pa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05:24:05Z</dcterms:created>
  <dc:creator>monacro</dc:creator>
  <dc:description/>
  <dc:language>en-US</dc:language>
  <cp:lastModifiedBy>x55b078</cp:lastModifiedBy>
  <dcterms:modified xsi:type="dcterms:W3CDTF">2010-07-14T07:26:59Z</dcterms:modified>
  <cp:revision>12</cp:revision>
  <dc:subject/>
  <dc:title>Slide 1</dc:title>
</cp:coreProperties>
</file>