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767-9AB3-493E-8372-2C4E89C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EB9-EF7F-4E85-970A-CE55373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03B-111C-46CA-A52E-3CBBE9E3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053-B727-4F7B-9B06-F4E719FD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7EE1-BF0B-4D40-9F1D-9FC89FF7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860-686D-4F18-BA66-2BE912D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2FA8-DA27-4D81-BACF-ECD08ACC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88B-5D79-455F-8859-2F3AA66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E5CC-5D26-47B4-807B-A588C26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D293-5EFB-497A-A9AA-251D248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A66-73F1-455A-81EF-2B56B0A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AE7-70E3-43BB-B4A5-B710610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B34F-1B68-49F8-ADFB-A485151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4C33-2B63-44A0-999F-772E7B1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F39-0228-49FD-BA8C-58A4219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DB8-3DBB-4BFF-A39D-64C4327E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BFF4-DB10-4CC4-85E3-2F2E3DD8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589-89F6-44DB-8014-EB42A8D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51E-F303-425D-BAEB-AD45E9C8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C92-8C1D-4C0A-A170-081D899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E28-07A0-412B-93C6-ED18A03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538-FCEB-420E-8A70-9241BEF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E2B-EB13-469F-B5E1-298687F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7E5-AA59-4CBB-9E6A-47463F9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3F98-A826-4B98-90BA-20D3E92FE7C0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FF1F-6AD7-4DA9-ACB5-FEE93568499D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Group Work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73000"/>
            <a:ext cx="82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Divide into groups. For each group discuss the following: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What are the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Do’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Don’t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For a country of your choice: What are specific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Issu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Respons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trengthening and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Question for Plenary: What can you do (as EC officer in the Delegation) to improve the support to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is this semina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Verdana"/>
              </a:rPr>
              <a:t>A flexible platform of exchange in order to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de EC staff working in the sector with a greater understanding of the current issues in agriculture with a focus on how to make this development most effective in reducing (rural) poverty.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o that participants to become more effective contributors to and supporters of agriculture for the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want to achieve?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y the end of the seminar, participants should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 informed about key issues and latest thinking in agricultural policy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ave acquired an analytical framework on these issues to guide further learning and inform future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667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cove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Not everything -  But a selection of issues of current concern that the EC has something to say abou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This is NOT a training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–</a:t>
            </a: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 no guidelines !!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Exchange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Feedback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Programme outli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447920"/>
          <a:ext cx="7696080" cy="4622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day 12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day 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nesday 14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3. Agriculture Growth and Social Transfer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5. Climate Change and Agricultur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1. Setting the Scen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angladesh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GCCA –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Field exampl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2. Pastoralism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4. Supporting F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West Afric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6. Extens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est practic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- Mongolia, Sudan, Somaliland -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Ivory Coas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7. Capacity4dev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ran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5:16:04Z</dcterms:created>
  <dc:creator>monacro</dc:creator>
  <dc:description/>
  <dc:language>en-US</dc:language>
  <cp:lastModifiedBy>x55b078</cp:lastModifiedBy>
  <dcterms:modified xsi:type="dcterms:W3CDTF">2010-07-13T11:18:42Z</dcterms:modified>
  <cp:revision>9</cp:revision>
  <dc:subject/>
  <dc:title>Slide 1</dc:title>
</cp:coreProperties>
</file>