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5a67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21652-D468-49DC-87C1-098A34ED98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16487-7A17-45DD-ABCE-189ED18A94A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4C16A-3866-47D7-B8EF-B8B600F4626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Text Box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fld id="{CFAC6F39-F5D9-4F12-A642-87C2B85F3F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D84A6-0237-4BF3-AE84-F51A83DC55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384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857760"/>
            <a:ext cx="777384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DE39C-699C-42DA-83B0-3D4F0E73A6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7760" y="162864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85776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7760" y="385776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65662-B122-444A-954E-69355EEF11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25030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080" y="1628640"/>
            <a:ext cx="25030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628640"/>
            <a:ext cx="25030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857760"/>
            <a:ext cx="25030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080" y="3857760"/>
            <a:ext cx="25030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57760"/>
            <a:ext cx="25030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39D87-2A25-4285-97BA-C3ACBC0769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384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384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33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7760" y="1628640"/>
            <a:ext cx="37933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55640" y="549000"/>
            <a:ext cx="777384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760" y="1628640"/>
            <a:ext cx="37933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4360" y="385776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384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C6FB2-27A1-471D-80F2-53AE01967C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33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7760" y="162864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7760" y="385776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7760" y="162864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4360" y="3857760"/>
            <a:ext cx="777384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384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4360" y="3857760"/>
            <a:ext cx="777384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7760" y="162864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4360" y="385776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7760" y="385776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25030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080" y="1628640"/>
            <a:ext cx="25030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628640"/>
            <a:ext cx="25030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4360" y="3857760"/>
            <a:ext cx="25030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080" y="3857760"/>
            <a:ext cx="25030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3857760"/>
            <a:ext cx="25030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384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AC54E-6EF5-43C3-BE3F-8320B08725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33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7760" y="1628640"/>
            <a:ext cx="37933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82EEA-35ED-462E-8A39-ABB915BFC3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DC21F-F11D-4F4C-A408-C4BE1296E1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549000"/>
            <a:ext cx="777384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F5BF7-C056-4946-B338-0A53572D3E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7760" y="1628640"/>
            <a:ext cx="37933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85776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1264E-C83C-4791-AC8A-2048C3200D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33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7760" y="162864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7760" y="385776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EC1D9-181D-4C1C-8FEB-EB2C4FFF97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7760" y="1628640"/>
            <a:ext cx="379332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857760"/>
            <a:ext cx="777384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BC553-C622-42DC-9554-E812A19DBD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8" descr=""/>
          <p:cNvPicPr/>
          <p:nvPr/>
        </p:nvPicPr>
        <p:blipFill>
          <a:blip r:embed="rId2"/>
          <a:stretch/>
        </p:blipFill>
        <p:spPr>
          <a:xfrm>
            <a:off x="-1440" y="6678720"/>
            <a:ext cx="9150120" cy="1825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42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9877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1" descr=""/>
          <p:cNvPicPr/>
          <p:nvPr/>
        </p:nvPicPr>
        <p:blipFill>
          <a:blip r:embed="rId4"/>
          <a:stretch/>
        </p:blipFill>
        <p:spPr>
          <a:xfrm>
            <a:off x="7873920" y="5932440"/>
            <a:ext cx="1054080" cy="696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5a67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4360" y="1628640"/>
            <a:ext cx="777384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800" y="6397200"/>
            <a:ext cx="19051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B8ACC-72FB-483B-ADD9-7AFF4F2C7BCB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47"/>
          <p:cNvSpPr/>
          <p:nvPr/>
        </p:nvSpPr>
        <p:spPr>
          <a:xfrm>
            <a:off x="1763640" y="6218280"/>
            <a:ext cx="6008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3" descr=""/>
          <p:cNvPicPr/>
          <p:nvPr/>
        </p:nvPicPr>
        <p:blipFill>
          <a:blip r:embed="rId2"/>
          <a:stretch/>
        </p:blipFill>
        <p:spPr>
          <a:xfrm>
            <a:off x="4011480" y="0"/>
            <a:ext cx="5132520" cy="4476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1" descr=""/>
          <p:cNvPicPr/>
          <p:nvPr/>
        </p:nvPicPr>
        <p:blipFill>
          <a:blip r:embed="rId3"/>
          <a:stretch/>
        </p:blipFill>
        <p:spPr>
          <a:xfrm>
            <a:off x="685800" y="3124080"/>
            <a:ext cx="1828800" cy="1549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5a67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4360" y="1628640"/>
            <a:ext cx="777384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86040" y="2499840"/>
            <a:ext cx="562464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Session 3: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Agricultural Growth &amp;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Social Protection</a:t>
            </a: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: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Synergies and Contradictions</a:t>
            </a:r>
            <a:r>
              <a:rPr b="0" lang="en-GB" sz="2400" spc="-1" strike="noStrike">
                <a:solidFill>
                  <a:srgbClr val="405a67"/>
                </a:solidFill>
                <a:latin typeface="Verdana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-360" y="5143320"/>
            <a:ext cx="857268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ac543"/>
                </a:solidFill>
                <a:latin typeface="Verdana"/>
              </a:rPr>
              <a:t>Seminar on hot topics in agricultu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ac543"/>
                </a:solidFill>
                <a:latin typeface="Verdana"/>
              </a:rPr>
              <a:t>Bruxelles, 12-14 July 2010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395280" y="714240"/>
            <a:ext cx="38196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5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itle 2"/>
          <p:cNvSpPr/>
          <p:nvPr/>
        </p:nvSpPr>
        <p:spPr>
          <a:xfrm>
            <a:off x="3059280" y="4437000"/>
            <a:ext cx="5410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Nicholas Freel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1"/>
          <a:stretch/>
        </p:blipFill>
        <p:spPr>
          <a:xfrm>
            <a:off x="3851280" y="5013360"/>
            <a:ext cx="1501920" cy="96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tential for Synergies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84726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Joined-Up Agricultural &amp; Social Protection Poli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85480" y="2174760"/>
            <a:ext cx="864396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Agriculture as a motor for pro-poor develo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Productivity-enhancing social prot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Assisting the rural (and urban) po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Through Government-owned national program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Supported by the EC (and other donor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Creating comprehensive socio-economic develo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Based on balanced allocation of budgetary re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45080" y="2174760"/>
            <a:ext cx="4284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07C3D-069A-45BC-977F-342DFCF3032F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ounded Rectangle 10"/>
          <p:cNvSpPr/>
          <p:nvPr/>
        </p:nvSpPr>
        <p:spPr>
          <a:xfrm>
            <a:off x="500040" y="857160"/>
            <a:ext cx="5572080" cy="5357880"/>
          </a:xfrm>
          <a:prstGeom prst="roundRect">
            <a:avLst>
              <a:gd name="adj" fmla="val 25963"/>
            </a:avLst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Rounded Rectangle 9"/>
          <p:cNvSpPr/>
          <p:nvPr/>
        </p:nvSpPr>
        <p:spPr>
          <a:xfrm>
            <a:off x="3429000" y="857160"/>
            <a:ext cx="5143680" cy="5357880"/>
          </a:xfrm>
          <a:custGeom>
            <a:avLst/>
            <a:gdLst>
              <a:gd name="textAreaLeft" fmla="*/ 390960 w 5143680"/>
              <a:gd name="textAreaRight" fmla="*/ 4752720 w 5143680"/>
              <a:gd name="textAreaTop" fmla="*/ 390960 h 5357880"/>
              <a:gd name="textAreaBottom" fmla="*/ 4966920 h 5357880"/>
            </a:gdLst>
            <a:ahLst/>
            <a:rect l="textAreaLeft" t="textAreaTop" r="textAreaRight" b="textAreaBottom"/>
            <a:pathLst>
              <a:path w="21600" h="22499">
                <a:moveTo>
                  <a:pt x="5608" y="0"/>
                </a:moveTo>
                <a:arcTo wR="5608" hR="5608" stAng="16200000" swAng="-5400000"/>
                <a:lnTo>
                  <a:pt x="0" y="16891"/>
                </a:lnTo>
                <a:arcTo wR="5608" hR="5608" stAng="10800000" swAng="-5400000"/>
                <a:lnTo>
                  <a:pt x="15992" y="22499"/>
                </a:lnTo>
                <a:arcTo wR="5608" hR="5608" stAng="5400000" swAng="-5400000"/>
                <a:lnTo>
                  <a:pt x="21600" y="5608"/>
                </a:lnTo>
                <a:arcTo wR="5608" hR="5608" stAng="0" swAng="-5400000"/>
                <a:close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licy Instruments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3920" y="928800"/>
            <a:ext cx="728676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nd refor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cro-cred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rop insur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put subsid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GR/price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ublic wor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sset transf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ash transf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ood transf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  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chool me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      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r. feed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643200" y="928800"/>
            <a:ext cx="48276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7F22D-99B6-414C-8738-631EA306A8D1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Box 11"/>
          <p:cNvSpPr/>
          <p:nvPr/>
        </p:nvSpPr>
        <p:spPr>
          <a:xfrm>
            <a:off x="642960" y="3071880"/>
            <a:ext cx="200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Verdana"/>
              </a:rPr>
              <a:t>Agricultu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Verdana"/>
              </a:rPr>
              <a:t>Poli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Box 12"/>
          <p:cNvSpPr/>
          <p:nvPr/>
        </p:nvSpPr>
        <p:spPr>
          <a:xfrm>
            <a:off x="6286680" y="2887560"/>
            <a:ext cx="200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So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Prot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Poli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Box 13"/>
          <p:cNvSpPr/>
          <p:nvPr/>
        </p:nvSpPr>
        <p:spPr>
          <a:xfrm rot="16200000">
            <a:off x="-2473920" y="3300480"/>
            <a:ext cx="55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e5"/>
                </a:solidFill>
                <a:latin typeface="Verdana"/>
              </a:rPr>
              <a:t>Poorest                                  Least Po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0" name="Straight Arrow Connector 15"/>
          <p:cNvCxnSpPr/>
          <p:nvPr/>
        </p:nvCxnSpPr>
        <p:spPr>
          <a:xfrm flipV="1">
            <a:off x="356040" y="2356560"/>
            <a:ext cx="1080" cy="2715480"/>
          </a:xfrm>
          <a:prstGeom prst="straightConnector1">
            <a:avLst/>
          </a:prstGeom>
          <a:ln w="12600">
            <a:solidFill>
              <a:srgbClr val="0000e5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51" name="TextBox 20"/>
          <p:cNvSpPr/>
          <p:nvPr/>
        </p:nvSpPr>
        <p:spPr>
          <a:xfrm rot="16200000">
            <a:off x="5986080" y="3443760"/>
            <a:ext cx="55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e5"/>
                </a:solidFill>
                <a:latin typeface="Verdana"/>
              </a:rPr>
              <a:t>     </a:t>
            </a:r>
            <a:r>
              <a:rPr b="0" lang="en-GB" sz="2000" spc="-1" strike="noStrike">
                <a:solidFill>
                  <a:srgbClr val="0000e5"/>
                </a:solidFill>
                <a:latin typeface="Verdana"/>
              </a:rPr>
              <a:t>Provision      Prevention     Promo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2" name="Straight Arrow Connector 22"/>
          <p:cNvCxnSpPr/>
          <p:nvPr/>
        </p:nvCxnSpPr>
        <p:spPr>
          <a:xfrm flipH="1" flipV="1">
            <a:off x="8786160" y="4285440"/>
            <a:ext cx="19800" cy="376920"/>
          </a:xfrm>
          <a:prstGeom prst="straightConnector1">
            <a:avLst/>
          </a:prstGeom>
          <a:ln w="12600">
            <a:solidFill>
              <a:srgbClr val="0000e5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3" name="Straight Arrow Connector 25"/>
          <p:cNvCxnSpPr/>
          <p:nvPr/>
        </p:nvCxnSpPr>
        <p:spPr>
          <a:xfrm flipH="1" flipV="1">
            <a:off x="8786160" y="2428200"/>
            <a:ext cx="19800" cy="376920"/>
          </a:xfrm>
          <a:prstGeom prst="straightConnector1">
            <a:avLst/>
          </a:prstGeom>
          <a:ln w="12600">
            <a:solidFill>
              <a:srgbClr val="0000e5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licy Instruments: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LAND REFORM</a:t>
            </a:r>
            <a:br>
              <a:rPr sz="2400"/>
            </a:b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syner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ncourage invest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duce ri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ay facilitate access to credit as collater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ay allow exit from agriculture through sa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confli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o benefit for landl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or benefit for smallhold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egative impacts on excluded gro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ay increase vulnerability of sell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A06C7-D98B-4368-AB5D-AFE91CF3BCF4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licy Instruments: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INFRASTRUCTURE</a:t>
            </a:r>
            <a:br>
              <a:rPr sz="2400"/>
            </a:b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syner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duce costs of transport/com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rease productiv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aise producer pr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duce consumer pr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confli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ias towards commercial sec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ay by-pass poorest are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Very high capital co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oor maintenance/ deterio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BEEB5-F2C8-4805-AC5A-09D094838C63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licy Instruments: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MICRO-CREDIT</a:t>
            </a:r>
            <a:br>
              <a:rPr sz="2400"/>
            </a:b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syner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vercomes critical constra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reases income and agric ass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moothes consump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duces risk and vulner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confli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oorest won’t take the risk of cred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isk of defaul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ey to weather ri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89CA5-BA97-4ADD-A4C8-B94F3BDA7DF2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licy Instruments: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CROP INSURANCE</a:t>
            </a:r>
            <a:br>
              <a:rPr sz="2400"/>
            </a:b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syner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duces ri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ncourages investment in higher retur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confli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ot well suited to small farm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ot many successful ex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7286C-E9D0-472E-AFE0-69BC31342BEF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licy Instruments: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INPUT SUBSIDIES</a:t>
            </a:r>
            <a:br>
              <a:rPr sz="2400"/>
            </a:b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syner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Kick-start pro-poor growth (eg Asi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aise produ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ower pr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confli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ost benefits captured by the better-o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efficient use of inpu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eakage across bord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xpensive form of cash transfer to the poore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xclude those without land or labo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ey to weather ri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9C875-D9D7-4C05-B0A7-A689279C9FD6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licy Instruments: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SGR/PRICE CONTROL</a:t>
            </a:r>
            <a:br>
              <a:rPr sz="2400"/>
            </a:b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syner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duced price volat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omotes food produ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an support local mark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moothes impact of season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confli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xed impact of high/ low pr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oduc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sum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abour mark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isk of political interefer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duced stabilisation role of private sec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4C324-B88A-45F4-9303-CE084850A5F3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licy Instruments: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UBLIC WORKS</a:t>
            </a:r>
            <a:br>
              <a:rPr sz="2400"/>
            </a:b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syner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57120" y="2174760"/>
            <a:ext cx="428616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an generate useful assets/infrastruc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afeguards household ass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moothes consump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an stimulate labour mark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ould be demand- not supply-driven (NREG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ossible multiplier eff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confli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duces on-farm labour avail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elf”-targeting excludes those without labo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elow market wage rates perpetuate pover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et benefit is margin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Very high co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66E8E-FFD0-4CD4-8970-FB58FDFDDB61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licy Instruments: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ASSET TRANFERS</a:t>
            </a:r>
            <a:br>
              <a:rPr sz="2400"/>
            </a:b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syner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rease agric assets and inco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duce risk and vulner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ncourage diversif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confli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Vulnerability of asset to loss/thef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eed for training and supp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sset may be sold before investment is maximi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ABC4B-0A33-4D8F-8819-723AE919D44A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Separate Policy Domains?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Agricultural Poli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85480" y="2174760"/>
            <a:ext cx="421164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conomic Grow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oduc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[Small] farm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stry of Ag (&amp;FS?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G/DEV + AIDCO/E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conomi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verlook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ocial Protection Poli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5080" y="2174760"/>
            <a:ext cx="4284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elf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ra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tu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stry of Social Welf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CHO + AIDCO/E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lavour of the Mon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1625E-A65F-4E0E-A3D7-994A34B7596C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licy Instruments: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CASH TRANSFERS</a:t>
            </a:r>
            <a:br>
              <a:rPr sz="2400"/>
            </a:b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syner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ed to buy local food, stimulates produ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afeguards ass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mproves education, health, agric productiv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ultiplier effects in local mark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duces season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confli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nger of inflation in weak mark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isk of reduced value of transfer if prices ri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1B6B5-7704-40A1-8F7B-4B3CF06983AA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licy Instruments: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FOOD TRANSFERS</a:t>
            </a:r>
            <a:br>
              <a:rPr sz="2400"/>
            </a:b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syner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ocal purchase can support mark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afeguard ass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mprove health and nutr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confli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t’l purchase is disincentive to local produc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riangular purchase may shift the probl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ocal purchase may create inflation and distort supp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rowd out private sector trade/stor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B4175-BFA5-4061-9868-E22253FB06C6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licy Instruments: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SCHOOL MEALS</a:t>
            </a:r>
            <a:br>
              <a:rPr sz="2400"/>
            </a:b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syner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mprove nutr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mprove learning outco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ut intergenerational transmission of pover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an support local mark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mprove long-term quality of agric/labo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confli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an undermine local mark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xpensive form of transf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lusion err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DD38D-C849-4B07-851C-5A8F6C96ED6D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licy Instruments: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THERAPEUTIC FEEDING</a:t>
            </a:r>
            <a:br>
              <a:rPr sz="2400"/>
            </a:b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syner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mproved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otential for local supp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tential confli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84C95-D8DB-4315-B7DE-6F448A5CCEC3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38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“</a:t>
            </a: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Six Point Policy Agenda”</a:t>
            </a:r>
            <a:br>
              <a:rPr sz="2400"/>
            </a:b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(Devereux, 2009)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71680" y="1500120"/>
            <a:ext cx="82152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2520" indent="-452520"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Get inputs to farmers on time and at affordable pric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rengthen rural markets to stabilise commodity prices, especially of staple food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uild essential rural infrastructure and enabling institu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sure vulnerable farmers against agricultural risk, for instance with innovative mechanisms such as weather‑indexed insurance schemes and guaranteed employment legisl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ove away from imported food aid towards local sourcing and/or cash transfers wherever local markets and cultural contexts (specifically gender relations) permit thi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clare a moratorium on small‑scale ‘pilot projects’ and support permanent national social protection programmes that are integrated into broader agricultural and development polici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882AF-9B3C-42BA-B080-D525C67CEFD9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1" descr=""/>
          <p:cNvPicPr/>
          <p:nvPr/>
        </p:nvPicPr>
        <p:blipFill>
          <a:blip r:embed="rId1"/>
          <a:stretch/>
        </p:blipFill>
        <p:spPr>
          <a:xfrm>
            <a:off x="3203640" y="189000"/>
            <a:ext cx="4279680" cy="279864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2"/>
          <p:cNvSpPr/>
          <p:nvPr/>
        </p:nvSpPr>
        <p:spPr>
          <a:xfrm>
            <a:off x="755640" y="3068640"/>
            <a:ext cx="770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bac543"/>
                </a:solidFill>
                <a:latin typeface="Vrinda"/>
              </a:rPr>
              <a:t>www.wahenga.ne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2"/>
          <a:stretch/>
        </p:blipFill>
        <p:spPr>
          <a:xfrm>
            <a:off x="900000" y="4122720"/>
            <a:ext cx="7442280" cy="10969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"/>
          <p:cNvPicPr/>
          <p:nvPr/>
        </p:nvPicPr>
        <p:blipFill>
          <a:blip r:embed="rId3"/>
          <a:stretch/>
        </p:blipFill>
        <p:spPr>
          <a:xfrm>
            <a:off x="0" y="6659640"/>
            <a:ext cx="9144000" cy="2221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"/>
          <p:cNvPicPr/>
          <p:nvPr/>
        </p:nvPicPr>
        <p:blipFill>
          <a:blip r:embed="rId4"/>
          <a:stretch/>
        </p:blipFill>
        <p:spPr>
          <a:xfrm>
            <a:off x="0" y="5759280"/>
            <a:ext cx="9144000" cy="8049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"/>
          <p:cNvPicPr/>
          <p:nvPr/>
        </p:nvPicPr>
        <p:blipFill>
          <a:blip r:embed="rId5"/>
          <a:stretch/>
        </p:blipFill>
        <p:spPr>
          <a:xfrm>
            <a:off x="0" y="5400720"/>
            <a:ext cx="9144000" cy="22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tential for Synergies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84726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Joined-Up Agricultural &amp; Social Protection Poli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85480" y="2174760"/>
            <a:ext cx="864396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conomic Grow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oduc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[Small] farm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stry of Ag (&amp;FS?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G/DEV + AIDCO/E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conomi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verlook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45080" y="2174760"/>
            <a:ext cx="4284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elf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ra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tu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stry of Social Welf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CHO + AIDCO/E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lavour of the Mon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CF51F-295C-4DC7-BB0C-1A2AE930973C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tential for Synergies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84726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Joined-Up Agricultural &amp; Social Protection Poli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85480" y="2174760"/>
            <a:ext cx="864396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Agriculture as a motor for pro-poor develo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oduc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[Small] farm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stry of Ag (&amp;FS?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G/DEV + AIDCO/E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conomi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verlook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45080" y="2174760"/>
            <a:ext cx="4284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ra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tu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stry of Social Welf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CHO + AIDCO/E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lavour of the Mon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E3955-42D4-45F0-AA21-232780FAECF8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tential for Synergies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84726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Joined-Up Agricultural &amp; Social Protection Poli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5480" y="2174760"/>
            <a:ext cx="864396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Agriculture as a motor for pro-poor develo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Productivity-enhancing social prot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[Small] farm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stry of Ag (&amp;FS?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G/DEV + AIDCO/E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conomi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verlook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5080" y="2174760"/>
            <a:ext cx="4284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tu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stry of Social Welf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CHO + AIDCO/E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lavour of the Mon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F08EF-92D4-402D-B0F6-765D58009817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tential for Synergies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84726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Joined-Up Agricultural &amp; Social Protection Poli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85480" y="2174760"/>
            <a:ext cx="864396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Agriculture as a motor for pro-poor develo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Productivity-enhancing social prot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Assisting the rural (and urban) po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stry of Ag (&amp;FS?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G/DEV + AIDCO/E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conomi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verlook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45080" y="2174760"/>
            <a:ext cx="4284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stry of Social Welf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CHO + AIDCO/E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lavour of the Mon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E24DD-DD76-4529-9DBB-84FE5A56FC05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tential for Synergies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84726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Joined-Up Agricultural &amp; Social Protection Poli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85480" y="2174760"/>
            <a:ext cx="864396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Agriculture as a motor for pro-poor develo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Productivity-enhancing social prot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Assisting the rural (and urban) po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Through Government-owned national program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G/DEV + AIDCO/E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conomi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verlook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45080" y="2174760"/>
            <a:ext cx="4284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CHO + AIDCO/E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lavour of the Mon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BAC1B-8E58-434E-946C-CA69D8D9BB5D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tential for Synergies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84726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Joined-Up Agricultural &amp; Social Protection Poli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85480" y="2174760"/>
            <a:ext cx="864396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Agriculture as a motor for pro-poor develo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Productivity-enhancing social prot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Assisting the rural (and urban) po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Through Government-owned national program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Supported by the EC (and other donor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conomi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verlook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45080" y="2174760"/>
            <a:ext cx="4284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lavour of the Mon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FB9F9-16AB-4A38-9751-3C232B573CEB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5a67"/>
                </a:solidFill>
                <a:latin typeface="Verdana"/>
              </a:rPr>
              <a:t>Potential for Synergies</a:t>
            </a:r>
            <a:endParaRPr b="1" lang="en-US" sz="2400" spc="-1" strike="noStrike">
              <a:solidFill>
                <a:srgbClr val="405a67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84726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Joined-Up Agricultural &amp; Social Protection Poli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85480" y="2174760"/>
            <a:ext cx="864396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Agriculture as a motor for pro-poor develo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Productivity-enhancing social prot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Assisting the rural (and urban) po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Through Government-owned national program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Supported by the EC (and other donor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Creating comprehensive socio-economic develo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verlook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45080" y="2174760"/>
            <a:ext cx="4284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lavour of the Mon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Slide Number Placeholder 6"/>
          <p:cNvSpPr/>
          <p:nvPr/>
        </p:nvSpPr>
        <p:spPr>
          <a:xfrm>
            <a:off x="685800" y="6397560"/>
            <a:ext cx="1905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70BBA-51C9-447D-B4EB-0D7E398B5BDF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4T07:31:47Z</dcterms:created>
  <dc:creator>John Rook</dc:creator>
  <dc:description/>
  <dc:language>en-US</dc:language>
  <cp:lastModifiedBy>x55b078</cp:lastModifiedBy>
  <dcterms:modified xsi:type="dcterms:W3CDTF">2010-07-13T07:16:20Z</dcterms:modified>
  <cp:revision>128</cp:revision>
  <dc:subject/>
  <dc:title>PowerPoint Presentation</dc:title>
</cp:coreProperties>
</file>