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FBB7-10B8-4962-8319-A35ABE99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C927-72FA-4899-AFBE-75F6670547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344-5E81-4D32-9164-F61091AF1B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F138752A-0339-4011-ACE4-BDE5453D51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227B-254B-4DAE-A7E0-40215B5B7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A68B-B082-4DA1-B28D-DC073304A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62D8-2925-4B4B-A711-4CEF488C2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C140-C0BF-4D12-94A4-E55F8101E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B954-81F2-4F71-8779-21A04508D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5441-4052-4E12-97E4-ED81CB3A7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DB92-8713-4747-99DD-76524B7F2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75A1-5DBE-44B6-9001-58AB59410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C231-99B5-477C-BE68-851C81AF5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BE81-D8E2-405B-8C1A-FD22DA432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4E89-DA36-448C-B6A9-86B80FC23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ED5F-C80C-4001-B27B-CA5FFB214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9843-7D8A-451F-814D-91943AFF577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1763640" y="6218280"/>
            <a:ext cx="600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86040" y="2499840"/>
            <a:ext cx="56246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ssion 3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gricultural Growth &amp;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Transfers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: 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5143320"/>
            <a:ext cx="85726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Seminar on hot topics in agri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Bruxelles, 12-14 July 201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714240"/>
            <a:ext cx="381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itle 2"/>
          <p:cNvSpPr/>
          <p:nvPr/>
        </p:nvSpPr>
        <p:spPr>
          <a:xfrm>
            <a:off x="3071880" y="407196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Nicholas Free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Based on balanced allocation of budgetary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A378-0E5B-4C19-80D0-C08360D0C1D7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10"/>
          <p:cNvSpPr/>
          <p:nvPr/>
        </p:nvSpPr>
        <p:spPr>
          <a:xfrm>
            <a:off x="500040" y="857160"/>
            <a:ext cx="5572080" cy="5357880"/>
          </a:xfrm>
          <a:prstGeom prst="roundRect">
            <a:avLst>
              <a:gd name="adj" fmla="val 25963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ounded Rectangle 9"/>
          <p:cNvSpPr/>
          <p:nvPr/>
        </p:nvSpPr>
        <p:spPr>
          <a:xfrm>
            <a:off x="3429000" y="857160"/>
            <a:ext cx="5143680" cy="5357880"/>
          </a:xfrm>
          <a:custGeom>
            <a:avLst/>
            <a:gdLst>
              <a:gd name="textAreaLeft" fmla="*/ 390960 w 5143680"/>
              <a:gd name="textAreaRight" fmla="*/ 4752720 w 5143680"/>
              <a:gd name="textAreaTop" fmla="*/ 390960 h 5357880"/>
              <a:gd name="textAreaBottom" fmla="*/ 4966920 h 5357880"/>
            </a:gdLst>
            <a:ahLst/>
            <a:rect l="textAreaLeft" t="textAreaTop" r="textAreaRight" b="textAreaBottom"/>
            <a:pathLst>
              <a:path w="21600" h="22499">
                <a:moveTo>
                  <a:pt x="5608" y="0"/>
                </a:moveTo>
                <a:arcTo wR="5608" hR="5608" stAng="16200000" swAng="-5400000"/>
                <a:lnTo>
                  <a:pt x="0" y="16891"/>
                </a:lnTo>
                <a:arcTo wR="5608" hR="5608" stAng="10800000" swAng="-5400000"/>
                <a:lnTo>
                  <a:pt x="15992" y="22499"/>
                </a:lnTo>
                <a:arcTo wR="5608" hR="5608" stAng="5400000" swAng="-5400000"/>
                <a:lnTo>
                  <a:pt x="21600" y="5608"/>
                </a:lnTo>
                <a:arcTo wR="5608" hR="5608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3920" y="928800"/>
            <a:ext cx="72867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nd re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-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p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 subsi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GR/pric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ublic 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h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od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ool m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. fe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3200" y="928800"/>
            <a:ext cx="4827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4257-CE86-4D19-9E96-92C436CB4BE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42960" y="30718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286680" y="288756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 rot="16200000">
            <a:off x="-2473920" y="3300480"/>
            <a:ext cx="55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oorest                                  Least Po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Straight Arrow Connector 15"/>
          <p:cNvCxnSpPr/>
          <p:nvPr/>
        </p:nvCxnSpPr>
        <p:spPr>
          <a:xfrm flipV="1">
            <a:off x="356040" y="2356560"/>
            <a:ext cx="1080" cy="271548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" name="TextBox 20"/>
          <p:cNvSpPr/>
          <p:nvPr/>
        </p:nvSpPr>
        <p:spPr>
          <a:xfrm rot="16200000">
            <a:off x="5986080" y="34437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rovision      Prevention     Pro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Straight Arrow Connector 22"/>
          <p:cNvCxnSpPr/>
          <p:nvPr/>
        </p:nvCxnSpPr>
        <p:spPr>
          <a:xfrm flipH="1" flipV="1">
            <a:off x="8786160" y="428544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Straight Arrow Connector 25"/>
          <p:cNvCxnSpPr/>
          <p:nvPr/>
        </p:nvCxnSpPr>
        <p:spPr>
          <a:xfrm flipH="1" flipV="1">
            <a:off x="8786160" y="242820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AND REFORM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facilitate access to credit as collat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allow exit from agriculture through s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benefit for landl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or benefit for small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impacts on excluded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increase vulnerability of sell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2E26-B584-4FA5-9A12-C96FFEADA44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FRASTRUCTUR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sts of transport/com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nsum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as towards commercial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by-pass poores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apit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 maintenance/ deteri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03B2-D912-4E7D-9F58-8ED41BECC14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ICRO-CREDIT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comes critica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s income and agric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est won’t take the risk of 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defa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0CC-0EBF-4678-A4A1-85F1695473F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ROP INSURANC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s investment in higher retur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well suited to small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many successful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92F-B503-494F-BA3F-C27C1B49E2D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PUT SUBSIDIE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ck-start pro-poor growth (eg As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benefits captured by the better-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efficient use of inp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kage across bor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cash transfer to the poo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lude those without land or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A2E-17D5-472C-9D34-093C61C91C9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GR/PRICE CONTROL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price vola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motes food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impact of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xed impact of high/ low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our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political intere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stabilisation role of private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7FAD-D873-4BCA-A67B-22CDFBC1B7E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UBLIC WORK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2174760"/>
            <a:ext cx="42861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useful assets/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househol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timulate labour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uld be demand- not supply-driven (NREG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sible multiplier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on-farm labour avail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lf”-targeting excludes those without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ow market wage rates perpetuate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t benefit is mar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5EE6-9FD3-4B97-8BF6-B02B07D32E9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SSET TRAN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agric assets and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divers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ulnerability of asset to loss/th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for training and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may be sold before investment is maxim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B7FD-CE90-429C-BAD2-A74253F8311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parate Policy Domains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gricultural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5480" y="2174760"/>
            <a:ext cx="42116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7ADC-BF78-438D-88D6-81425395663E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ASH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buy local food, stimulates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s health, agric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plier effects in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nger of inflation in weak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reduced value of transfer if prices r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C64-84EA-489E-B7EE-DD49E9D8880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OOD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can support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health and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’l purchase is disincentive to local produ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iangular purchase may shift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may create inflation and distort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wd out private sector trade/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088E-D3BF-4C3F-9150-A15F678ADFC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CHOOL MEAL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earning out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t intergenerational transmission of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ong-term quality of agric/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undermine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trans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sion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300E-4C54-4A6F-9ACE-6C7F0B0B65D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RAPEUTIC FEEDING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d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tential for local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9600-92C3-4B19-8212-1BD0DA3A673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“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ix Point Policy Agenda”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(Devereux, 2009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680" y="1500120"/>
            <a:ext cx="82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t inputs to farmers on time and at affordable pr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engthen rural markets to stabilise commodity prices, especially of staple fo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 essential rural infrastructure and enabling institu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ure vulnerable farmers against agricultural risk, for instance with innovative mechanisms such as weather‑indexed insurance schemes and guaranteed employment legis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e away from imported food aid towards local sourcing and/or cash transfers wherever local markets and cultural contexts (specifically gender relations) permit th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lare a moratorium on small‑scale ‘pilot projects’ and support permanent national social protection programmes that are integrated into broader agricultural and development poli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E5FB-ABD6-4DDB-B239-949976D129E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90EB-2B45-486A-A447-7B28736F09E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6CEC-524C-443B-AEDB-9B12A5D0555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BA05-BFE3-4BEE-B96E-1F18941B960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7158-9416-46F0-A9BA-55CF8569FF8D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769E-6668-47A4-9597-8E341C683B8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59F-136F-4942-9A77-1A96645152A0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FF2A-BC7B-469B-A6F3-87820221D4D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7:31:47Z</dcterms:created>
  <dc:creator>John Rook</dc:creator>
  <dc:description/>
  <dc:language>en-US</dc:language>
  <cp:lastModifiedBy>Nicholas Freeland</cp:lastModifiedBy>
  <dcterms:modified xsi:type="dcterms:W3CDTF">2010-06-09T10:18:23Z</dcterms:modified>
  <cp:revision>125</cp:revision>
  <dc:subject/>
  <dc:title>PowerPoint Presentation</dc:title>
</cp:coreProperties>
</file>