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D893-50D4-42D5-BA91-34AC7A0C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D3C-8248-47BD-B55D-BC7D36B2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D73-83BF-476F-8FCB-482B7761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28A-661E-4E43-A345-1B82F3C5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2E84-45E3-4DCF-9A1C-A3DD8E1E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789-1C90-4FFA-B92F-9984FAA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8DF-6669-4296-BEEF-731B3CD3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850F-577D-4977-AA4E-4FB5362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F0E1-EAE4-4964-B7B3-3E0C91D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ABE9-1236-4E7E-9FEC-1A8E7D16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97E-146F-44B4-8101-2C5A930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DED-78C0-42CC-908C-FBD74E4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AE1-3255-4074-81EE-2450E535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DEA5-9CCB-48A5-9C9C-AF969793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AAB-FC7A-4C71-A348-29FFE3B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7490-C1CB-444D-9217-151DD322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33F4-601C-41B9-86F7-F79187FB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3A4-80CC-4BC4-BA97-BD7D807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900-CAC6-4185-A377-4C4C63A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B3A-1EBC-4B09-B786-E3AEFA1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037-F267-41DD-81A1-F96B728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721-C261-4228-90C5-A4AD0F0E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F71-6497-411D-96BE-5D76D786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4D3-6226-4A10-9BB5-ECA75D37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EA2F-71F1-40FB-8B86-EBC0EE15F1C0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FC3-1EE1-425A-9C35-DFA65A899BD6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lbgd.ec.europa.e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gdupdwa.gov.bd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eminar on Hot Topics in Agriculture</a:t>
            </a:r>
            <a:br>
              <a:rPr sz="2400"/>
            </a:b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12 – 14 July 2010, Brussel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4221000"/>
            <a:ext cx="70880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Koen Duchatea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Head of Rural Development Section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European Union - Delegation to Bangladesh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delbgd.ec.europa.eu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3c72"/>
                </a:solidFill>
                <a:latin typeface="Verdana"/>
              </a:rPr>
              <a:t>13 July 2010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4360" y="2708280"/>
            <a:ext cx="77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3366"/>
                </a:solidFill>
                <a:latin typeface="Arial"/>
              </a:rPr>
              <a:t>Case study on cash transfers Banglades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E8D-018E-495F-B3CA-E0DA804B378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financial means to sustain themselves through the 2-year cycle and build up savings: EUR4 per month: EUR 3.5 cash, EUR 0.5 saving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 beneficiaries with the means (skills, assets, linkages, etc.) to engage in sustainable IGAs (petty trade, tailoring, food catering and processing, livestock production, home gardening, tree nurseries, …): EUR 75 for asset during the 2-year cyc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 nutritional status and food intake and enhance human and social capital: trainings on social status, prevailing forces of social discrimination, gender equity, legal and human rights, primary health care and nutrition, and special women’s health issu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5655-F916-441E-B378-CF117BA22B2B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selection of beneficiaries: close control and verification necessary (including by Deleg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onthly payment converted into 2-monthly: delays with bank transactions, transaction costs, higher amount paid out at once (EUR 7) sufficient to start with small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luctance of local banks to process fund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terference in purchase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lay between IGA trainings and handover of asse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IGA trainings varying among NG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eak capacity of DWA, despite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irect link between income levels and nutrition unclea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w Food &amp; Livelihoods Security proje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A14-9109-46FB-8FCC-EDEDDA223AB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Government and EC have a long experience in employment generation through creation and maintenance of public assets as a means to increase access to food for </a:t>
            </a:r>
            <a:r>
              <a:rPr b="0" lang="fr-FR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vulnerable group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Rural Maintenance Programme (RMP): nation-wide food security, poverty alleviation and livelihood enhancement programme benefiting 42,000 destitute women through a labour intensive Cash-for-Work maintenance programme for several thousand km of rural earthen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73F9-31BC-4F92-ACF6-16FC2F8D5C3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24,444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UP women nominated by local authori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ividual verification of UP eligibility by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ottery among final list of eligible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wo 2-year cycles, with “graduation” out of ultra poverty of beneficiary after her 2-year cyc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88 Unions in 41 sub-districts of 6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7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Local Government Division (LGD) under the Ministry of Local Government, Rural Development &amp; Cooperativ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ed through UNDP and local NGO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nsures usability of rural roa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955-F2B2-4C2D-91B9-4CA11609B3E4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contribute to the long term sustainable socio-economic development </a:t>
            </a:r>
            <a:r>
              <a:rPr b="0" lang="fr-FR" sz="1800" spc="-1" strike="noStrike">
                <a:solidFill>
                  <a:srgbClr val="103c72"/>
                </a:solidFill>
                <a:latin typeface="Verdana"/>
              </a:rPr>
              <a:t>of rural Banglades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creased income of destitute women and landless poor by providing employ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2. Improved public assets for the benefit of rural commun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3. Strengthened Local Government Institutions for better response to pro-poor grow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FB6-A46A-4C14-823D-D1F62E8B1B8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000" y="836640"/>
            <a:ext cx="75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Activ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03c72"/>
                </a:solidFill>
                <a:latin typeface="Verdana"/>
              </a:rPr>
              <a:t>Rural Road Maintenanc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30+30 destitute women per Union are employed as Women Crew Groups (WCG) in two 2-year cycles (6 days per week, 6 hours per day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Payment of EUR 1 per day of which EUR 0.70 is cash and EUR 0.30 is forced savings (&gt; EUR 200 after 24 months) for livelihood us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03c72"/>
                </a:solidFill>
                <a:latin typeface="Verdana"/>
              </a:rPr>
              <a:t>2-weekly bank transfer to individual bank accoun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Each employment cycle will maintain 30 km earthen roads per Un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Mainly widowed, divorced and abandoned women are selected locally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Training on health issues, rights &amp; empowerment, entrepreneurship, etc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Linkages with service providing agencie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03c72"/>
                </a:solidFill>
                <a:latin typeface="Verdana"/>
              </a:rPr>
              <a:t>Capacity strengthening activities for Local Government Institut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1F84-3D40-4995-8FE5-A7C04F31478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Mid-Term Evaluation took place early 2010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Effectiven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 improvement in financial status and reduction in vulnerabi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dditional voluntary savings from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food security (quantitiy and qualit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health, nutrition, hygiene &amp; sanitation pract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social capital (mobility, awareness,…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etter school attendance of childr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Impac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Women actively plan their futur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roups converted into ROSCA’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mproved nutritional qual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mpowere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linkage with basic local serv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31E-357B-4BEF-B440-EBF37D057E09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REOPA MT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Challen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Quality of road maintenance below standard (sustainability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onger involvement needed of local government in monitor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imeliness of payments of wag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 “graduates” to local microfinancing institutio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F2F-A760-4C50-8324-B98AC8F41C88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E-pay: a step forward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In a pilot phase in Bangladesh (Government old age allowance payment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posi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Based on SMART-card system with fingerprint recogni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Linked to omni-present mobile phone net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liminates all sorts of interference and delays between source of funds and beneficia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ignificantly reduces fund “leakage” </a:t>
            </a:r>
            <a:r>
              <a:rPr b="0" lang="en-US" sz="18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 blockage of innovation by intermediar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Facilitates supervision &amp; control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Real time update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3c72"/>
                </a:solidFill>
                <a:latin typeface="Verdana"/>
              </a:rPr>
              <a:t>Some negative asp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Needs substantial investment in technolog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Depends on local availability of payment cen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A4A-7F13-4525-BAF7-0ACBD88DD89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dependent since 1971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: &gt; 1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growth rate: 1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rban population: 26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and area: 145,000 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pulation density: &gt; 1,000/km2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uge river delta: Ganges, Brahmaputr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real growth rate 2009: 5.7 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DP sha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Agriculture 1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dustry 2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14400" indent="-45720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ervices 52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2ED-CBF0-44C5-BE53-26F406C7C5C1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Some data o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60% employed in agriculture (some part time only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Known for cyclones, floods, ferry disasters, fir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ne of the Most CC Vulnerable Countr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or: 6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ltra-poor: 4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Life expectancy at birth: 66 yea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fant mortality: 43/1,000 live birth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U5 child malnutrition: 41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ccess to improved water source: 80% (As issu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15 literacy: 5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ross primary enrollment: &gt;90% (male &amp; femal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3B16-4C52-4466-BFC5-5B093E8BBBC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Extreme poverty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7088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Quarter of the population lives in extreme poverty, is chronically underfed and is highly vulnerable to shocks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link between food security and livelihoo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Global food price hike had serious impact on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engthen social protection mechanisms for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afety net programmes play an important role in improving food security and protecting &amp; expanding the asset bases of poor households, but need to become more effici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ase of food and cash transf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106B-209D-4CAB-A9C9-FDED228DE783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Food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70880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the past frequently used under social transfers, but now more limited to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(VGD): Government monthly ration for card holde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elief following disasters (including by ECHO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ype of food: usually rice, sometimes micronutrient fortified whole-wheat flour, sometimes fortified biscuits (school feeding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almost exclusively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s income increases, beneficiaries’ preference for food transfers decrea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n Bangladesh markets usually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A348-D1C3-47E4-B0A7-BC21DB114A4C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Cash transfers in Bangladesh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ral programmes ongoing in Bangladesh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cus on 2 ongoing EU-funded conditional cash transfer projects (partially decentralised)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ulnerable Group Development for the Ultra-Poor (VGDUP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vgdupdwa.gov.b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Rural Employment Opportunities for Public Assets (REOPA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 group: exclusively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721-0A7F-4388-A3F4-5E45150B324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486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1341000"/>
            <a:ext cx="7088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story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FADEP 1996-2000: Integrated Food-Assisted Development Projec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Best use of food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FSVGD 2001-2006: Food Security Vulnerable Group Development </a:t>
            </a:r>
            <a:r>
              <a:rPr b="0" lang="en-US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 Support development of asset-less women through best use of food and cash transfer as development too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essons learned integrated into VGDUP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974-672D-49AB-BDBE-5D4437F1B5F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4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981000"/>
            <a:ext cx="708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argeting 80,000 ultra-poor wome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Owning less than 10 decimal land (0.04 ha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ownership of productive asset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No active adult male household memb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Employment, if any, limited to day-labouring or domestic help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1085760" indent="-34272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he household is de facto headed by a women (divorced, abandoned, widow, unmarried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36 sub-districts of 8 distr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U co-funding: EUR 20 mill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artially decentralised to the Department of Women Affairs (DWA) under the Ministry of Women and Children Affai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4 implementing NGOs contracted through DW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ose involvement of local govern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EC3C-07AC-4B79-A5D6-2281A7965CA5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Verdana"/>
              </a:rPr>
              <a:t>VGDUP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Overall objectiv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o improve the quality of life and enhance the productive income generating opportunities of VGD wome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03c72"/>
                </a:solidFill>
                <a:uFillTx/>
                <a:latin typeface="Verdana"/>
              </a:rPr>
              <a:t>Project purpos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vided life skill training on IGAs as well as on Nutrition, Primary Health, Human Rights, AIDS, Reproductive Health, Gender and Right issues, Environment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ubsistence, asset transfer and savings creation to engage in self employed IGA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Strengthened DWA human resources through TA and trai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Enhanced capabilities of NGOs and local government to implement and monitor sustainable life-improvement and income-generating projec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883-CCE2-443B-BDB7-CAE5DBBDE740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Desiree Dietvorst</cp:lastModifiedBy>
  <dcterms:modified xsi:type="dcterms:W3CDTF">2010-06-25T13:26:49Z</dcterms:modified>
  <cp:revision>208</cp:revision>
  <dc:subject/>
  <dc:title>Slide 1</dc:title>
</cp:coreProperties>
</file>