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A42-F902-4F45-A189-3220500B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098-B50A-4509-BD18-97D4ECE6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78F-3A42-46B0-8693-B7159227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FA0-EB12-4604-B77D-72834AD6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BE24-1987-4939-AD9F-11B910D9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44D8-41C6-48CA-936E-A0860F1B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3FAD-554A-4C96-948D-24616B4B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8F4-09D2-403F-B73C-3638640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6C2C-6224-4B13-AD6A-D1EDE1B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02FB-E84A-4183-A15D-243D6F6E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F68-0449-4AA7-8347-8B2F236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CFE-EDC1-41DE-BB76-42FB536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F99C-873C-4CAF-9F09-6D11A2B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2518-D749-4B72-9680-A8E7C8A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00AE-A2ED-46E4-B09C-D6344CE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F409-2B9C-426E-9623-A63A85E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17D8-D11B-4F8D-B0D8-928AD308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108-239A-404B-82B8-28494E0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802-885B-40A6-B4E6-0A41B136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6F1-6DFB-479F-A8B1-AF597DF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DCA-F6A1-4380-B82E-983DE27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AB1-F69D-49EA-95B2-048A8CD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BB6-BFA3-489B-A29B-E466319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55D-EB4F-44F1-9688-F6E5BB8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E736-1054-4674-9214-AE94D972E62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728-5F91-42D2-9B48-4C02E15AD5B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lbgd.ec.europa.e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gdupdwa.gov.bd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eminar on Hot Topics in Agriculture</a:t>
            </a:r>
            <a:br>
              <a:rPr sz="2400"/>
            </a:b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12 – 14 July 2010, Brusse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4221000"/>
            <a:ext cx="70880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Koen Duchatea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Head of Rural Development Section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European Union - Delegation to Bangladesh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delbgd.ec.europa.e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13 July 2010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4360" y="270828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Case study on cash transfers Banglades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B11-8851-4DD2-8DDF-363A5DE24A7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financial means to sustain themselves through the 2-year cycle and build up savings: EUR4 per month: EUR 3.5 cash, EUR 0.5 saving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means (skills, assets, linkages, etc.) to engage in sustainable IGAs (petty trade, tailoring, food catering and processing, livestock production, home gardening, tree nurseries, …): EUR 75 for asset during the 2-year cyc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 nutritional status and food intake and enhance human and social capital: trainings on social status, prevailing forces of social discrimination, gender equity, legal and human rights, primary health care and nutrition, and special women’s health issu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F1D-BE98-46B7-AD78-E18F0A84615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selection of beneficiaries: close control and verification necessary (including by Deleg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onthly payment converted into 2-monthly: delays with bank transactions, transaction costs, higher amount paid out at once (EUR 7) sufficient to start with small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luctance of local banks to process fund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purchase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lay between IGA trainings and handover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IGA trainings varying among NG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eak capacity of DWA, despite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irect link between income levels and nutrition unclea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w Food &amp; Livelihoods Security proje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90C5-0071-4E41-B3B4-6B39F1B04B1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Government and EC have a long experience in employment generation through creation and maintenance of public assets as a means to increase access to food for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vulnerable grou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Rural Maintenance Programme (RMP): nation-wide food security, poverty alleviation and livelihood enhancement programme benefiting 42,000 destitute women through a labour intensive Cash-for-Work maintenance programme for several thousand km of rural earthen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DA8-2ED7-4752-94DA-B45B308F2AF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24,444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UP women nominated by local authori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ividual verification of UP eligibility by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ottery among final list of eligible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wo 2-year cycles, with “graduation” out of ultra poverty of beneficiary after her 2-year cyc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88 Unions in 41 sub-districts of 6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7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Local Government Division (LGD) under the Ministry of Local Government, Rural Development &amp; Coopera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ed through UNDP and local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sures usability of rural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47D-2F4C-4935-834A-3BF59898984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contribute to the long term sustainable socio-economic development </a:t>
            </a:r>
            <a:r>
              <a:rPr b="0" lang="fr-FR" sz="1800" spc="-1" strike="noStrike">
                <a:solidFill>
                  <a:srgbClr val="103c72"/>
                </a:solidFill>
                <a:latin typeface="Verdana"/>
              </a:rPr>
              <a:t>of rural Banglades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creased income of destitute women and landless poor by providing employ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. Improved public assets for the benefit of rural commun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3. Strengthened Local Government Institutions for better response to pro-poor grow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EE28-BC0E-4735-A019-1688B37E74A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000" y="83664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03c72"/>
                </a:solidFill>
                <a:latin typeface="Verdana"/>
              </a:rPr>
              <a:t>Rural Road Maintenanc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30+30 destitute women per Union are employed as Women Crew Groups (WCG) in two 2-year cycles (6 days per week, 6 hours per day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Payment of EUR 1 per day of which EUR 0.70 is cash and EUR 0.30 is forced savings (&gt; EUR 200 after 24 months) for livelihood us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2-weekly bank transfer to individual bank accou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Each employment cycle will maintain 30 km earthen roads per Un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Mainly widowed, divorced and abandoned women are selected locall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Training on health issues, rights &amp; empowerment, entrepreneurship, et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Linkages with service providing agenc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Capacity strengthening activities for Local Government Institut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085D-F763-4F0B-9FBF-763DD9CB2358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 took place early 201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Effectiven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 improvement in financial status and reduction in vulnerabi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dditional voluntary savings from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food security (quantitiy and qua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health, nutrition, hygiene &amp; sanitation pract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social capital (mobility, awareness,…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school attendance of childr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Imp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omen actively plan their futu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roups converted into ROSCA’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nutritional qua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mpowere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linkage with basic local serv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A36E-FF06-4468-9981-2FA75F6B738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road maintenance below standard (sustainability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onger involvement needed of local government in monitor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imeliness of payments of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 “graduates” to local microfinancing institu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D613-B015-4C6A-B194-B5C105C3C18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E-pay: a step forward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 a pilot phase in Bangladesh (Government old age allowance pay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posi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ased on SMART-card system with fingerprint recogn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ed to omni-present mobile phone net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liminates all sorts of interference and delays between source of funds and beneficia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ly reduces fund “leakage” </a:t>
            </a:r>
            <a:r>
              <a:rPr b="0" lang="en-US" sz="18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 blockage of innovation by intermediar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Facilitates supervision &amp; contro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al time update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nega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eds substantial investment in technolo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pends on local availability of payment cen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723F-DD0E-4A60-BE98-2BB70421F5C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dependent since 197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: &gt; 1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growth rate: 1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rban population: 26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and area: 145,000 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density: &gt; 1,000/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uge river delta: Ganges, Brahmaputr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real growth rate 2009: 5.7 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sha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Agriculture 1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ustry 2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ervices 52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9A6-99C8-4482-8337-D692C2588A6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60% employed in agriculture (some part time onl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Known for cyclones, floods, ferry disasters, fir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ne of the Most CC Vulnerable Countr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or: 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ltra-poor: 4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ife expectancy at birth: 66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fant mortality: 43/1,000 live birth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5 child malnutrition: 41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ccess to improved water source: 80% (As issu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15 literacy: 5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ross primary enrollment: &gt;90% (male &amp; femal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17F-90A4-4504-9FD8-AF5D5B7401B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Extreme povert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Quarter of the population lives in extreme poverty, is chronically underfed and is highly vulnerable to shock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link between food security and livelihoo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lobal food price hike had serious impact on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engthen social protection mechanisms for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afety net programmes play an important role in improving food security and protecting &amp; expanding the asset bases of poor households, but need to become more effici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se of food and cash transf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0B5-B1D1-4C05-BFE2-EB09514BC42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Food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the past frequently used under social transfers, but now more limited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(VGD): Government monthly ration for card hold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lief following disasters (including by ECHO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ype of food: usually rice, sometimes micronutrient fortified whole-wheat flour, sometimes fortified biscuits (school feeding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almost exclusively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s income increases, beneficiaries’ preference for food transfers decrea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Bangladesh markets usually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6755-F78D-4968-96BC-4587937CDFD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Cash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ral programmes ongoing in Banglades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cus on 2 ongoing EU-funded conditional cash transfer projects (partially decentralise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for the Ultra-Poor (VGDUP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vgdupdwa.gov.b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ural Employment Opportunities for Public Assets (REOP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exclusively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CAD-4661-41BE-87E8-8FB32CFC373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FADEP 1996-2000: Integrated Food-Assisted Development Projec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Best use of food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FSVGD 2001-2006: Food Security Vulnerable Group Developmen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Support development of asset-less women through best use of food and cash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essons learned integrated into VGD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BD6E-2C98-40F4-A6D3-6346A7690A5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80,000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Owning less than 10 decimal land (0.04 ha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ownership of productive asse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active adult male household memb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Employment, if any, limited to day-labouring or domestic help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he household is de facto headed by a women (divorced, abandoned, widow, unmarried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6 sub-districts of 8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Department of Women Affairs (DWA) under the Ministry of Women and Children Affai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4 implementing NGOs contracted through DW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DD2-A277-4CBC-8C2A-E6B5E504563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improve the quality of life and enhance the productive income generating opportunities of VG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d life skill training on IGAs as well as on Nutrition, Primary Health, Human Rights, AIDS, Reproductive Health, Gender and Right issues, Environment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ubsistence, asset transfer and savings creation to engage in self employed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engthened DWA human resources through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nhanced capabilities of NGOs and local government to implement and monitor sustainable life-improvement and income-generating proj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A10-CE89-4BEB-B4B6-C6E1ADC93602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Desiree Dietvorst</cp:lastModifiedBy>
  <dcterms:modified xsi:type="dcterms:W3CDTF">2010-06-25T13:26:49Z</dcterms:modified>
  <cp:revision>208</cp:revision>
  <dc:subject/>
  <dc:title>Slide 1</dc:title>
</cp:coreProperties>
</file>