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C05-EB2E-45AC-B3CC-3634CC0E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341-F5EE-4A7C-915D-2019C4E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FF1-18E8-43BA-971C-DE803CEA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344-BB14-4350-96D4-1323E687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86E-5C9C-4802-9A18-21D2C41C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FE43-18C8-411B-B343-77FB70D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1562-0E75-4036-B770-B31027C1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B564-25B6-4A05-9D93-A302395C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454-2DC6-435D-9F18-ACC7092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D6E-0A67-4B08-86C5-62E76B3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889C-A717-4BA6-83E7-DED902C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B3B-3A3C-49B9-92BA-3C58F0E7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699-624C-421E-9402-DB33F97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8AAE-AD91-487D-ADD4-010920D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2F8-0D51-4EA9-81DC-17E24ACE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D349-1660-43B4-AF9C-2287517D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0552-87A5-43B7-AEBA-04B2D965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705-8F3A-4EFA-9EA1-DED6D2D4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CF2-1DCC-43F1-8971-0B2B380C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35C-944F-4ADB-B351-DF2494F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994-9AA4-43FB-84D5-3297E05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F11-D986-4414-BDD9-C027FBE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9C6-E0A2-4448-AB54-23BCC4A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240-71F2-4685-957C-E9CE8B0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2B97-27FC-4EE6-BF54-61B9FC685A0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8C0-2DA1-46A6-AF33-6A8BF20DD60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lbgd.ec.europa.e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gdupdwa.gov.bd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eminar on Hot Topics in Agriculture</a:t>
            </a:r>
            <a:br>
              <a:rPr sz="2400"/>
            </a:b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12 – 14 July 2010, Brusse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4221000"/>
            <a:ext cx="70880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Koen Duchateau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Head of Rural Development Section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European Union - Delegation to Bangladesh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delbgd.ec.europa.eu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13 July 2010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4360" y="270828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Case study on cash transfers Banglades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DAE-A8D5-48B7-BB7E-0E9F8983D388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 beneficiaries with the financial means to sustain themselves through the 2-year cycle and build up savings: EUR4 per month: EUR 3.5 cash, EUR 0.5 saving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 beneficiaries with the means (skills, assets, linkages, etc.) to engage in sustainable IGAs (petty trade, tailoring, food catering and processing, livestock production, home gardening, tree nurseries, …): EUR 75 for asset during the 2-year cyc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 nutritional status and food intake and enhance human and social capital: trainings on social status, prevailing forces of social discrimination, gender equity, legal and human rights, primary health care and nutrition, and special women’s health issu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91EF-ADB0-432B-81D6-3C0DCF1CE232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Challen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terference in selection of beneficiaries: close control and verification necessary (including by Deleg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onthly payment converted into 2-monthly: delays with bank transactions, transaction costs, higher amount paid out at once (EUR 7) sufficient to start with small IGA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Reluctance of local banks to process fund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terference in purchase of ass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elay between IGA trainings and handover of ass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Quality of IGA trainings varying among NG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Weak capacity of DWA, despite TA and trai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irect link between income levels and nutrition unclea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id-Term Evalu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New Food &amp; Livelihoods Security proje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4E2A-9CF3-4E5E-B3BD-5D01FEC45A2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stor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Government and EC have a long experience in employment generation through creation and maintenance of public assets as a means to increase access to food for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vulnerable group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Rural Maintenance Programme (RMP): nation-wide food security, poverty alleviation and livelihood enhancement programme benefiting 42,000 destitute women through a labour intensive Cash-for-Work maintenance programme for several thousand km of rural earthen roa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7DC-C084-4692-A6F4-F1EDF2271FF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088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ing 24,444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UP women nominated by local authori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dividual verification of UP eligibility by NGO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ottery among final list of eligible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wo 2-year cycles, with “graduation” out of ultra poverty of beneficiary after her 2-year cyc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388 Unions in 41 sub-districts of 6 distr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U co-funding: EUR 27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rtially decentralised to the Local Government Division (LGD) under the Ministry of Local Government, Rural Development &amp; Coopera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ed through UNDP and local NGO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involvement of local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sures usability of rural roa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3AD-0477-4651-BEA0-C9E95463547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o contribute to the long term sustainable socio-economic development </a:t>
            </a:r>
            <a:r>
              <a:rPr b="0" lang="fr-FR" sz="1800" spc="-1" strike="noStrike">
                <a:solidFill>
                  <a:srgbClr val="103c72"/>
                </a:solidFill>
                <a:latin typeface="Verdana"/>
              </a:rPr>
              <a:t>of rural Banglades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Project purpos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creased income of destitute women and landless poor by providing employ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2. Improved public assets for the benefit of rural commun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3. Strengthened Local Government Institutions for better response to pro-poor grow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B4AF-2722-4AEA-A21B-9B6387EB1914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000" y="836640"/>
            <a:ext cx="75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03c72"/>
                </a:solidFill>
                <a:latin typeface="Verdana"/>
              </a:rPr>
              <a:t>Rural Road Maintenanc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30+30 destitute women per Union are employed as Women Crew Groups (WCG) in two 2-year cycles (6 days per week, 6 hours per day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Payment of EUR 1 per day of which EUR 0.70 is cash and EUR 0.30 is forced savings (&gt; EUR 200 after 24 months) for livelihood us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2-weekly bank transfer to individual bank accou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Each employment cycle will maintain 30 km earthen roads per Un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Mainly widowed, divorced and abandoned women are selected locall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Training on health issues, rights &amp; empowerment, entrepreneurship, et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Linkages with service providing agenc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Capacity strengthening activities for Local Government Institut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566-8984-4A2B-ABD1-2CBFB44A8CF8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 MT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id-Term Evaluation took place early 2010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Effectiven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ignificant improvement in financial status and reduction in vulnerabi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dditional voluntary savings from wa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food security (quantitiy and qua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etter health, nutrition, hygiene &amp; sanitation pract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social capital (mobility, awareness,…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etter school attendance of childr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Imp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Women actively plan their futu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roups converted into ROSCA’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nutritional qua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mpowered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linkage with basic local serv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7316-FA7A-408D-9DA8-18E12C20D15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 MT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Challen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Quality of road maintenance below standard (sustainability?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tronger involvement needed of local government in monitor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imeliness of payments of wa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Link “graduates” to local microfinancing institu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E893-B4BF-4D63-8A5D-C97A5E63C1C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E-pay: a step forward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 a pilot phase in Bangladesh (Government old age allowance pay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3c72"/>
                </a:solidFill>
                <a:latin typeface="Verdana"/>
              </a:rPr>
              <a:t>Some posit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ased on SMART-card system with fingerprint recogn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Linked to omni-present mobile phone net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liminates all sorts of interference and delays between source of funds and beneficia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ignificantly reduces fund “leakage” </a:t>
            </a:r>
            <a:r>
              <a:rPr b="0" lang="en-US" sz="18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 blockage of innovation by intermediar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Facilitates supervision &amp; contro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Real time updates possi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3c72"/>
                </a:solidFill>
                <a:latin typeface="Verdana"/>
              </a:rPr>
              <a:t>Some negat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Needs substantial investment in technolo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epends on local availability of payment cen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04F-5318-4648-9F3E-9ADAD257463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ome data o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7088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dependent since 197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: &gt; 16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 growth rate: 1.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rban population: 26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and area: 145,000 km2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 density: &gt; 1,000/km2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uge river delta: Ganges, Brahmaputr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DP real growth rate 2009: 5.7 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DP share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Agriculture 1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dustry 2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ervices 52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3AE7-0F10-4E26-8BE2-591E9CD01D4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ome data o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70880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60% employed in agriculture (some part time onl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Known for cyclones, floods, ferry disasters, fir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ne of the Most CC Vulnerable Countr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or: 6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ltra-poor: 4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ife expectancy at birth: 66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fant mortality: 43/1,000 live birth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5 child malnutrition: 41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ccess to improved water source: 80% (As issu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15 literacy: 53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ross primary enrollment: &gt;90% (male &amp; femal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FDA7-D99F-4163-B7FA-7F95836A866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Extreme povert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7088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Quarter of the population lives in extreme poverty, is chronically underfed and is highly vulnerable to shock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link between food security and livelihoo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lobal food price hike had serious impact on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engthen social protection mechanisms for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afety net programmes play an important role in improving food security and protecting &amp; expanding the asset bases of poor households, but need to become more effici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se of food and cash transf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3A9E-9902-4624-A766-56B9A841201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Food transfers i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7088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the past frequently used under social transfers, but now more limited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ulnerable Group Development (VGD): Government monthly ration for card hold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elief following disasters (including by ECHO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ype of food: usually rice, sometimes micronutrient fortified whole-wheat flour, sometimes fortified biscuits (school feeding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group: almost exclusively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s income increases, beneficiaries’ preference for food transfers decrea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Bangladesh markets usually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2963-9D7F-4547-9AE3-3EA32B58AB25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Cash transfers i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ral programmes ongoing in Banglades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cus on 2 ongoing EU-funded conditional cash transfer projects (partially decentralise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ulnerable Group Development for the Ultra-Poor (VGDUP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vgdupdwa.gov.b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ural Employment Opportunities for Public Assets (REOP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group: exclusively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EF2-51CA-4BE2-B45A-883662575774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stor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FADEP 1996-2000: Integrated Food-Assisted Development Project </a:t>
            </a:r>
            <a:r>
              <a:rPr b="0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 Best use of food transfer as development too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FSVGD 2001-2006: Food Security Vulnerable Group Development </a:t>
            </a:r>
            <a:r>
              <a:rPr b="0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 Support development of asset-less women through best use of food and cash transfer as development too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essons learned integrated into VGD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BA9-C3BC-4E3E-85A7-701D1B05857A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08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ing 80,000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Owning less than 10 decimal land (0.04 ha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No ownership of productive asse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No active adult male household memb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Employment, if any, limited to day-labouring or domestic help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he household is de facto headed by a women (divorced, abandoned, widow, unmarried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36 sub-districts of 8 distr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U co-funding: EUR 2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rtially decentralised to the Department of Women Affairs (DWA) under the Ministry of Women and Children Affai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4 implementing NGOs contracted through DW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involvement of local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9CB3-A098-42E0-914A-0B77A6AD9A5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o improve the quality of life and enhance the productive income generating opportunities of VGD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Project purpos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d life skill training on IGAs as well as on Nutrition, Primary Health, Human Rights, AIDS, Reproductive Health, Gender and Right issues, Environment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ubsistence, asset transfer and savings creation to engage in self employed IGA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trengthened DWA human resources through TA and trai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nhanced capabilities of NGOs and local government to implement and monitor sustainable life-improvement and income-generating proj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F406-25AE-480E-B889-541B34E2C20A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Desiree Dietvorst</cp:lastModifiedBy>
  <dcterms:modified xsi:type="dcterms:W3CDTF">2010-06-25T13:26:49Z</dcterms:modified>
  <cp:revision>208</cp:revision>
  <dc:subject/>
  <dc:title>Slide 1</dc:title>
</cp:coreProperties>
</file>