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8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359CC-1418-4BC6-A8F2-B054401D62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5248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237600" y="4390560"/>
            <a:ext cx="6264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0" y="41108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576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9168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83360" y="162828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09168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83360" y="4110840"/>
            <a:ext cx="29440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7840" indent="0" algn="ctr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7840" algn="ctr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5760" y="411084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024200"/>
            <a:ext cx="9144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760" y="1628280"/>
            <a:ext cx="4462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4110840"/>
            <a:ext cx="914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1258920" y="0"/>
              <a:ext cx="1258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248436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6"/>
            <a:stretch/>
          </p:blipFill>
          <p:spPr>
            <a:xfrm>
              <a:off x="3708360" y="0"/>
              <a:ext cx="125892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7"/>
            <a:stretch/>
          </p:blipFill>
          <p:spPr>
            <a:xfrm>
              <a:off x="4932360" y="0"/>
              <a:ext cx="125892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8"/>
            <a:stretch/>
          </p:blipFill>
          <p:spPr>
            <a:xfrm>
              <a:off x="4284720" y="6453360"/>
              <a:ext cx="576360" cy="38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10"/>
            <a:stretch/>
          </p:blipFill>
          <p:spPr>
            <a:xfrm>
              <a:off x="6156360" y="0"/>
              <a:ext cx="129528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11"/>
            <a:srcRect l="1959" t="4326" r="15167" b="6452"/>
            <a:stretch/>
          </p:blipFill>
          <p:spPr>
            <a:xfrm>
              <a:off x="7451640" y="3240"/>
              <a:ext cx="1368360" cy="97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12"/>
            <a:stretch/>
          </p:blipFill>
          <p:spPr>
            <a:xfrm>
              <a:off x="8825040" y="0"/>
              <a:ext cx="318960" cy="98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8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2" marL="184320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3" marL="225108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4" marL="265896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5" marL="265896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6" marL="2658960" indent="-2286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187280" y="6524640"/>
            <a:ext cx="6697800" cy="307080"/>
            <a:chOff x="1187280" y="6524640"/>
            <a:chExt cx="6697800" cy="307080"/>
          </a:xfrm>
        </p:grpSpPr>
        <p:sp>
          <p:nvSpPr>
            <p:cNvPr id="15" name=""/>
            <p:cNvSpPr/>
            <p:nvPr/>
          </p:nvSpPr>
          <p:spPr>
            <a:xfrm>
              <a:off x="1187280" y="6524640"/>
              <a:ext cx="29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BE" sz="1400" spc="-1" strike="noStrike">
                  <a:solidFill>
                    <a:srgbClr val="ffffff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32360" y="6524640"/>
              <a:ext cx="29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BE" sz="1400" spc="-1" strike="noStrike">
                  <a:solidFill>
                    <a:srgbClr val="ffffff"/>
                  </a:solidFill>
                  <a:latin typeface="Arial"/>
                </a:rPr>
                <a:t>Commis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199"/>
              </a:lnSpc>
              <a:spcBef>
                <a:spcPts val="1899"/>
              </a:spcBef>
              <a:spcAft>
                <a:spcPts val="21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24e"/>
                </a:solidFill>
                <a:latin typeface="Lucida Sans Unicode"/>
              </a:rPr>
              <a:t>Farmer Organisations and Rural Development -</a:t>
            </a:r>
            <a:br>
              <a:rPr sz="2800"/>
            </a:br>
            <a:r>
              <a:rPr b="0" lang="en-US" sz="2800" spc="-1" strike="noStrike">
                <a:solidFill>
                  <a:srgbClr val="10024e"/>
                </a:solidFill>
                <a:latin typeface="Lucida Sans Unicode"/>
              </a:rPr>
              <a:t>EC policy views, with special reference to food security</a:t>
            </a:r>
            <a:endParaRPr b="0" lang="en-US" sz="28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66" name=""/>
          <p:cNvSpPr/>
          <p:nvPr/>
        </p:nvSpPr>
        <p:spPr>
          <a:xfrm>
            <a:off x="5940360" y="4797360"/>
            <a:ext cx="2879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10024e"/>
                </a:solidFill>
                <a:latin typeface="Century Gothic"/>
              </a:rPr>
              <a:t>Wim Olth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10024e"/>
                </a:solidFill>
                <a:latin typeface="Century Gothic"/>
              </a:rPr>
              <a:t>DG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10024e"/>
                </a:solidFill>
                <a:latin typeface="Century Gothic"/>
              </a:rPr>
              <a:t>Brussels, 13 Jul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BE" sz="2000" spc="-1" strike="noStrike">
                <a:solidFill>
                  <a:srgbClr val="004c00"/>
                </a:solidFill>
                <a:latin typeface="Garamond (W1)"/>
              </a:rPr>
              <a:t>	</a:t>
            </a:r>
            <a:r>
              <a:rPr b="0" i="1" lang="fr-BE" sz="2000" spc="-1" strike="noStrike">
                <a:solidFill>
                  <a:srgbClr val="004c00"/>
                </a:solidFill>
                <a:latin typeface="Garamond (W1)"/>
              </a:rPr>
              <a:t>	</a:t>
            </a:r>
            <a:r>
              <a:rPr b="0" i="1" lang="fr-BE" sz="2000" spc="-1" strike="noStrike">
                <a:solidFill>
                  <a:srgbClr val="004c00"/>
                </a:solidFill>
                <a:latin typeface="Garamond (W1)"/>
              </a:rPr>
              <a:t>	</a:t>
            </a:r>
            <a:r>
              <a:rPr b="0" i="1" lang="fr-BE" sz="2000" spc="-1" strike="noStrike">
                <a:solidFill>
                  <a:srgbClr val="004c00"/>
                </a:solidFill>
                <a:latin typeface="Garamond (W1)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869000"/>
            <a:ext cx="141624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00"/>
                </a:solidFill>
                <a:latin typeface="Century Gothic"/>
              </a:rPr>
              <a:t>Supporting FOs (2)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 algn="ctr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‘</a:t>
            </a: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Support to Farmers Organisations in Africa’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Euro 5 million, FSTP financed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3-years, 2009-2011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Capacity building of four regional farmer organisations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EAFF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PROPAC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ROPPA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SACAU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Through IFAD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IFAD as co-financer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Link with Farmers Forum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00"/>
                </a:solidFill>
                <a:latin typeface="Century Gothic"/>
              </a:rPr>
              <a:t>Supporting FOs (3)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 algn="ctr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‘</a:t>
            </a: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Support to Farmers Organisations in Africa’ (cont’d)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Two objective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Strengthen capacity in management, accounting, financial control, governance, communication, networking etc.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Strengthen role played by FOs in articulation and implementation of policies and programme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Demand-driven -&gt; long inception phase – preparation of programmes of work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Activities at national, regional and pan-African level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36 NFO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3 countries with duplicate NFO-RFO relations (Burundi, DRC, Tanzania)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00"/>
                </a:solidFill>
                <a:latin typeface="Century Gothic"/>
              </a:rPr>
              <a:t>Supporting FOs (4)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06240" indent="0" algn="ctr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‘</a:t>
            </a: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Support to Farmers Organisations in Africa’ (cont’d)- </a:t>
            </a: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Examples of support activitie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06240" indent="-433800">
              <a:lnSpc>
                <a:spcPts val="2200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800"/>
                </a:solidFill>
                <a:uFillTx/>
                <a:latin typeface="Century Gothic"/>
              </a:rPr>
              <a:t>Area 1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391760" indent="-43380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Regional: knowledge management; service delivery to NFOs; strategic planning; hiring strategic staff; office equipment; training (of NFOs); consultation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391760" indent="-43380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National: constitutional texts; strategic, institutional plans; membership management; hiring staff (e.g. accounting, information, resource mobilisation); office equipment; office overheads; training (staff, representatives); consultation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606240" indent="-433800">
              <a:lnSpc>
                <a:spcPts val="2200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800"/>
                </a:solidFill>
                <a:uFillTx/>
                <a:latin typeface="Century Gothic"/>
              </a:rPr>
              <a:t>Area 2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391760" indent="-43380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Regional: studies &amp; analysis; policy consultations; training on lobbying and advocacy; hiring of lobbyists; monitoring of policy implementation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391760" indent="-433800">
              <a:lnSpc>
                <a:spcPts val="1998"/>
              </a:lnSpc>
              <a:spcBef>
                <a:spcPts val="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National: studies &amp; analysis; training on lobbying and advocacy; participation on policy meetings, communication; monitoring of policy implementation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391760" indent="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391760" indent="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391760" indent="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00"/>
                </a:solidFill>
                <a:latin typeface="Century Gothic"/>
              </a:rPr>
              <a:t>Supporting FOs (4)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 algn="ctr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Farmers Fighting Poverty (FFP)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Managed by AGRICORD; Link with IFAP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No EU support yet, but MS (part. NL)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Implemented by agri-agencies, in close collaboration with producer organisation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mall projects, submitted by FOs; demand-driven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Activities focus on strengthening of FOs as service providers to their members and on practical solutions to agricultural problem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Links Northern and Southern FO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00"/>
                </a:solidFill>
                <a:latin typeface="Century Gothic"/>
              </a:rPr>
              <a:t>Some Considerations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Sustainability of FO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Accountability; financial management key to attracting fund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Needs to be ‘rooted’; useful in serving members’ interest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Advocacy/Representation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Extensive consultation mechanisms needed; costly in terms of time and finance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Direct or Indirect service provision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Facilitation role (access to other service providers) may work better than direct provision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773360"/>
            <a:ext cx="91440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24e"/>
                </a:solidFill>
                <a:latin typeface="Century Gothic"/>
              </a:rPr>
              <a:t>Structure of the presentation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036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10024e"/>
                </a:solidFill>
                <a:latin typeface="Century Gothic"/>
                <a:ea typeface="Arial"/>
              </a:rPr>
              <a:t>Role of Farmer organisations in Rural Development</a:t>
            </a: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10024e"/>
                </a:solidFill>
                <a:latin typeface="Century Gothic"/>
                <a:ea typeface="Arial"/>
              </a:rPr>
              <a:t>EC Communication on Food Security</a:t>
            </a: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10024e"/>
                </a:solidFill>
                <a:latin typeface="Century Gothic"/>
                <a:ea typeface="Arial"/>
              </a:rPr>
              <a:t>Policy Lines on Farmer Organisations and Food security</a:t>
            </a: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10024e"/>
                </a:solidFill>
                <a:latin typeface="Century Gothic"/>
                <a:ea typeface="Arial"/>
              </a:rPr>
              <a:t>Supporting Farmers Organisations</a:t>
            </a: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4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24e"/>
                </a:solidFill>
                <a:latin typeface="Century Gothic"/>
              </a:rPr>
              <a:t>Roles of FOs in Rural Development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0024e"/>
                </a:solidFill>
                <a:latin typeface="Century Gothic"/>
              </a:rPr>
              <a:t>1. Service Providers (direct/indirect)</a:t>
            </a:r>
            <a:endParaRPr b="0" lang="en-US" sz="28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Input provision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Rural Finance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0024e"/>
                </a:solidFill>
                <a:latin typeface="Century Gothic"/>
              </a:rPr>
              <a:t>2. Advocacy</a:t>
            </a:r>
            <a:endParaRPr b="0" lang="en-US" sz="28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National policy debates, policy formulation, 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Regional policy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International debates 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10024e"/>
                </a:solidFill>
                <a:latin typeface="Century Gothic"/>
              </a:rPr>
              <a:t>3. Development Partner</a:t>
            </a:r>
            <a:endParaRPr b="0" lang="en-US" sz="28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Community Organisation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1001"/>
              </a:spcAft>
              <a:buClr>
                <a:srgbClr val="10024e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10024e"/>
                </a:solidFill>
                <a:latin typeface="Arial"/>
              </a:rPr>
              <a:t>Policy/programme/project Implementation</a:t>
            </a:r>
            <a:endParaRPr b="0" lang="en-US" sz="20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800"/>
                </a:solidFill>
                <a:latin typeface="Century Gothic"/>
              </a:rPr>
              <a:t>Levels of FOs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1628640"/>
          <a:ext cx="9144000" cy="4795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Roles &amp;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Grassroo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District/provin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National (platfor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1, 2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Regional/Inter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ts val="2200"/>
                        </a:lnSpc>
                        <a:spcBef>
                          <a:spcPts val="99"/>
                        </a:spcBef>
                        <a:spcAft>
                          <a:spcPts val="2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4800"/>
                          </a:solidFill>
                          <a:latin typeface="Century Gothic"/>
                        </a:rPr>
                        <a:t>2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24e"/>
                </a:solidFill>
                <a:latin typeface="Century Gothic"/>
              </a:rPr>
              <a:t>EC Communication on Food Security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COM(2010)127 – An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EU Policy Framework to assist developing countries in addressing food security challenge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Adopted 31 March 2010, endorsed by Council on 10 May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Policy framework covering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EU and its Member States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; 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Implementation plan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 being prepared with more concrete actions, expected results and indicator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Stronger focus on countries off-track in reaching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MDG1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Hunger predominantly rural</a:t>
            </a: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 -&gt; need to address agriculture (small scale) and rural economy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24e"/>
                </a:solidFill>
                <a:latin typeface="Century Gothic"/>
              </a:rPr>
              <a:t>EC Communication on Food Security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Four priority areas</a:t>
            </a: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00cc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improving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resilience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 of small-scale farmers and rural livelihoods; 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00cc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effective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governance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 of agriculture and food security;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00cc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regional 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agricultural and food security policies; and 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35040" indent="-45720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Clr>
                <a:srgbClr val="00cc00"/>
              </a:buClr>
              <a:buSzPct val="8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strengthening assistance mechanisms for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vulnerable population groups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24e"/>
                </a:solidFill>
                <a:latin typeface="Century Gothic"/>
              </a:rPr>
              <a:t>EC Communication on Food Security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ts val="2200"/>
              </a:lnSpc>
              <a:spcBef>
                <a:spcPts val="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Policy lines include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601"/>
              </a:spcAft>
              <a:buClr>
                <a:srgbClr val="00cc00"/>
              </a:buClr>
              <a:buSzPct val="8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A focus on support for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ecologically efficient agricultural intensification for smallholder farmers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601"/>
              </a:spcAft>
              <a:buClr>
                <a:srgbClr val="00cc00"/>
              </a:buClr>
              <a:buSzPct val="8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A substantial increase in support to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demand-led agricultural research for development, extension and innovation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, aiming to reach 50% increase by 2015; 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601"/>
              </a:spcAft>
              <a:buClr>
                <a:srgbClr val="00cc00"/>
              </a:buClr>
              <a:buSzPct val="8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Support national and international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initiatives for the definition of principles and codes of conduct governing sustainable large scale domestic and foreign investments in farm land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, focusing on the protection of land rights, secure access to land and other natural resources for smallholder farmers….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601"/>
              </a:spcAft>
              <a:buClr>
                <a:srgbClr val="00cc00"/>
              </a:buClr>
              <a:buSzPct val="8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Support to the reform of the </a:t>
            </a:r>
            <a:r>
              <a:rPr b="1" lang="en-GB" sz="2400" spc="-1" strike="noStrike">
                <a:solidFill>
                  <a:srgbClr val="004800"/>
                </a:solidFill>
                <a:latin typeface="Century Gothic"/>
              </a:rPr>
              <a:t>Committee on Food Security</a:t>
            </a: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48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2" name=""/>
          <p:cNvSpPr/>
          <p:nvPr/>
        </p:nvSpPr>
        <p:spPr>
          <a:xfrm>
            <a:off x="-3317760" y="3243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24e"/>
                </a:solidFill>
                <a:latin typeface="Century Gothic"/>
              </a:rPr>
              <a:t>Policy Lines on FOs and Food Security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4800"/>
                </a:solidFill>
                <a:uFillTx/>
                <a:latin typeface="Century Gothic"/>
              </a:rPr>
              <a:t>Two quotes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Actively support greater participation of civil society and farmer organisations </a:t>
            </a: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in policy making and research programmes </a:t>
            </a: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and increase their involvement</a:t>
            </a: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 in the implementation and evaluation</a:t>
            </a: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 of government programmes. In this context linkages between EU farmer organisations and those from developing countries should be promoted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[on land:] Governments in partner countries, farmer organisations and other stakeholders </a:t>
            </a:r>
            <a:r>
              <a:rPr b="1" lang="en-US" sz="2400" spc="-1" strike="noStrike">
                <a:solidFill>
                  <a:srgbClr val="004800"/>
                </a:solidFill>
                <a:latin typeface="Century Gothic"/>
              </a:rPr>
              <a:t>will be encouraged to make informed choices</a:t>
            </a: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 that ensure sustainability of foreign investments so as to maximise the social, economic and environmental benefits for the country.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12600">
            <a:solidFill>
              <a:srgbClr val="0048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24e"/>
                </a:solidFill>
                <a:latin typeface="Century Gothic"/>
              </a:rPr>
              <a:t>Supporting FO’s</a:t>
            </a:r>
            <a:endParaRPr b="0" lang="en-US" sz="3200" spc="-1" strike="noStrike">
              <a:solidFill>
                <a:srgbClr val="0048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In various countries (e.g. EDF financed):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sometimes general sometimes crop-specific (cotton, sugar, other commodities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lvl="1" marL="1434960" indent="-44748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a00"/>
                </a:solidFill>
                <a:latin typeface="Arial"/>
              </a:rPr>
              <a:t>Service provision functions and Policy/strategy development involvement (e.g. in framework AAACP programme)</a:t>
            </a: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Through CTA: beneficiaries of/partners in CTA activities (around information and communication management)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Through IFAD (Africa) - SFOAP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marL="625320" indent="-447480">
              <a:lnSpc>
                <a:spcPts val="2200"/>
              </a:lnSpc>
              <a:spcBef>
                <a:spcPts val="99"/>
              </a:spcBef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800"/>
                </a:solidFill>
                <a:latin typeface="Century Gothic"/>
              </a:rPr>
              <a:t>Possibly (?): farmers fighting poverty</a:t>
            </a:r>
            <a:endParaRPr b="0" lang="en-US" sz="2400" spc="-1" strike="noStrike">
              <a:solidFill>
                <a:srgbClr val="004800"/>
              </a:solidFill>
              <a:latin typeface="Century Gothic"/>
            </a:endParaRPr>
          </a:p>
          <a:p>
            <a:pPr lvl="1" marL="1434960" indent="0">
              <a:lnSpc>
                <a:spcPts val="1998"/>
              </a:lnSpc>
              <a:spcBef>
                <a:spcPts val="99"/>
              </a:spcBef>
              <a:spcAft>
                <a:spcPts val="20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1a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5:39:03Z</dcterms:created>
  <dc:creator>zicosva</dc:creator>
  <dc:description/>
  <dc:language>en-US</dc:language>
  <cp:lastModifiedBy>x55b078</cp:lastModifiedBy>
  <dcterms:modified xsi:type="dcterms:W3CDTF">2010-07-13T14:26:31Z</dcterms:modified>
  <cp:revision>149</cp:revision>
  <dc:subject/>
  <dc:title>EU DEVELOPMENT POLICY  FOOD SECURITY</dc:title>
</cp:coreProperties>
</file>