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521-1C31-41A7-9352-5994B5CE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081-D073-4364-970C-793AB43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004-A193-45A5-ADA3-B8BC464A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2FA-01CC-4776-A2C8-0B6A5217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9B5C-378D-4C05-87D5-E0C80386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999F-0544-4960-B47F-AD65EA3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C9DF-3D7C-486A-84C1-3661935A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938C-3E62-4B4F-9311-3773A151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21AC-8172-44B5-B34A-63900C88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2407-A8B2-4938-8A03-3E196F0C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6D7C-6D4E-4091-B508-FA80889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DD7-2877-44A2-AFD3-8BCE8E34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63D1-CFB7-42A4-9B64-2886A73C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BFEF-23BE-4EBF-A106-969A045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7A40-7315-4D3E-9634-9F347D15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3EA0-52BC-41DF-9663-050D2A13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F972-43D1-4092-8890-5459F072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AFE-1718-4DDC-B3C7-F820B469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6B5-0B6A-4171-8AEB-13261D06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F8E-EB80-4CEF-9E61-7BFA33CF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7EE-3426-4E4B-B706-9EBAD005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16C-4228-4C1A-B842-32CB7352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153-8DB2-48D5-B7FC-37F2E5A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9D9-D077-44FB-9A05-7DA55E7A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12E7-B1B7-434D-864E-FA3B9711F1A2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7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12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11" name="Rectangle 13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13" name="Rectangle 15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" name="Group 18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17" name="Rectangle 19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19" name="Rectangle 21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6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8783640" y="0"/>
            <a:ext cx="360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8294760" y="682560"/>
            <a:ext cx="863640" cy="1224000"/>
            <a:chOff x="8294760" y="682560"/>
            <a:chExt cx="863640" cy="1224000"/>
          </a:xfrm>
        </p:grpSpPr>
        <p:sp>
          <p:nvSpPr>
            <p:cNvPr id="60" name="Rectangle 9"/>
            <p:cNvSpPr/>
            <p:nvPr/>
          </p:nvSpPr>
          <p:spPr>
            <a:xfrm>
              <a:off x="8294760" y="161928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8294760" y="115092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8294760" y="682560"/>
              <a:ext cx="863640" cy="287280"/>
            </a:xfrm>
            <a:prstGeom prst="rect">
              <a:avLst/>
            </a:prstGeom>
            <a:solidFill>
              <a:srgbClr val="f3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103c72"/>
                  </a:solidFill>
                  <a:latin typeface="Century Gothic"/>
                </a:rPr>
                <a:t>EuropeAi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2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4"/>
          <p:cNvGrpSpPr/>
          <p:nvPr/>
        </p:nvGrpSpPr>
        <p:grpSpPr>
          <a:xfrm>
            <a:off x="8294760" y="0"/>
            <a:ext cx="863640" cy="6858000"/>
            <a:chOff x="8294760" y="0"/>
            <a:chExt cx="863640" cy="6858000"/>
          </a:xfrm>
        </p:grpSpPr>
        <p:sp>
          <p:nvSpPr>
            <p:cNvPr id="66" name="Rectangle 15"/>
            <p:cNvSpPr/>
            <p:nvPr/>
          </p:nvSpPr>
          <p:spPr>
            <a:xfrm>
              <a:off x="8783640" y="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6"/>
            <p:cNvGrpSpPr/>
            <p:nvPr/>
          </p:nvGrpSpPr>
          <p:grpSpPr>
            <a:xfrm>
              <a:off x="8294760" y="682560"/>
              <a:ext cx="863640" cy="1224000"/>
              <a:chOff x="8294760" y="682560"/>
              <a:chExt cx="863640" cy="1224000"/>
            </a:xfrm>
          </p:grpSpPr>
          <p:sp>
            <p:nvSpPr>
              <p:cNvPr id="68" name="Rectangle 17"/>
              <p:cNvSpPr/>
              <p:nvPr/>
            </p:nvSpPr>
            <p:spPr>
              <a:xfrm>
                <a:off x="8294760" y="161928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8"/>
              <p:cNvSpPr/>
              <p:nvPr/>
            </p:nvSpPr>
            <p:spPr>
              <a:xfrm>
                <a:off x="8294760" y="115092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9"/>
              <p:cNvSpPr/>
              <p:nvPr/>
            </p:nvSpPr>
            <p:spPr>
              <a:xfrm>
                <a:off x="8294760" y="682560"/>
                <a:ext cx="863640" cy="287280"/>
              </a:xfrm>
              <a:prstGeom prst="rect">
                <a:avLst/>
              </a:prstGeom>
              <a:solidFill>
                <a:srgbClr val="c1ce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Group 20"/>
          <p:cNvGrpSpPr/>
          <p:nvPr/>
        </p:nvGrpSpPr>
        <p:grpSpPr>
          <a:xfrm>
            <a:off x="8280360" y="4680"/>
            <a:ext cx="863640" cy="6858000"/>
            <a:chOff x="8280360" y="4680"/>
            <a:chExt cx="863640" cy="6858000"/>
          </a:xfrm>
        </p:grpSpPr>
        <p:sp>
          <p:nvSpPr>
            <p:cNvPr id="72" name="Rectangle 21"/>
            <p:cNvSpPr/>
            <p:nvPr/>
          </p:nvSpPr>
          <p:spPr>
            <a:xfrm>
              <a:off x="8769240" y="4680"/>
              <a:ext cx="36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2"/>
            <p:cNvGrpSpPr/>
            <p:nvPr/>
          </p:nvGrpSpPr>
          <p:grpSpPr>
            <a:xfrm>
              <a:off x="8280360" y="687240"/>
              <a:ext cx="863640" cy="1224000"/>
              <a:chOff x="8280360" y="687240"/>
              <a:chExt cx="863640" cy="1224000"/>
            </a:xfrm>
          </p:grpSpPr>
          <p:sp>
            <p:nvSpPr>
              <p:cNvPr id="74" name="Rectangle 23"/>
              <p:cNvSpPr/>
              <p:nvPr/>
            </p:nvSpPr>
            <p:spPr>
              <a:xfrm>
                <a:off x="8280360" y="162396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24"/>
              <p:cNvSpPr/>
              <p:nvPr/>
            </p:nvSpPr>
            <p:spPr>
              <a:xfrm>
                <a:off x="8280360" y="115560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25"/>
              <p:cNvSpPr/>
              <p:nvPr/>
            </p:nvSpPr>
            <p:spPr>
              <a:xfrm>
                <a:off x="8280360" y="687240"/>
                <a:ext cx="863640" cy="287280"/>
              </a:xfrm>
              <a:prstGeom prst="rect">
                <a:avLst/>
              </a:prstGeom>
              <a:solidFill>
                <a:srgbClr val="e2a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2a6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ffffff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ffffff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058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B307-9AFE-47DD-B931-AA69A9FF00CA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00"/>
                </a:solidFill>
                <a:latin typeface="Verdana"/>
              </a:rPr>
              <a:t>SEMINAR ON HOT TOPICS IN AGRICULTURE</a:t>
            </a:r>
            <a:br>
              <a:rPr sz="2800"/>
            </a:br>
            <a:r>
              <a:rPr b="1" lang="fr-BE" sz="2800" spc="-1" strike="noStrike">
                <a:solidFill>
                  <a:srgbClr val="ffff00"/>
                </a:solidFill>
                <a:latin typeface="Verdana"/>
              </a:rPr>
              <a:t>12 to 14 July 2010 , Brussels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84000" y="4292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upporting Farmers’ organis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ase study from Ivory Coast, Yves GILLET, EU Del 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CONCLUSIONS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Few levels of representative FOs, with trained members and professional leaders and a true respect of well known rule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Adequate, sustainable and affordable advisory services mainly financed true reasonable levie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Limited role of the State not interfering on busines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Creation of a balanced « INTERPROFESSIONAL BODY » for each commodity chai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e2a600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9920" indent="-1699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THANK YOU FOR YOUR KIND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Verdana"/>
              </a:rPr>
              <a:t>ATTENTIO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Supporting Farmers’ organisa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Case study from Ivory Coast, Yves GILLET, EU Del C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69920" indent="-169920"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CONTEXT &amp; INTRODUCTION (1) Agriculture in Ivory Coast 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IVC contributes for nearly 40 % of the regional economy of WAEMU (UEMOA) and is 2</a:t>
            </a:r>
            <a:r>
              <a:rPr b="0" lang="fr-BE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 country of ECOWAS after Nigeria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Main part of economic weight coming from agricultur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Based on « commodity chains » : cocoa-coffee, rubber, palm oil, coton, cashew nut, sugar, fruit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Most cash crops produced by a large number of small farmers who produce also food crop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IVC is « de facto » splitted in 2 « zones » and still considered as a « post crisis » country even though quite good economic growt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CONTEXT &amp; INTRODUCTION (2) Agriculture &amp; FOs in IVC 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« Parapublic &amp; public » institutions still predominant and heavily involved at different levels in the chains despite liberalisation &amp; privatisation in the 90s (i.e. coffee-cocoa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Disengagement of State from agric. services &amp; investments to create the enabling env., poor policy framework and lack of regulatory role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Strong presence of private industrial sector (production, collection, transport, transformation, export &amp; even sometimes extension and oth. Agric. services) and upstream actors (inputs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FOs in IVC (1): description, strengths &amp; weakenesses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Due to more « modern » agriculture, old &amp; strong tradition of different types of FOs (cooperatives, FAs, FGs, « faîtières ») of variable size, governance, representativeness, managerial capacity and professionalis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Very much linked to the « commodities »: coffee-cocoa (-), palm oil &amp; rubber (+), coton-cashew nut (+/-), food crops (+=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Legislative framework exists &amp; allows FOs be present &amp; involved at all levels of the chain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Several layers from small groups (&lt;10 members) to « zonal » cooperatives &amp; national « faîtières 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FOs in IVC (2): strengths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rue « commodity chains », most of them profitable &amp; generating quite a lot of money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Producers &amp; FOs aware about « market oriented &amp; modernisation of agriculture », open minded, agricultural inputs importanc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Aware about their weight, their financing capacity, and inescapable importance in the chain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Demanding for independant strenghtened advisory services (extension and R&amp;D) and ready to pay for it (at the right cost ?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Interested to a greater vertical integration in the transformation chain (capital share holders, owners of gineries, inputs importers, etc…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2720" indent="-1627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FOs in IVC (3): weakenesses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Governance problems and too many layer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Poor representativeness of small producers’ interests mainly in regional &amp; national FO bodies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Lack of management capacity and knowledge of FOs functionning (general assembly meeting, auditing, rights &amp; obligations, internal rules, reporting, …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Lack of professionalism in general both on technical and financial aspect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Lack of independance (overreliance on State interventions and subsidies) and still a lot of ministries’ interference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Lack of sector strategies and polici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FOs in IVC (4): weakenesses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Lack of adequate, sustainable and affordable advisory services &amp; client oriented research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Difficult access to credit and agric. Input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oo many intermediaries, all paid at small producers’ expense whatever is the world market price (weakest part of the chain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Difficult for efficient FOs  to find the right balance between the size and effectiveness: the bigger the more influent you are but the less producers’ ownership you have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So what 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Lessons learnt, to be learnt &amp; restructuring of FOs in IVC (1)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oo many layers produce dilution of effectiveness, increase of costs and discouraging levies: if possible 2 or maximum 3 levels between the producers and the national « faîtière » and balanced levies between the main actors of the chain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Lack of governance and capacity at FOs’ leaders and members levels lead to lack of appropriation and confidence by the small producers and creation of parallel structures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he more the State is interfering on the production and management the less effective is the chai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2a600"/>
                </a:solidFill>
                <a:latin typeface="Verdana"/>
              </a:rPr>
              <a:t>Lessons learnt, to be learnt &amp; restructuring of FOs in IVC (2)</a:t>
            </a:r>
            <a:endParaRPr b="1" lang="en-US" sz="2800" spc="-1" strike="noStrike">
              <a:solidFill>
                <a:srgbClr val="e2a6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he role of the State should concentrate on producing the appropriate sector strategies and policies, on the regulatory aspects and the rules’ resp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he public sector in general should concentrate on the enabling environement: transport and markets infrastructures, rural energy, appropriate legislation, support to co-finance the advisory services and applied research; training in general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77120" indent="-177120">
              <a:lnSpc>
                <a:spcPts val="2798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he 3 main groups of actors (producers + upstream and downstream levels) should form a balanced « tripod » of equal power with the State as referee if needed and accepted by the tripod fe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7:31:41Z</dcterms:created>
  <dc:creator>monacro</dc:creator>
  <dc:description/>
  <dc:language>en-US</dc:language>
  <cp:lastModifiedBy>Yves GILLET</cp:lastModifiedBy>
  <dcterms:modified xsi:type="dcterms:W3CDTF">2010-07-12T15:44:53Z</dcterms:modified>
  <cp:revision>34</cp:revision>
  <dc:subject/>
  <dc:title>Slide 1</dc:title>
</cp:coreProperties>
</file>