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AE55-BAC7-4C69-BE69-53F49CC28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0DC9-C8BF-4A5C-9BD7-220BC10B0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9033-86CA-426D-A33C-4198FEE19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5858-64EB-4E04-B149-7963C6E4C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4A3-06A3-4469-B0C6-13A62CDD5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58F-2880-40D9-83D1-8700C2584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B16-176B-41FC-BB5D-598FAC90C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11B5-0FA7-4F3C-B3B6-BCBEE054A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98E4-02EF-41D2-A335-DCD8A9170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E47-88DF-4F38-9B6A-629A737C8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2440-77A9-460B-A309-6663F21E39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B45-9FB8-417C-A2AA-B1DFAE44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AD7-D5D5-461E-A6B1-8E8CD58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DC7-159B-43CC-9BBA-DBF42212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E5E-3AC7-478B-AA9A-FB1469FE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97E-626E-42B9-A8E1-371D023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FF5-5697-4C56-8D08-110C6313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ADD-7445-4D92-8C49-31D7F093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E83-F938-493C-9850-9D8743C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5F5-E5C2-499D-A51B-AB41BA5C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864-568B-436F-8D48-CA9D1FD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918-41A2-4F91-A389-44976E6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855-EE0C-4361-9572-D9EC5F48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B838-0BD1-41C6-B6EE-95866F8FB8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496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Towards an FAO-WFP Joint Strategy on Information Systems for Food Security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4508280"/>
            <a:ext cx="727236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posium on Information Systems for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ussels, 1-2 September, 20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628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Focus of joint FAO-WFP ISFS Strategy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36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: Complement FAO’s capacities  / Standardization of ISFS instruments and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: Support and validate the process/info/analysis information for setting regional pri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: Ensure appropriateness and sustainability of national I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1640" y="6354720"/>
          <a:ext cx="6534000" cy="50328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DF6-5FAF-4FB9-A436-32B7250EBA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628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Focus of joint FAO-WFP ISFS Strategy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360" y="112500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communic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approach to capture &amp; understand changing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communication based on understanding of user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eparation of joint products (e. g. SOFI, SO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ccessibility of products (web impro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71640" y="6354720"/>
          <a:ext cx="6534000" cy="50328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B82-58FA-4936-8B8C-B2DC3C0BDC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Next steps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 ISFS strategy presentation and review by stakeholders (28-29 Sept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Joint WFP/FAO ISFS strategy (December 20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ment by Government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E582-176D-44B5-957A-15B08A852F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Thank You!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D195-03BA-4A17-804C-4340A21CE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4617b"/>
                </a:solidFill>
                <a:latin typeface="Calibri"/>
              </a:rPr>
              <a:t>Outline 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Recommendations of the Joint Thematic Evaluation of FAO &amp; WFP IS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o develop a joint ISFS Strate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lars of FAO ISFS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f joint FAO-WFP ISFS Strate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8A2-90AB-434A-A684-6055B8444A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Key Recommendations</a:t>
            </a:r>
            <a:endParaRPr b="1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2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O and WFP should devel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ISFS strate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overall goals joint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oi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AO/WFP ISFS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sed on their identified comparative 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O and WFP sh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join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intain and strengthen their leadership in ISF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O and WFP should promote demand driven ISFS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FS support should promote long-lasting national multi-stakeholder ISFS partnership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O and WFP sh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apply a communication and advocacy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0080" y="6143760"/>
          <a:ext cx="6534360" cy="503280"/>
        </p:xfrm>
        <a:graphic>
          <a:graphicData uri="http://schemas.openxmlformats.org/drawingml/2006/table">
            <a:tbl>
              <a:tblPr/>
              <a:tblGrid>
                <a:gridCol w="65343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9" descr="faologo"/>
          <p:cNvPicPr/>
          <p:nvPr/>
        </p:nvPicPr>
        <p:blipFill>
          <a:blip r:embed="rId1"/>
          <a:stretch/>
        </p:blipFill>
        <p:spPr>
          <a:xfrm>
            <a:off x="8182080" y="6068880"/>
            <a:ext cx="654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cess to develop a joint ISFS Strategy 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74420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ment of recommendations by FAO-WFP governing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 of FAO and WFP corporate strategies on ISFS with intense consultation between the two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/workstreams established in FAO with active WFP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consultation of stakeholders through on-line forum and field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 of an ISFS Strategy document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review workshop (28-29 Sept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ollowed a joint FAO-WFP strategy by the end of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272F-63A3-4724-AF02-E21E55C24B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illars of FAO ISFS strategy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36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support – capaci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ting + Global forum for exchange on tools, methods, goo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FS assessments, analysis and 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56F9-5F54-4586-B93A-736DF18539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Global Public Good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are the building blocks of all ISFS and they are increasingly under 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focus of most products currently is food avail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ommunication of products. Not clear how to capture demand as clientele is often very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apped potential for harmonization of data bases and meta-level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mless data streams should be created, connecting historical data to short-term forecasts to long term proj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13C-E11F-4877-B543-94D2594C11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ountry Suppor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programmatic approach to capacity development and an aggressive fund-rais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ocus on sustainability of ISFS projects at the national and region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twin-track approach (short-term and long-term) at field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understanding of stakeholder decision making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definition of responsibilities (normative / operational) and better collaboration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0EF-0B66-4A9B-9D64-8A3E856240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Standard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ett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t for harmonization of FS indicators to compare the food security status across countries and sub-national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t for development of common FS tools/methods/analysis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point to manage external evaluation, organize and manage peer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joint effort to identify and disseminate good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forum for exchanging tools, methods, goo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E7B-7A45-419B-A0B8-CEAA350602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AO role as Honest Broker in FS Assessments, Analysis and Policy</a:t>
            </a:r>
            <a:endParaRPr b="1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307880"/>
            <a:ext cx="8785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utation for conducting reliable and independent FS assessments (regional and nation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ication of core set of common FS indicators for inter-agency assessments (with WFP and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ed participation in IPC like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 of emerging factors affecting 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fuel markets,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iate between regional and national inform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71640" y="6004080"/>
          <a:ext cx="6534000" cy="502920"/>
        </p:xfrm>
        <a:graphic>
          <a:graphicData uri="http://schemas.openxmlformats.org/drawingml/2006/table">
            <a:tbl>
              <a:tblPr/>
              <a:tblGrid>
                <a:gridCol w="653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dd9"/>
                          </a:solidFill>
                          <a:latin typeface="Verdana"/>
                        </a:rPr>
                        <a:t>FOOD AND AGRICULTURE ORGANIZATION OF THE UNITED N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                                   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Antique Olive Roman"/>
                        </a:rPr>
                        <a:t>helping to build a world without hunger                  </a:t>
                      </a:r>
                      <a:r>
                        <a:rPr b="1" i="1" lang="en-GB" sz="1000" spc="-1" strike="noStrike">
                          <a:solidFill>
                            <a:srgbClr val="899df3"/>
                          </a:solidFill>
                          <a:latin typeface="Verdana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9" descr="faologo"/>
          <p:cNvPicPr/>
          <p:nvPr/>
        </p:nvPicPr>
        <p:blipFill>
          <a:blip r:embed="rId1"/>
          <a:stretch/>
        </p:blipFill>
        <p:spPr>
          <a:xfrm>
            <a:off x="8153280" y="5929200"/>
            <a:ext cx="654120" cy="63504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FAA-E8E4-4DAD-B5B2-DB626D10DF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8:21:45Z</dcterms:created>
  <dc:creator>Ghanem, Hafez (ESD)</dc:creator>
  <dc:description/>
  <dc:language>en-US</dc:language>
  <cp:lastModifiedBy>Your User Name</cp:lastModifiedBy>
  <dcterms:modified xsi:type="dcterms:W3CDTF">2010-09-02T11:26:39Z</dcterms:modified>
  <cp:revision>101</cp:revision>
  <dc:subject/>
  <dc:title>FAO Management Response to Joint Thematic Evaluation of FAO and WFP Support to ISFS</dc:title>
</cp:coreProperties>
</file>