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711000" y="742680"/>
            <a:ext cx="53816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A5865-58B3-48C4-A8AB-99E25D7AE1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5128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45F559-00A2-42C8-8A0B-48E32F8F99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F060-AD2C-42CF-8683-2782CA29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647-4A41-4A80-A449-BAB31D2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3E-A09F-461F-927F-E2D01F7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9C5-C764-42E2-A119-834B37E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226-F505-443D-AE04-FED255F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FFB-8CDD-46BA-87D3-3184E2A9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CED-8D91-495B-BF3A-ADF250F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422-B21D-43BB-89F5-8433298E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DA7-3322-49F6-BFA1-9CAA85B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CB2-A97C-4479-8B16-B4A1A4D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BA2-3F3B-4A16-82CE-99715CB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776-1A43-48F3-A634-3F994AB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523-BBFF-4CB5-83A6-51FE16F1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2"/>
          <p:cNvSpPr/>
          <p:nvPr/>
        </p:nvSpPr>
        <p:spPr>
          <a:xfrm>
            <a:off x="-1440" y="760320"/>
            <a:ext cx="9905760" cy="22068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58"/>
          <p:cNvSpPr/>
          <p:nvPr/>
        </p:nvSpPr>
        <p:spPr>
          <a:xfrm>
            <a:off x="622440" y="808200"/>
            <a:ext cx="71974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mposium on Information Systems for Food Security, Brussels – 01-02 September 2010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Picture 7" descr="SlidesJRC_bannerLogoJRC"/>
          <p:cNvPicPr/>
          <p:nvPr/>
        </p:nvPicPr>
        <p:blipFill>
          <a:blip r:embed="rId2"/>
          <a:stretch/>
        </p:blipFill>
        <p:spPr>
          <a:xfrm>
            <a:off x="68580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LogoIPSC_name_colour_EN_18%"/>
          <p:cNvPicPr/>
          <p:nvPr/>
        </p:nvPicPr>
        <p:blipFill>
          <a:blip r:embed="rId3"/>
          <a:stretch/>
        </p:blipFill>
        <p:spPr>
          <a:xfrm>
            <a:off x="8899560" y="76320"/>
            <a:ext cx="7668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SlidesJRC_bannerLogoJRC"/>
          <p:cNvPicPr/>
          <p:nvPr/>
        </p:nvPicPr>
        <p:blipFill>
          <a:blip r:embed="rId2"/>
          <a:stretch/>
        </p:blipFill>
        <p:spPr>
          <a:xfrm>
            <a:off x="685800" y="98280"/>
            <a:ext cx="1317600" cy="55116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-1440" y="760320"/>
            <a:ext cx="9905760" cy="22068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Rectangle 4"/>
          <p:cNvSpPr/>
          <p:nvPr/>
        </p:nvSpPr>
        <p:spPr>
          <a:xfrm flipV="1" rot="10800000">
            <a:off x="8985240" y="836280"/>
            <a:ext cx="4874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37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83F7A2B-886F-4754-BC49-0EA2934DB064}" type="slidenum">
              <a:rPr b="1" lang="en-US" sz="10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0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/ 27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3" name="Picture 5" descr="LogoIPSC_name_colour_EN_18%"/>
          <p:cNvPicPr/>
          <p:nvPr/>
        </p:nvPicPr>
        <p:blipFill>
          <a:blip r:embed="rId3"/>
          <a:stretch/>
        </p:blipFill>
        <p:spPr>
          <a:xfrm>
            <a:off x="8899560" y="76320"/>
            <a:ext cx="76680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4880" y="-360"/>
            <a:ext cx="71942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5440" y="13413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32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1" marL="743040" indent="-287280">
              <a:spcBef>
                <a:spcPts val="751"/>
              </a:spcBef>
              <a:buClr>
                <a:srgbClr val="0f32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0f32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3" marL="1600200" indent="-230040">
              <a:spcBef>
                <a:spcPts val="751"/>
              </a:spcBef>
              <a:buClr>
                <a:srgbClr val="0f32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0f3277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f3277"/>
              </a:solidFill>
              <a:latin typeface="Arial Narrow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22440" y="808200"/>
            <a:ext cx="71974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sentation to ACP Ambassadors, Brussels - 16 September 2009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lidesJRC_bannerLogoJRC"/>
          <p:cNvPicPr/>
          <p:nvPr/>
        </p:nvPicPr>
        <p:blipFill>
          <a:blip r:embed="rId2"/>
          <a:stretch/>
        </p:blipFill>
        <p:spPr>
          <a:xfrm>
            <a:off x="685800" y="98280"/>
            <a:ext cx="1317600" cy="551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-1440" y="760320"/>
            <a:ext cx="9905760" cy="22068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7520" bIns="47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22440" y="808200"/>
            <a:ext cx="71974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mposium on Information Systems for Food Security, Brussels – 01-02 September 2010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6" name="Picture 6" descr="LogoIPSC_name_colour_EN_18%"/>
          <p:cNvPicPr/>
          <p:nvPr/>
        </p:nvPicPr>
        <p:blipFill>
          <a:blip r:embed="rId3"/>
          <a:stretch/>
        </p:blipFill>
        <p:spPr>
          <a:xfrm>
            <a:off x="8899560" y="76320"/>
            <a:ext cx="76680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30040">
              <a:spcBef>
                <a:spcPts val="476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43040" y="6629400"/>
            <a:ext cx="379728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Kisan Gunjal, FAO/GIEW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164-4640-496D-BB33-A9169899B5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5" descr="DSCN2305"/>
          <p:cNvPicPr/>
          <p:nvPr/>
        </p:nvPicPr>
        <p:blipFill>
          <a:blip r:embed="rId1"/>
          <a:stretch/>
        </p:blipFill>
        <p:spPr>
          <a:xfrm>
            <a:off x="704880" y="2421000"/>
            <a:ext cx="2519280" cy="2008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78" name="Text Box 7"/>
          <p:cNvSpPr/>
          <p:nvPr/>
        </p:nvSpPr>
        <p:spPr>
          <a:xfrm>
            <a:off x="631800" y="1268280"/>
            <a:ext cx="84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451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Brussels, 01 September 2010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"/>
              </a:rPr>
              <a:t>Thierry Nèg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"/>
              </a:rPr>
              <a:t>MARS Unit, Joint Research Centre of the EC</a:t>
            </a:r>
            <a:r>
              <a:rPr b="1" lang="en-GB" sz="16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0" y="6165720"/>
            <a:ext cx="9906120" cy="71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24120" bIns="24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800520" y="2421000"/>
            <a:ext cx="52578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' Progress and challenges in Information Systems for Food Security - The JRC prospect'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2"/>
          <p:cNvSpPr/>
          <p:nvPr/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Kisan Gunjal, FAO/GIEW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99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2B4-A202-4F02-A820-FDFC85DFB8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ETH_Ikonos"/>
          <p:cNvPicPr/>
          <p:nvPr/>
        </p:nvPicPr>
        <p:blipFill>
          <a:blip r:embed="rId1"/>
          <a:stretch/>
        </p:blipFill>
        <p:spPr>
          <a:xfrm>
            <a:off x="2075040" y="1052640"/>
            <a:ext cx="7414920" cy="5634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800520" y="119700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ank you for your attention !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Phase 1 (Sixties and Seventies?)</a:t>
            </a:r>
            <a:r>
              <a:rPr b="1" lang="en-US" sz="1400" spc="-1" strike="noStrike">
                <a:solidFill>
                  <a:srgbClr val="0f3277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f3277"/>
                </a:solidFill>
                <a:latin typeface="Arial Narrow"/>
              </a:rPr>
              <a:t>Need for EWS is realised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Prominence of climate variability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Phase 2 (Eighties?) </a:t>
            </a: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Development of EWS and price monitoring</a:t>
            </a:r>
            <a:r>
              <a:rPr b="1" lang="en-US" sz="1900" spc="-1" strike="noStrike">
                <a:solidFill>
                  <a:srgbClr val="ff9933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f3277"/>
                </a:solidFill>
                <a:latin typeface="Arial Narrow"/>
              </a:rPr>
              <a:t>Large focus on the availability side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f3277"/>
                </a:solidFill>
                <a:latin typeface="Arial Narrow"/>
              </a:rPr>
              <a:t>Macro analysis of food security – country level food balance sheets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f3277"/>
                </a:solidFill>
                <a:latin typeface="Arial Narrow"/>
              </a:rPr>
              <a:t>Limitation by technology (i.e satellite, communication, IT)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Phase 3: (Nineties ?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f3277"/>
                </a:solidFill>
                <a:latin typeface="Arial Narrow"/>
              </a:rPr>
              <a:t>Confirmation three/four pillars of food security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f3277"/>
                </a:solidFill>
                <a:latin typeface="Arial Narrow"/>
              </a:rPr>
              <a:t>Development of household and livelihood approaches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Vulnerability assessments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Phase 4: (2000ies?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Methodology improvement and peer reviews, nutrition integrated more in the picture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Increase in transparency, multi-stakeholder approaches and data sha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Introduction of safety nets, food assist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IPC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ISFS evolution – some remark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961240" y="6093000"/>
            <a:ext cx="32241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=&gt; Improvements but 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 Narrow"/>
              </a:rPr>
              <a:t>Limited autonomy of regional and national ISFS without external funding </a:t>
            </a:r>
            <a:r>
              <a:rPr b="0" lang="en-US" sz="2600" spc="-1" strike="noStrike">
                <a:solidFill>
                  <a:srgbClr val="0f3277"/>
                </a:solidFill>
                <a:latin typeface="Arial Narrow"/>
              </a:rPr>
              <a:t>– at least to stay at a state of the art level – pb of running and maintenance costs, normal rotation of staff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 Narrow"/>
              </a:rPr>
              <a:t>Link with decision making still to be improved, especially for policy decis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 Narrow"/>
              </a:rPr>
              <a:t>Primary data collection tends not to improve or to deteriorate – agricultural statistics, meteorological dat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 Narrow"/>
              </a:rPr>
              <a:t>ISFS are often confined to the emergency context in which they were bor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 Narrow"/>
              </a:rPr>
              <a:t>There is still a lack of regional FS vision/analysis in a number of cases, e.g Horn of Africa, Niger in 2005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ISFS evolution – some issue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f3277"/>
                </a:solidFill>
                <a:latin typeface="Arial Narrow"/>
              </a:rPr>
              <a:t>Limited autonomy</a:t>
            </a: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: Advocacy for more investment on ISFS at national and regional levels - Continuation of international effor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f3277"/>
                </a:solidFill>
                <a:latin typeface="Arial Narrow"/>
              </a:rPr>
              <a:t>Link with decision making:</a:t>
            </a: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Continue to work on proper institutional setting and building to reach and involve high level decision makers, advocac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Favour consensus-based food security analysis (e.g IPC, Cadre Harmonisé bonifié) to have a stable and agreed reference for decision mak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Work on response analysis and possible convergence between stakehold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f3277"/>
                </a:solidFill>
                <a:latin typeface="Arial Narrow"/>
              </a:rPr>
              <a:t>Primary data collection: </a:t>
            </a: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 give to primary data collection the proper place in agricultural and food security policies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f3277"/>
                </a:solidFill>
                <a:latin typeface="Arial Narrow"/>
              </a:rPr>
              <a:t>Emergency only:</a:t>
            </a: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‘</a:t>
            </a: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Paradigme shift’ in ISFS organisation and mission: insert medium-term objective of policy orientation. Include development policy / social protection specialists and corresponding links.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Work on response analysis for developmental/ chronic contex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But continue consolidating and improving applications in emergenci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f3277"/>
                </a:solidFill>
                <a:latin typeface="Arial Narrow"/>
              </a:rPr>
              <a:t>Regional analysis:</a:t>
            </a:r>
            <a:r>
              <a:rPr b="1" lang="en-US" sz="17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Consolidate and improve regional analysis when they exis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Improve sub-continental information on cross border flows 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 Narrow"/>
              </a:rPr>
              <a:t>Build on the FSNWK experience in the Horn of Africa to develop regional ISFS capacities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Some possible response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 Narrow"/>
              </a:rPr>
              <a:t>Global governance for ISFS </a:t>
            </a:r>
            <a:r>
              <a:rPr b="0" lang="en-US" sz="2400" spc="-1" strike="noStrike">
                <a:solidFill>
                  <a:srgbClr val="0f3277"/>
                </a:solidFill>
                <a:latin typeface="Arial Narrow"/>
              </a:rPr>
              <a:t>– some ideas for refl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 Narrow"/>
              </a:rPr>
              <a:t>Political level:</a:t>
            </a:r>
            <a:r>
              <a:rPr b="1" lang="en-US" sz="19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Who ? All parties concerned: including governments, civil society, private sector, international organisations and research organisations  = CFS constitu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How ? CFS open-ended working group or CFS itsel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In other words, maybe no need for any particular body or group, if any political decision it can be taken by the CFS itsel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What ? It is the first question to think of, what kind of useful political decision 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 Narrow"/>
              </a:rPr>
              <a:t>Technical level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 Narrow"/>
              </a:rPr>
              <a:t>Same first question: to do what ? Options: prepare political decision(s) - resolve outstanding technical issues – act as technical coordination group –advise HLP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 Narrow"/>
              </a:rPr>
              <a:t>How and Who? Attached to HLPE – formed of main technical institutions active in ISFS – IPC-plus model could be envisaged – link with a larger and open-ended community of practice – link with specific groups of experts on particular subjec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Other challenge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 Narrow"/>
              </a:rPr>
              <a:t>Demand and need-based approa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 Narrow"/>
              </a:rPr>
              <a:t>Put the final beneficiary (HH, person) at the cent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524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3277"/>
                </a:solidFill>
                <a:latin typeface="Arial Narrow"/>
              </a:rPr>
              <a:t>Reinforcement of institution is a mean to reach the HH/pers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 Narrow"/>
              </a:rPr>
              <a:t>Food security assessments and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 Narrow"/>
              </a:rPr>
              <a:t>Continue the effort of methodology improvement and inno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 Narrow"/>
              </a:rPr>
              <a:t>Transparency and accountabi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 Narrow"/>
              </a:rPr>
              <a:t>Go when possible to joint assessments and harmonisation (at least interoperability) of methodolo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 Narrow"/>
              </a:rPr>
              <a:t>Reinforce food security (meta) analysis framework (IPC, cadre harmonisé) to allow comparability and better prioritis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 Narrow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Other challenge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udies: Malnutrition and Mortality, Coping (CSI), Health, and Proxy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ndicator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PC Technical Retreat 13- 23 July in Ispr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iscussion on outstanding technical questions to be solved before 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the new manual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raft Version 2.0 of the IPC Manual to be released in December 2010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sultations with partner agencies and country and regional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akeholders Sept - Oc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2289240" y="18900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IPC technical develop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72520" y="1125360"/>
            <a:ext cx="943308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 Narrow"/>
              </a:rPr>
              <a:t>Support to national and regional –sub-continental- ISFS</a:t>
            </a:r>
            <a:r>
              <a:rPr b="1" lang="en-US" sz="2000" spc="-1" strike="noStrike">
                <a:solidFill>
                  <a:srgbClr val="0f3277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3277"/>
                </a:solidFill>
                <a:latin typeface="Arial Narrow"/>
              </a:rPr>
              <a:t>Policy-wise, consider ISFS as a medium to long-term infrastructure investment, with recurrent cos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3277"/>
                </a:solidFill>
                <a:latin typeface="Arial Narrow"/>
              </a:rPr>
              <a:t>Strive towards joint plans of action involving various actors, e.g FSTP CILSS or SADC-THEMA at regional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f3277"/>
                </a:solidFill>
                <a:latin typeface="Arial Narrow"/>
              </a:rPr>
              <a:t>Improve data sharing and access:</a:t>
            </a:r>
            <a:r>
              <a:rPr b="1" lang="en-GB" sz="19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 Narrow"/>
              </a:rPr>
              <a:t>Take full use of new technologies for data gathering – cell-phone seems the more promi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but go for robust and long-lasting systems – take good stock of the in-country communication situation including internet ac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Government still have to play a central role, more and more in partnership with civil society and private sec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Advocate for a culture of free access to data for food security from the local price or meteo data to the global satellite data set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3277"/>
                </a:solidFill>
                <a:latin typeface="Arial Narrow"/>
              </a:rPr>
              <a:t>Post-harvest losses:</a:t>
            </a:r>
            <a:r>
              <a:rPr b="1" lang="en-US" sz="3100" spc="-1" strike="noStrike">
                <a:solidFill>
                  <a:srgbClr val="0f3277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Very significant quantit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Possible gains in net food availa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 Narrow"/>
              </a:rPr>
              <a:t>Relatively little done to-da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857240" y="259920"/>
            <a:ext cx="62121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Narrow"/>
              </a:rPr>
              <a:t>Other challenges</a:t>
            </a: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Kisan Gunjal, FAO/GIEW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7099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8D2-890F-4F8A-B600-DB3D9B77E8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-27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L in the context of FB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2680" y="980640"/>
            <a:ext cx="842004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or under estimation of PHL by only 5% changes food availability equal to the entire amount of food a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t, very difficult to estim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9:39:28Z</dcterms:created>
  <dc:creator>European Commission - Joint Research Centre - IEC Unit</dc:creator>
  <dc:description>© European Communities, 2007</dc:description>
  <cp:keywords/>
  <dc:language>en-US</dc:language>
  <cp:lastModifiedBy>Your User Name</cp:lastModifiedBy>
  <cp:lastPrinted>2003-10-28T09:05:55Z</cp:lastPrinted>
  <dcterms:modified xsi:type="dcterms:W3CDTF">2010-09-01T06:56:30Z</dcterms:modified>
  <cp:revision>353</cp:revision>
  <dc:subject>JRC Corporate Image Toolkit</dc:subject>
  <dc:title>Slide_template_IPSC.ppt</dc:title>
</cp:coreProperties>
</file>