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wmf" ContentType="image/x-wmf"/>
  <Override PartName="/ppt/media/image8.jpeg" ContentType="image/jpeg"/>
  <Override PartName="/ppt/media/image10.jpeg" ContentType="image/jpeg"/>
  <Override PartName="/ppt/media/image30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jpeg" ContentType="image/jpeg"/>
  <Override PartName="/ppt/media/image37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7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8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B00-26D6-42E0-84C7-EE2AFB1A734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0A14-B6F9-47E0-AF3F-C40AD5A0E2E3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D9DE-5EEB-49B3-BEA5-D4F88F20103E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47A-B466-46E5-A106-1BBECFE86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BAB9-808A-48F4-90AA-FA5509E7584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95ED-AFE2-414C-9D25-6CF6335E1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661-27E1-4E1F-A6D0-6B6E2138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AC5-CD0A-4CED-B932-4A12566F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B0FDF-3C07-4775-A0A9-887A66BC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FBBB5-72A5-4405-9D35-E9A7A83E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21F15-CAE0-4FD8-8426-39DD183D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39C66-B2F6-452E-8F31-5E60C46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13494-7C6E-4D86-B899-324B49B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1A668-9D51-4AF5-90D7-5E0B2B1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E5DB0-39BE-4B5F-809F-2B5738CA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124AC-53D4-480D-93A4-DDA6E1BD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62C0B-6959-49DD-9B4F-628688EA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3DA-03C0-4DAC-96FA-A7DD794D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F38-1B52-4E0E-A3CB-3EBBD6E3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0B55-F463-42FF-AF53-4A04F339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EA95-E387-4580-8109-3B707D48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440A-D7CC-4776-B3D7-71EE8BD9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F993-15A5-498E-B8A7-98475CC6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2DAD-7EEF-42E1-A70D-D6E9A43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A811-7872-4D06-A5AE-5ED7C73E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AAE1-E031-4A4E-A2F4-601EBC0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E73-E168-48FB-BA7F-0FC8CDE7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0D3E-0974-4A43-8A79-5B7C297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76C5-C2B8-4F49-AA0D-05865078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83A9-F175-4FAF-B4AA-97112E4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5C8E-A7C4-4E5D-A42D-FA3F2AF0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11F7-BF5F-4FA1-9B23-48E9554A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309-5E2E-46DE-BEAD-6EEC70C3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21FF9-52A1-442C-88A3-A58420C6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2AA35-C1B2-4475-80E5-3FBB27B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D573C-1BEF-4712-9A5A-CC11CDE9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96E-EEB5-402D-B9C7-9DBDFC4B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E528F-3990-43E5-BA9C-193832F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B9433-B127-4023-AEA5-583EF849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B543F-F495-4D4F-9B61-B45DAD9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A7635-D4C0-4291-B151-3E6D7E19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10562-0953-472B-90C3-28EFEFAD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F3843-1653-4AD5-8210-7133278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B187B-CD72-4CF6-93BD-4A866B6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6265F-5E60-4C68-B104-B56AFF23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A8F8D-76C2-416B-A06D-26F625CB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11A908-FACF-498B-B253-0D8F7C74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63C-4ABB-4979-88B0-29B752E2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8ABC4-2C4F-4C1A-BA78-EEEC8AA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F5784-CBD9-4846-9D6E-902EE9E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B7BC0-EEAA-4366-9794-70786629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8D428-FAEE-4338-9CE9-90E2C2C9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ABBA8-9C81-46DE-8A46-31B745E0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F188A-AA67-4AA2-975E-95D1954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2B361B-12E4-4450-BDB8-515EBE9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B86F7C-80D0-4C17-B834-D07D950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153DCF-CD86-4BC4-8EAC-E2E30C19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27D98C-86DF-4383-80CD-64994B7D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449-9CCB-47D8-8793-5AC8597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B2F2F-242A-42BD-AED0-65DA3900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69A60-54F9-4434-AEFF-D81007A1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05C566-20A8-4D81-8814-56B192B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5697D3-4FB0-45EB-BFE9-131395AF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A4544-770C-4A19-8E1A-57A33CD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953DD-A9F1-4469-BA02-8A42BD31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B23D1-5438-42DD-85C7-91E1B7C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F0B66-C01E-468C-9126-2B7F647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54D4B7-451E-4C0F-83DF-7042A8A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AF0AC-F21A-4657-848C-A64595E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318-08D1-4D4F-8D55-31F8B23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9ED6C-06DE-437F-9E53-90F19C9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11D84-8B63-4308-AAA2-24F44D45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2963E7-0EDA-4065-B97A-33E40654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AC9A3-0AFA-4EAF-B012-3716D8EE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7665B9-8DC1-4245-B225-4513B9DC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06D8B4-C942-4489-9E39-586FC192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D6EF8B-8179-4C61-BFA7-66C2FD3F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2D73E-5D2C-4994-B4C8-2A0F3EC7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DFD605-307A-4EAF-9056-ADC58213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24203D-222A-4FC1-95AB-4D44993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551-808F-4ACB-9561-A367873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EB0C4-1AA3-44F2-88E1-49041F18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935F8D-DFD1-4EB5-BC85-40444E0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14C441-2FC0-44BA-95C6-89CEE6C8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FEDC54-9814-4411-A70B-EB707733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8883E-C15D-4483-86F8-6B6CF624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3DBA9C-99B4-4875-A750-942FE798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67D4EB-F8C4-45E5-8ECB-8D823B52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7CD5BA-55A0-4024-B0A8-98F81B4A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7A917-A236-4DEE-B44F-0AE2B5D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D8CAA-FC58-457E-BC26-885D4A00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18D-7510-470D-906A-1170457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7C2622-7E4B-4625-A45F-E22AD994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6E6068-D144-47D7-9C7B-9F70311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890AB4-3763-4645-B1B1-189DE4C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3633E-480B-48E8-8B6A-9033F89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D3BB6B-A70F-4926-945E-24FD03F8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F68C99-DFB8-4B57-ABF9-04CCC46A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156C61-5E6F-415E-B546-477F9BCF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3EBEE-F2B3-4F2A-BE4F-B7CA634F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764AC-63A9-4B2F-8998-E8A28485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3A91E-8B14-4D37-B4B0-C1E9437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CEF-40D6-4D95-9181-FACEF39AD2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0B8-31BA-4F4F-B631-37421F1C839A}" type="slidenum">
              <a:rPr b="0" lang="en-Z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179280" y="4653000"/>
            <a:ext cx="8967960" cy="1839960"/>
            <a:chOff x="179280" y="4653000"/>
            <a:chExt cx="8967960" cy="1839960"/>
          </a:xfrm>
        </p:grpSpPr>
        <p:sp>
          <p:nvSpPr>
            <p:cNvPr id="49" name="Freeform 16"/>
            <p:cNvSpPr/>
            <p:nvPr/>
          </p:nvSpPr>
          <p:spPr>
            <a:xfrm>
              <a:off x="1842120" y="4653000"/>
              <a:ext cx="7296120" cy="468360"/>
            </a:xfrm>
            <a:custGeom>
              <a:avLst/>
              <a:gdLst>
                <a:gd name="textAreaLeft" fmla="*/ 0 w 7296120"/>
                <a:gd name="textAreaRight" fmla="*/ 7296480 w 72961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227520" y="4925160"/>
              <a:ext cx="8910720" cy="758160"/>
            </a:xfrm>
            <a:custGeom>
              <a:avLst/>
              <a:gdLst>
                <a:gd name="textAreaLeft" fmla="*/ 0 w 8910720"/>
                <a:gd name="textAreaRight" fmla="*/ 8911080 w 8910720"/>
                <a:gd name="textAreaTop" fmla="*/ 0 h 758160"/>
                <a:gd name="textAreaBottom" fmla="*/ 758520 h 7581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185040" y="4693680"/>
              <a:ext cx="8962200" cy="1799280"/>
              <a:chOff x="185040" y="4693680"/>
              <a:chExt cx="8962200" cy="17992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85040" y="4693680"/>
                <a:ext cx="8962200" cy="17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191160" y="4698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Sans Unicode"/>
                  </a:rPr>
                  <a:t>gg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179280" y="4681440"/>
              <a:ext cx="8962200" cy="78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2" descr="sadclogo_medium"/>
          <p:cNvPicPr/>
          <p:nvPr/>
        </p:nvPicPr>
        <p:blipFill>
          <a:blip r:embed="rId4"/>
          <a:stretch/>
        </p:blipFill>
        <p:spPr>
          <a:xfrm>
            <a:off x="1332000" y="5805360"/>
            <a:ext cx="647640" cy="563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751-CA3B-4A2F-BF81-CEF072D51E6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332000" y="580500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e8f0f4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83B7-63E1-48C2-808B-04E44AE4A268}" type="slidenum">
              <a:rPr b="0" lang="en-Z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adclogo_medium"/>
          <p:cNvPicPr/>
          <p:nvPr/>
        </p:nvPicPr>
        <p:blipFill>
          <a:blip r:embed="rId4"/>
          <a:stretch/>
        </p:blipFill>
        <p:spPr>
          <a:xfrm>
            <a:off x="0" y="6151680"/>
            <a:ext cx="811080" cy="706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-360" y="6092640"/>
            <a:ext cx="5040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66F3-7C59-434A-884A-6FF124FAD2C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527-641E-4C96-9CEC-EDEDB22F74A6}" type="slidenum">
              <a:rPr b="0" lang="en-Z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682-389C-4F52-AE3E-6767C453449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9FC3-7FCE-4B5D-9047-A8257EA7616B}" type="slidenum">
              <a:rPr b="0" lang="en-Z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0E2-6088-47FF-A3B7-1BDC67829CE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1657-508E-4A7A-8454-F32486A03AD7}" type="slidenum">
              <a:rPr b="0" lang="en-Z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648-D22F-4BC5-8BAC-05FE2E83166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3C4-847B-496A-AC28-DB080AC545D4}" type="slidenum">
              <a:rPr b="0" lang="en-Z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9AF4-3859-4E94-9E9B-AC16E767A29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DD6F-8A04-4AC9-8030-7D27F4AD918B}" type="slidenum">
              <a:rPr b="0" lang="en-Z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C78B-A481-444A-9758-285AE0C4BA3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ffffff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64AE-B809-4271-8590-02E7BFEDF57C}" type="slidenum">
              <a:rPr b="0" lang="en-Z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dc.int/fanr/aims/rvaa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539280" y="4365360"/>
            <a:ext cx="8434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The VACs in Southern Africa: Nat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Ownership of a Regional Mo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Lucida Sans Unicode"/>
              </a:rPr>
              <a:t>Symposium on Food Security Information Systems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Lucida Sans Unicode"/>
              </a:rPr>
              <a:t>1–2 September 2010, Brussels, BELGI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521920" cy="2486160"/>
          </a:xfrm>
          <a:prstGeom prst="rect">
            <a:avLst/>
          </a:prstGeom>
          <a:ln w="0">
            <a:noFill/>
          </a:ln>
        </p:spPr>
      </p:pic>
      <p:sp>
        <p:nvSpPr>
          <p:cNvPr id="426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" descr="sadclogo_medium"/>
          <p:cNvPicPr/>
          <p:nvPr/>
        </p:nvPicPr>
        <p:blipFill>
          <a:blip r:embed="rId2"/>
          <a:stretch/>
        </p:blipFill>
        <p:spPr>
          <a:xfrm>
            <a:off x="3708360" y="333360"/>
            <a:ext cx="17272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Lucida Sans Unicode"/>
              </a:rPr>
              <a:t>Develop and continue to improve capacity of Member States in carrying out VAA work through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Establishment of the CoE to offer long and short-term accredited courses in VA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Technical exchange visits among NVA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Ad hoc or on job trainings by NVA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Technical backstopping missions by the PMU &amp; RVAC members to NVA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Title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47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vocacy, communication and dissemination of VAA produc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ganizing Annual Dissemination Meetings (AOM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sentations to various stakeholders e.g. Parliamentary Foru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tablishment of the RVAA Programme webpage on the SADC website. 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sadc.int/fanr/aims/rva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Lucida Sans Unicode"/>
              </a:rPr>
              <a:t>Provision of some financial and technical support to NVACs.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2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478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428760" y="380880"/>
            <a:ext cx="82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Lucida Sans Unicode"/>
              </a:rPr>
              <a:t>National Ownership of the V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838080" y="1447920"/>
            <a:ext cx="7712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468360" y="1484280"/>
            <a:ext cx="8286840" cy="43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1108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omposition of NV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lti-agency groups (a replication of the RVAC at country level as many of regional level RVAC members are represented at country level with their country off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ired by national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828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Participation is drawn from government departments, UN agencies,  academic institutions, national and international NG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Lucida Sans Unicode"/>
              </a:rPr>
              <a:t>What does it mean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Ensuring that there is a home for the VAC i.e. Chairman and secretariat in government institution or offic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Budget line in the Government budg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Clear reporting 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23760" y="208080"/>
            <a:ext cx="8497800" cy="115704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2" descr=""/>
          <p:cNvPicPr/>
          <p:nvPr/>
        </p:nvPicPr>
        <p:blipFill>
          <a:blip r:embed="rId1"/>
          <a:stretch/>
        </p:blipFill>
        <p:spPr>
          <a:xfrm>
            <a:off x="384120" y="-12600"/>
            <a:ext cx="8156520" cy="761760"/>
          </a:xfrm>
          <a:prstGeom prst="rect">
            <a:avLst/>
          </a:prstGeom>
          <a:ln w="0">
            <a:noFill/>
          </a:ln>
        </p:spPr>
      </p:pic>
      <p:sp>
        <p:nvSpPr>
          <p:cNvPr id="487" name="Line 3"/>
          <p:cNvSpPr/>
          <p:nvPr/>
        </p:nvSpPr>
        <p:spPr>
          <a:xfrm flipV="1">
            <a:off x="6705720" y="3962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0" y="762120"/>
            <a:ext cx="9144000" cy="5883120"/>
            <a:chOff x="0" y="762120"/>
            <a:chExt cx="9144000" cy="5883120"/>
          </a:xfrm>
        </p:grpSpPr>
        <p:sp>
          <p:nvSpPr>
            <p:cNvPr id="489" name="Text Box 5"/>
            <p:cNvSpPr/>
            <p:nvPr/>
          </p:nvSpPr>
          <p:spPr>
            <a:xfrm>
              <a:off x="0" y="5791320"/>
              <a:ext cx="9144000" cy="853920"/>
            </a:xfrm>
            <a:prstGeom prst="rect">
              <a:avLst/>
            </a:prstGeom>
            <a:solidFill>
              <a:srgbClr val="c07b8a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INDIVIDUAL ORGANISATIONAL FOOD SECURITY AND VAA MONITORING SYSTEMS THAT FEED INTO THE VA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E.G. NEWU, CHS, CFSAMs, NUTRITION SURVEILLANCE, HEALTH, WATER AND SANITATION, E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6"/>
            <p:cNvGrpSpPr/>
            <p:nvPr/>
          </p:nvGrpSpPr>
          <p:grpSpPr>
            <a:xfrm>
              <a:off x="152280" y="762120"/>
              <a:ext cx="8763120" cy="5028840"/>
              <a:chOff x="152280" y="762120"/>
              <a:chExt cx="8763120" cy="5028840"/>
            </a:xfrm>
          </p:grpSpPr>
          <p:grpSp>
            <p:nvGrpSpPr>
              <p:cNvPr id="491" name="Group 7"/>
              <p:cNvGrpSpPr/>
              <p:nvPr/>
            </p:nvGrpSpPr>
            <p:grpSpPr>
              <a:xfrm>
                <a:off x="152280" y="762120"/>
                <a:ext cx="8534520" cy="4335480"/>
                <a:chOff x="152280" y="762120"/>
                <a:chExt cx="8534520" cy="4335480"/>
              </a:xfrm>
            </p:grpSpPr>
            <p:sp>
              <p:nvSpPr>
                <p:cNvPr id="492" name="Line 8"/>
                <p:cNvSpPr/>
                <p:nvPr/>
              </p:nvSpPr>
              <p:spPr>
                <a:xfrm flipV="1">
                  <a:off x="4343400" y="2437920"/>
                  <a:ext cx="0" cy="3733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AutoShape 9"/>
                <p:cNvSpPr/>
                <p:nvPr/>
              </p:nvSpPr>
              <p:spPr>
                <a:xfrm>
                  <a:off x="3733920" y="762120"/>
                  <a:ext cx="1199880" cy="685800"/>
                </a:xfrm>
                <a:prstGeom prst="flowChartAlternateProcess">
                  <a:avLst/>
                </a:prstGeom>
                <a:solidFill>
                  <a:srgbClr val="c07b8a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CABINE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10"/>
                <p:cNvSpPr/>
                <p:nvPr/>
              </p:nvSpPr>
              <p:spPr>
                <a:xfrm>
                  <a:off x="2819520" y="1828800"/>
                  <a:ext cx="3467160" cy="743040"/>
                </a:xfrm>
                <a:prstGeom prst="flowChartAlternateProcess">
                  <a:avLst/>
                </a:prstGeom>
                <a:solidFill>
                  <a:srgbClr val="c07b8a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GOVT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MINISTRY/AGENCY  (Minister/PS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1"/>
                <p:cNvSpPr/>
                <p:nvPr/>
              </p:nvSpPr>
              <p:spPr>
                <a:xfrm flipV="1">
                  <a:off x="4343400" y="1447920"/>
                  <a:ext cx="0" cy="3729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12"/>
                <p:cNvSpPr/>
                <p:nvPr/>
              </p:nvSpPr>
              <p:spPr>
                <a:xfrm>
                  <a:off x="3429000" y="2743200"/>
                  <a:ext cx="1828800" cy="914400"/>
                </a:xfrm>
                <a:prstGeom prst="ellipse">
                  <a:avLst/>
                </a:prstGeom>
                <a:solidFill>
                  <a:srgbClr val="c07b8a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Garamond"/>
                    </a:rPr>
                    <a:t>NVA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Garamond"/>
                    </a:rPr>
                    <a:t>GOVT CHAI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H="1" flipV="1">
                  <a:off x="4343400" y="3657240"/>
                  <a:ext cx="6480" cy="29700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Group 14"/>
                <p:cNvGrpSpPr/>
                <p:nvPr/>
              </p:nvGrpSpPr>
              <p:grpSpPr>
                <a:xfrm>
                  <a:off x="152280" y="3962160"/>
                  <a:ext cx="8534520" cy="1135440"/>
                  <a:chOff x="152280" y="3962160"/>
                  <a:chExt cx="8534520" cy="1135440"/>
                </a:xfrm>
              </p:grpSpPr>
              <p:grpSp>
                <p:nvGrpSpPr>
                  <p:cNvPr id="499" name="Group 15"/>
                  <p:cNvGrpSpPr/>
                  <p:nvPr/>
                </p:nvGrpSpPr>
                <p:grpSpPr>
                  <a:xfrm>
                    <a:off x="152280" y="3962160"/>
                    <a:ext cx="8534520" cy="1135440"/>
                    <a:chOff x="152280" y="3962160"/>
                    <a:chExt cx="8534520" cy="1135440"/>
                  </a:xfrm>
                </p:grpSpPr>
                <p:sp>
                  <p:nvSpPr>
                    <p:cNvPr id="500" name="AutoShape 16"/>
                    <p:cNvSpPr/>
                    <p:nvPr/>
                  </p:nvSpPr>
                  <p:spPr>
                    <a:xfrm>
                      <a:off x="4419720" y="4343400"/>
                      <a:ext cx="1295280" cy="754200"/>
                    </a:xfrm>
                    <a:prstGeom prst="flowChartAlternateProcess">
                      <a:avLst/>
                    </a:prstGeom>
                    <a:solidFill>
                      <a:srgbClr val="ffcc99"/>
                    </a:solidFill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IVATE S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AutoShape 17"/>
                    <p:cNvSpPr/>
                    <p:nvPr/>
                  </p:nvSpPr>
                  <p:spPr>
                    <a:xfrm>
                      <a:off x="3124080" y="4343400"/>
                      <a:ext cx="1030320" cy="752400"/>
                    </a:xfrm>
                    <a:prstGeom prst="flowChartAlternateProcess">
                      <a:avLst/>
                    </a:prstGeom>
                    <a:solidFill>
                      <a:srgbClr val="ffcc99"/>
                    </a:solidFill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OVT DEP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AutoShape 18"/>
                    <p:cNvSpPr/>
                    <p:nvPr/>
                  </p:nvSpPr>
                  <p:spPr>
                    <a:xfrm>
                      <a:off x="1676520" y="4343400"/>
                      <a:ext cx="1287360" cy="752400"/>
                    </a:xfrm>
                    <a:prstGeom prst="flowChartAlternateProcess">
                      <a:avLst/>
                    </a:prstGeom>
                    <a:solidFill>
                      <a:srgbClr val="ffcc99"/>
                    </a:solidFill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GO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AutoShape 19"/>
                    <p:cNvSpPr/>
                    <p:nvPr/>
                  </p:nvSpPr>
                  <p:spPr>
                    <a:xfrm>
                      <a:off x="6019920" y="4343400"/>
                      <a:ext cx="1371600" cy="754200"/>
                    </a:xfrm>
                    <a:prstGeom prst="flowChartAlternateProcess">
                      <a:avLst/>
                    </a:prstGeom>
                    <a:solidFill>
                      <a:srgbClr val="ffcc99"/>
                    </a:solidFill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URCH OR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AutoShape 20"/>
                    <p:cNvSpPr/>
                    <p:nvPr/>
                  </p:nvSpPr>
                  <p:spPr>
                    <a:xfrm>
                      <a:off x="152280" y="4343400"/>
                      <a:ext cx="1371600" cy="611280"/>
                    </a:xfrm>
                    <a:prstGeom prst="flowChartAlternateProcess">
                      <a:avLst/>
                    </a:prstGeom>
                    <a:solidFill>
                      <a:srgbClr val="ffcc99"/>
                    </a:solidFill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GEN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05" name="Group 21"/>
                    <p:cNvGrpSpPr/>
                    <p:nvPr/>
                  </p:nvGrpSpPr>
                  <p:grpSpPr>
                    <a:xfrm>
                      <a:off x="7772400" y="3962160"/>
                      <a:ext cx="914400" cy="1066680"/>
                      <a:chOff x="7772400" y="3962160"/>
                      <a:chExt cx="914400" cy="1066680"/>
                    </a:xfrm>
                  </p:grpSpPr>
                  <p:sp>
                    <p:nvSpPr>
                      <p:cNvPr id="506" name="AutoShape 22"/>
                      <p:cNvSpPr/>
                      <p:nvPr/>
                    </p:nvSpPr>
                    <p:spPr>
                      <a:xfrm>
                        <a:off x="7772400" y="4418640"/>
                        <a:ext cx="914400" cy="610200"/>
                      </a:xfrm>
                      <a:prstGeom prst="flowChartAlternateProcess">
                        <a:avLst/>
                      </a:prstGeom>
                      <a:solidFill>
                        <a:srgbClr val="ffcc99"/>
                      </a:solidFill>
                      <a:ln w="63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Lucida Sans Unicode"/>
                          </a:rPr>
                          <a:t>OTHERS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Line 23"/>
                      <p:cNvSpPr/>
                      <p:nvPr/>
                    </p:nvSpPr>
                    <p:spPr>
                      <a:xfrm flipV="1">
                        <a:off x="8229600" y="3962160"/>
                        <a:ext cx="720" cy="458280"/>
                      </a:xfrm>
                      <a:prstGeom prst="line">
                        <a:avLst/>
                      </a:prstGeom>
                      <a:ln w="63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8" name="Group 24"/>
                  <p:cNvGrpSpPr/>
                  <p:nvPr/>
                </p:nvGrpSpPr>
                <p:grpSpPr>
                  <a:xfrm>
                    <a:off x="762120" y="3962520"/>
                    <a:ext cx="7467480" cy="380880"/>
                    <a:chOff x="762120" y="3962520"/>
                    <a:chExt cx="7467480" cy="380880"/>
                  </a:xfrm>
                </p:grpSpPr>
                <p:sp>
                  <p:nvSpPr>
                    <p:cNvPr id="509" name="Line 25"/>
                    <p:cNvSpPr/>
                    <p:nvPr/>
                  </p:nvSpPr>
                  <p:spPr>
                    <a:xfrm flipV="1">
                      <a:off x="5029200" y="3962520"/>
                      <a:ext cx="0" cy="380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6"/>
                    <p:cNvSpPr/>
                    <p:nvPr/>
                  </p:nvSpPr>
                  <p:spPr>
                    <a:xfrm flipV="1">
                      <a:off x="762120" y="3962520"/>
                      <a:ext cx="0" cy="380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7"/>
                    <p:cNvSpPr/>
                    <p:nvPr/>
                  </p:nvSpPr>
                  <p:spPr>
                    <a:xfrm>
                      <a:off x="762120" y="3962520"/>
                      <a:ext cx="746748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8"/>
                    <p:cNvSpPr/>
                    <p:nvPr/>
                  </p:nvSpPr>
                  <p:spPr>
                    <a:xfrm flipV="1">
                      <a:off x="3657600" y="3962520"/>
                      <a:ext cx="0" cy="380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29"/>
                    <p:cNvSpPr/>
                    <p:nvPr/>
                  </p:nvSpPr>
                  <p:spPr>
                    <a:xfrm flipV="1">
                      <a:off x="2362320" y="3962520"/>
                      <a:ext cx="0" cy="38088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14" name="Group 30"/>
              <p:cNvGrpSpPr/>
              <p:nvPr/>
            </p:nvGrpSpPr>
            <p:grpSpPr>
              <a:xfrm>
                <a:off x="228600" y="5333760"/>
                <a:ext cx="8686800" cy="457200"/>
                <a:chOff x="228600" y="5333760"/>
                <a:chExt cx="8686800" cy="457200"/>
              </a:xfrm>
            </p:grpSpPr>
            <p:sp>
              <p:nvSpPr>
                <p:cNvPr id="515" name="Line 31"/>
                <p:cNvSpPr/>
                <p:nvPr/>
              </p:nvSpPr>
              <p:spPr>
                <a:xfrm flipV="1">
                  <a:off x="228600" y="5333760"/>
                  <a:ext cx="8686800" cy="586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2"/>
                <p:cNvSpPr/>
                <p:nvPr/>
              </p:nvSpPr>
              <p:spPr>
                <a:xfrm flipV="1">
                  <a:off x="4419720" y="5334120"/>
                  <a:ext cx="0" cy="380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"/>
                <p:cNvSpPr/>
                <p:nvPr/>
              </p:nvSpPr>
              <p:spPr>
                <a:xfrm flipV="1">
                  <a:off x="5867280" y="5409720"/>
                  <a:ext cx="0" cy="3812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4"/>
                <p:cNvSpPr/>
                <p:nvPr/>
              </p:nvSpPr>
              <p:spPr>
                <a:xfrm flipV="1">
                  <a:off x="7391520" y="5409720"/>
                  <a:ext cx="0" cy="3812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5"/>
                <p:cNvSpPr/>
                <p:nvPr/>
              </p:nvSpPr>
              <p:spPr>
                <a:xfrm flipV="1">
                  <a:off x="8610480" y="5334120"/>
                  <a:ext cx="0" cy="380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6"/>
                <p:cNvSpPr/>
                <p:nvPr/>
              </p:nvSpPr>
              <p:spPr>
                <a:xfrm flipV="1">
                  <a:off x="2590920" y="5409720"/>
                  <a:ext cx="0" cy="3812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7"/>
                <p:cNvSpPr/>
                <p:nvPr/>
              </p:nvSpPr>
              <p:spPr>
                <a:xfrm flipV="1">
                  <a:off x="838080" y="5409720"/>
                  <a:ext cx="0" cy="3812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Footer Placeholder 37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As the name suggest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Conduct vulnerability assessments and analysis with the participation of all key stakeholders who are members of the VA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Focus area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Assess current vulnerability situ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Quantifying impacts of hazards (natural and or man mad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Make projections/forecasts of vulnerable househol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Monitoring food security and pover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2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Most NVACs have adopted the Livelihood Based Approach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Methodologi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Rapid or Participatory Rural Apprais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Households survey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Secondary  data and information from other information syste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HE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300" spc="-1" strike="noStrike">
                <a:solidFill>
                  <a:srgbClr val="000000"/>
                </a:solidFill>
                <a:latin typeface="Lucida Sans Unicode"/>
              </a:rPr>
              <a:t>NOTE</a:t>
            </a: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: Most VACs use a combination of the abo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28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Lucida Sans Unicode"/>
              </a:rPr>
              <a:t>Early warning – timely availability of information for decision mak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Lucida Sans Unicode"/>
              </a:rPr>
              <a:t>Results are by consensus hence minimise influence of individuals organisations or institution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Lucida Sans Unicode"/>
              </a:rPr>
              <a:t>Streamlined flow of information which has prevented flow of conflicting information to decision maker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Lucida Sans Unicode"/>
              </a:rPr>
              <a:t>Improved information for targeting interventions thereby saving scarce resourc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31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Lesotho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- Disaster Management Authority in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  the Office of the Vice Presid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Malawi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– Ministry of Development Planning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and Coorporat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Mozambique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– Setsan in Ministry of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Agricul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Namibia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– Directorate of Emergency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Management in the Office of the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Prime Minist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000000"/>
                </a:solidFill>
                <a:latin typeface="Lucida Sans Unicode"/>
              </a:rPr>
              <a:t>Swaziland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 – Chairman in Central Statistics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Office and secretariat in 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500" spc="-1" strike="noStrike">
                <a:solidFill>
                  <a:srgbClr val="000000"/>
                </a:solidFill>
                <a:latin typeface="Lucida Sans Unicode"/>
              </a:rPr>
              <a:t>Meteorological Depart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34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21392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700" spc="-1" strike="noStrike">
                <a:solidFill>
                  <a:srgbClr val="000000"/>
                </a:solidFill>
                <a:latin typeface="Lucida Sans Unicode"/>
              </a:rPr>
              <a:t>Tanzania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– Ministry of Agri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700" spc="-1" strike="noStrike">
                <a:solidFill>
                  <a:srgbClr val="000000"/>
                </a:solidFill>
                <a:latin typeface="Lucida Sans Unicode"/>
              </a:rPr>
              <a:t>Zambia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– Disaster Management and 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Mitigation in the Office of the Vice 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Presid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700" spc="-1" strike="noStrike">
                <a:solidFill>
                  <a:srgbClr val="000000"/>
                </a:solidFill>
                <a:latin typeface="Lucida Sans Unicode"/>
              </a:rPr>
              <a:t>Zimbabwe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– Scientific and Industrial Research 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 and Development Centre – Food 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 and Nutrition Council with FEWSNET 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 as Secretari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Lucida Sans Unicode"/>
              </a:rPr>
              <a:t>Important:</a:t>
            </a: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 The NVACs should be located where they can have maximum influence on policy decisions and interven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6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932040"/>
          </a:xfrm>
          <a:prstGeom prst="rect">
            <a:avLst/>
          </a:prstGeom>
          <a:ln w="0">
            <a:noFill/>
          </a:ln>
        </p:spPr>
      </p:pic>
      <p:sp>
        <p:nvSpPr>
          <p:cNvPr id="537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A series of drought in the late 1990s to early 2000s.  Major ones in 2001/02 and 2005/0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Several players in assessment of the impact of these droughts coming out with different fig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Delayed responses due to debate over which figures to belie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Severe consequences for the affected househol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33160" y="1125360"/>
            <a:ext cx="7924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Variation of methods in the Region sometimes bring out issues of comparability of assessment resul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ull utilization of data sets collected by the VAC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Political interference and attempts to manipulate reports and results have been a problem in some countri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Establishing an institutional home for the NVACs and ensuring their sustainability remains a challenge for some Member Sa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Lack of financial resources to conduct comprehensive vulnerability assessments and training in Member Stat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Need for continuous capacity building due to personnel turn over (need for Centres of Excellence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353880" y="85680"/>
            <a:ext cx="8034480" cy="841320"/>
          </a:xfrm>
          <a:prstGeom prst="rect">
            <a:avLst/>
          </a:prstGeom>
          <a:ln w="0">
            <a:noFill/>
          </a:ln>
        </p:spPr>
      </p:pic>
      <p:sp>
        <p:nvSpPr>
          <p:cNvPr id="540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0004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000000"/>
                </a:solidFill>
                <a:latin typeface="Lucida Sans Unicode"/>
              </a:rPr>
              <a:t>New 5 year strategic plan and funding proposal developed and circulated to potential don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Plan proposes basket funding along the Paris and Windhoek declar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Plan proposes increased ownership and involvement of Member Stat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000000"/>
                </a:solidFill>
                <a:latin typeface="Lucida Sans Unicode"/>
              </a:rPr>
              <a:t>Increased focus on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Lucida Sans Unicode"/>
              </a:rPr>
              <a:t>Chronic food insecurity and poverty issue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Lucida Sans Unicode"/>
              </a:rPr>
              <a:t>Strengthening linkages between VAA system and decision/policy makers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000000"/>
                </a:solidFill>
                <a:latin typeface="Lucida Sans Unicode"/>
              </a:rPr>
              <a:t>Operationalizing the RVAA Centre of Excellency for capacity building in VAA work in the Reg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2" name="Title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543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45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Established in 1999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Mandate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Lucida Sans Unicode"/>
              </a:rPr>
              <a:t>To strengthen national and regional vulnerability analysis systems in order to inform policy formulation, development programmes and emergency interventions that lead to reduction of vulnerability within the reg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3880"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Lucida Sans Unicode"/>
              </a:rPr>
              <a:t>Objective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500" spc="-1" strike="noStrike">
                <a:solidFill>
                  <a:srgbClr val="000000"/>
                </a:solidFill>
                <a:latin typeface="Lucida Sans Unicode"/>
              </a:rPr>
              <a:t>Keeping abreast and encouraging coordinated development in the field of vulnerability and livelihood assessment in the SADC regio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7120"/>
          </a:xfrm>
          <a:prstGeom prst="rect">
            <a:avLst/>
          </a:prstGeom>
          <a:ln w="0">
            <a:noFill/>
          </a:ln>
        </p:spPr>
      </p:pic>
      <p:sp>
        <p:nvSpPr>
          <p:cNvPr id="433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1258920" y="476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Lucida Sans Unicode"/>
              </a:rPr>
              <a:t>RVAC 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55640" y="1628640"/>
            <a:ext cx="777708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lti-agency group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of technical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Chaired by SADC FAN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membership includes various FANR programmes &amp; other SADC Directorates, UN and International Non-Government Organisations, local academic instit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3"/>
          <p:cNvSpPr/>
          <p:nvPr/>
        </p:nvSpPr>
        <p:spPr>
          <a:xfrm>
            <a:off x="1031760" y="396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da1f28"/>
                </a:solidFill>
                <a:latin typeface="Arial Rounded MT Bold"/>
              </a:rPr>
              <a:t>Associated donor agencies includ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1793880" y="4513320"/>
            <a:ext cx="5410080" cy="1219320"/>
            <a:chOff x="1793880" y="4513320"/>
            <a:chExt cx="5410080" cy="1219320"/>
          </a:xfrm>
        </p:grpSpPr>
        <p:graphicFrame>
          <p:nvGraphicFramePr>
            <p:cNvPr id="439" name="Object 2"/>
            <p:cNvGraphicFramePr/>
            <p:nvPr/>
          </p:nvGraphicFramePr>
          <p:xfrm>
            <a:off x="5489280" y="4894200"/>
            <a:ext cx="1599840" cy="571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440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9280" y="4894200"/>
                      <a:ext cx="1599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41" name="Picture 6" descr=""/>
            <p:cNvPicPr/>
            <p:nvPr/>
          </p:nvPicPr>
          <p:blipFill>
            <a:blip r:embed="rId4"/>
            <a:stretch/>
          </p:blipFill>
          <p:spPr>
            <a:xfrm>
              <a:off x="3203280" y="4894200"/>
              <a:ext cx="1066680" cy="6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7" descr=""/>
            <p:cNvPicPr/>
            <p:nvPr/>
          </p:nvPicPr>
          <p:blipFill>
            <a:blip r:embed="rId5"/>
            <a:stretch/>
          </p:blipFill>
          <p:spPr>
            <a:xfrm>
              <a:off x="4498920" y="4665600"/>
              <a:ext cx="796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8"/>
            <p:cNvSpPr/>
            <p:nvPr/>
          </p:nvSpPr>
          <p:spPr>
            <a:xfrm>
              <a:off x="1908000" y="497052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800" spc="-1" strike="noStrike">
                  <a:solidFill>
                    <a:srgbClr val="da1f28"/>
                  </a:solidFill>
                  <a:latin typeface="Albertus (W1)"/>
                </a:rPr>
                <a:t>DF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793880" y="4513320"/>
              <a:ext cx="5410080" cy="1219320"/>
            </a:xfrm>
            <a:prstGeom prst="rect">
              <a:avLst/>
            </a:prstGeom>
            <a:noFill/>
            <a:ln w="28440">
              <a:solidFill>
                <a:srgbClr val="da1f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10"/>
          <p:cNvSpPr/>
          <p:nvPr/>
        </p:nvSpPr>
        <p:spPr>
          <a:xfrm>
            <a:off x="328680" y="457200"/>
            <a:ext cx="834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Arial"/>
              </a:rPr>
              <a:t>RVAC Composition contd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1"/>
          <p:cNvSpPr/>
          <p:nvPr/>
        </p:nvSpPr>
        <p:spPr>
          <a:xfrm>
            <a:off x="762120" y="1676520"/>
            <a:ext cx="7238880" cy="1981080"/>
          </a:xfrm>
          <a:prstGeom prst="ellipse">
            <a:avLst/>
          </a:prstGeom>
          <a:noFill/>
          <a:ln w="284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2"/>
          <p:cNvGrpSpPr/>
          <p:nvPr/>
        </p:nvGrpSpPr>
        <p:grpSpPr>
          <a:xfrm>
            <a:off x="1101600" y="1898640"/>
            <a:ext cx="6702480" cy="1620720"/>
            <a:chOff x="1101600" y="1898640"/>
            <a:chExt cx="6702480" cy="1620720"/>
          </a:xfrm>
        </p:grpSpPr>
        <p:sp>
          <p:nvSpPr>
            <p:cNvPr id="448" name="Text Box 13"/>
            <p:cNvSpPr/>
            <p:nvPr/>
          </p:nvSpPr>
          <p:spPr>
            <a:xfrm>
              <a:off x="1854360" y="2490840"/>
              <a:ext cx="73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WV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6095880" y="2490840"/>
              <a:ext cx="11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Unic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0" name="Picture 15" descr=""/>
            <p:cNvPicPr/>
            <p:nvPr/>
          </p:nvPicPr>
          <p:blipFill>
            <a:blip r:embed="rId6"/>
            <a:stretch/>
          </p:blipFill>
          <p:spPr>
            <a:xfrm>
              <a:off x="7162920" y="2438280"/>
              <a:ext cx="6411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2590920" y="2514600"/>
              <a:ext cx="96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C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3657600" y="2514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Oxf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18" descr=""/>
            <p:cNvPicPr/>
            <p:nvPr/>
          </p:nvPicPr>
          <p:blipFill>
            <a:blip r:embed="rId7"/>
            <a:stretch/>
          </p:blipFill>
          <p:spPr>
            <a:xfrm>
              <a:off x="1101600" y="2403360"/>
              <a:ext cx="6303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9"/>
            <p:cNvSpPr/>
            <p:nvPr/>
          </p:nvSpPr>
          <p:spPr>
            <a:xfrm>
              <a:off x="4876920" y="2514600"/>
              <a:ext cx="96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2000" spc="-1" strike="noStrike">
                  <a:solidFill>
                    <a:srgbClr val="000000"/>
                  </a:solidFill>
                  <a:latin typeface="Arial"/>
                </a:rPr>
                <a:t>OC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20" descr=""/>
            <p:cNvPicPr/>
            <p:nvPr/>
          </p:nvPicPr>
          <p:blipFill>
            <a:blip r:embed="rId8"/>
            <a:stretch/>
          </p:blipFill>
          <p:spPr>
            <a:xfrm>
              <a:off x="2895480" y="2916360"/>
              <a:ext cx="60984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1" descr=""/>
            <p:cNvPicPr/>
            <p:nvPr/>
          </p:nvPicPr>
          <p:blipFill>
            <a:blip r:embed="rId9"/>
            <a:stretch/>
          </p:blipFill>
          <p:spPr>
            <a:xfrm>
              <a:off x="5410080" y="2936880"/>
              <a:ext cx="68580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2" descr=""/>
            <p:cNvPicPr/>
            <p:nvPr/>
          </p:nvPicPr>
          <p:blipFill>
            <a:blip r:embed="rId10"/>
            <a:stretch/>
          </p:blipFill>
          <p:spPr>
            <a:xfrm>
              <a:off x="4876920" y="1898640"/>
              <a:ext cx="106668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23" descr=""/>
            <p:cNvPicPr/>
            <p:nvPr/>
          </p:nvPicPr>
          <p:blipFill>
            <a:blip r:embed="rId11"/>
            <a:stretch/>
          </p:blipFill>
          <p:spPr>
            <a:xfrm>
              <a:off x="2925720" y="1998720"/>
              <a:ext cx="14479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4" descr=""/>
            <p:cNvPicPr/>
            <p:nvPr/>
          </p:nvPicPr>
          <p:blipFill>
            <a:blip r:embed="rId12"/>
            <a:srcRect l="0" t="0" r="3487" b="0"/>
            <a:stretch/>
          </p:blipFill>
          <p:spPr>
            <a:xfrm>
              <a:off x="4197240" y="3122640"/>
              <a:ext cx="59688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0" name="Footer Placeholder 2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95280" y="1557360"/>
            <a:ext cx="8424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wo key issues emerged from establishment of RVAC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22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he need for a Regional Vulnerability Assessment and Analysis (RVAA) Programm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22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he need for Vulnerability Assessment Committees (NVACs) to coordinate VAA work at country leve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RVAA Programme established following extensive consultation with Member Stat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he SADC Integrated Committee of Ministers endorsed the SADC RVAA Programme in June 2005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Lucida Sans Unicode"/>
              </a:rPr>
              <a:t>Purpose: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55600">
              <a:lnSpc>
                <a:spcPct val="7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o address institutional, technical and policy issues relating to Vulnerability Assessment &amp; Analysis (VAA)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55600">
              <a:lnSpc>
                <a:spcPct val="7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55600">
              <a:lnSpc>
                <a:spcPct val="7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Strengthening National Vulnerability Assessment’s Committees (VACs) capacity and improve regional coordination on VAA issues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-42840" y="73080"/>
            <a:ext cx="8948880" cy="1450800"/>
          </a:xfrm>
          <a:prstGeom prst="rect">
            <a:avLst/>
          </a:prstGeom>
          <a:ln w="0">
            <a:noFill/>
          </a:ln>
        </p:spPr>
      </p:pic>
      <p:sp>
        <p:nvSpPr>
          <p:cNvPr id="463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ed for a Programme Management Unit identifi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SADC Regional Vulnerability Assessment and Analysis Programme Management Unit  operational since 200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ADC secretariat under the FANR Directorat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Manda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o manage the implementation of the RVAA Program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1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466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28400" y="1773000"/>
            <a:ext cx="83055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Compris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The National Vulnerability Assessment Committees (NVACs) 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The Regional Vulnerability Assessment Committee (RVAC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NOTE</a:t>
            </a: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: The VACs are not “units”—they are collaborative committees of diverse technical membershi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50920" y="45720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Lucida Sans Unicode"/>
                <a:ea typeface="Arial"/>
              </a:rPr>
              <a:t>The SADC RVAA Programme therefor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3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900" spc="-1" strike="noStrike">
                <a:solidFill>
                  <a:srgbClr val="000000"/>
                </a:solidFill>
                <a:latin typeface="Lucida Sans Unicode"/>
              </a:rPr>
              <a:t>Establish and ensure institutionalisation of NVACs</a:t>
            </a:r>
            <a:r>
              <a:rPr b="0" lang="en-ZA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500" spc="-1" strike="noStrike">
                <a:solidFill>
                  <a:srgbClr val="00b050"/>
                </a:solidFill>
                <a:latin typeface="Lucida Sans Unicode"/>
              </a:rPr>
              <a:t>With VACS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ZA" sz="1500" spc="-1" strike="noStrike">
                <a:solidFill>
                  <a:srgbClr val="eb641b"/>
                </a:solidFill>
                <a:latin typeface="Lucida Sans Unicode"/>
              </a:rPr>
              <a:t>Upcoming</a:t>
            </a:r>
            <a:r>
              <a:rPr b="1" lang="en-ZA" sz="1500" spc="-1" strike="noStrike">
                <a:solidFill>
                  <a:srgbClr val="eb641b"/>
                </a:solidFill>
                <a:latin typeface="Lucida Sans Unicode"/>
              </a:rPr>
              <a:t>	</a:t>
            </a:r>
            <a:r>
              <a:rPr b="1" lang="en-ZA" sz="1500" spc="-1" strike="noStrike">
                <a:solidFill>
                  <a:srgbClr val="eb641b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ff0000"/>
                </a:solidFill>
                <a:latin typeface="Lucida Sans Unicode"/>
              </a:rPr>
              <a:t>NO VAC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Botswana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South Africa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DRC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Lesotho    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Angola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Mauritiu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Malawi</a:t>
            </a:r>
            <a:r>
              <a:rPr b="0" lang="en-ZA" sz="15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ZA" sz="15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Madagascar</a:t>
            </a:r>
            <a:r>
              <a:rPr b="0" lang="en-ZA" sz="15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Seychelles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Mozambique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Namibia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Swaziland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ffc000"/>
                </a:solidFill>
                <a:latin typeface="Lucida Sans Unicode"/>
              </a:rPr>
              <a:t>Tanzania</a:t>
            </a:r>
            <a:r>
              <a:rPr b="0" lang="en-ZA" sz="1500" spc="-1" strike="noStrike">
                <a:solidFill>
                  <a:srgbClr val="ffff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Zambia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0000"/>
                </a:solidFill>
                <a:latin typeface="Lucida Sans Unicode"/>
              </a:rPr>
              <a:t>Zimbabw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900" spc="-1" strike="noStrike">
                <a:solidFill>
                  <a:srgbClr val="000000"/>
                </a:solidFill>
                <a:latin typeface="Lucida Sans Unicode"/>
              </a:rPr>
              <a:t>Coordinate vulnerability assessment and analysis work within the region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Lucida Sans Unicode"/>
              </a:rPr>
              <a:t>Organise Regional Annual Organisation Meetings where work plans are presented and discussed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55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900" spc="-1" strike="noStrike">
                <a:solidFill>
                  <a:srgbClr val="000000"/>
                </a:solidFill>
                <a:latin typeface="Lucida Sans Unicode"/>
              </a:rPr>
              <a:t>ICPs indicate what support they will offer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8491680" cy="1451160"/>
          </a:xfrm>
          <a:prstGeom prst="rect">
            <a:avLst/>
          </a:prstGeom>
          <a:ln w="0">
            <a:noFill/>
          </a:ln>
        </p:spPr>
      </p:pic>
      <p:sp>
        <p:nvSpPr>
          <p:cNvPr id="472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000" spc="-1" strike="noStrike">
                <a:solidFill>
                  <a:srgbClr val="000000"/>
                </a:solidFill>
                <a:latin typeface="Arial"/>
              </a:rPr>
              <a:t>SADC Regional Vulnerability Assessment &amp; Analysis Programme Management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1:46:56Z</dcterms:created>
  <dc:creator>Charles Rethman</dc:creator>
  <dc:description/>
  <dc:language>en-US</dc:language>
  <cp:lastModifiedBy>Duncan Samikwa</cp:lastModifiedBy>
  <dcterms:modified xsi:type="dcterms:W3CDTF">2010-09-01T08:43:42Z</dcterms:modified>
  <cp:revision>225</cp:revision>
  <dc:subject/>
  <dc:title>Measurements</dc:title>
</cp:coreProperties>
</file>