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312480" y="49644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ffffff"/>
                </a:solidFill>
                <a:latin typeface="SC Alex Bold"/>
              </a:rPr>
              <a:t>Click to move the slide</a:t>
            </a:r>
            <a:endParaRPr b="0" lang="en-US" sz="4300" spc="-1" strike="noStrike">
              <a:solidFill>
                <a:srgbClr val="ffffff"/>
              </a:solidFill>
              <a:latin typeface="SC Alex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28480" y="4467240"/>
            <a:ext cx="57405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C Morg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927600" y="9050400"/>
            <a:ext cx="3173400" cy="63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12840" y="49680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528480" y="4467240"/>
            <a:ext cx="574056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C Morgan"/>
              </a:rPr>
              <a:t>This document is designed to give a brief over-view of key issues emerging from the 2010 Kenya NCS Situation Analysis, as such it does not cover all subject areas – these are included in the full CRSA. </a:t>
            </a:r>
            <a:endParaRPr b="0" lang="en-US" sz="12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C Morgan"/>
              </a:rPr>
              <a:t>The Situation Analysis does not make recommendations for program or policy interventions - these will be outlined in the NCS plan. </a:t>
            </a:r>
            <a:endParaRPr b="0" lang="en-US" sz="12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802D-9E67-494A-8352-9FB4E4CC4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7DD0-8821-430A-95F7-2857DF493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DC66-DAD6-4639-B239-5F82FF077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917B-FEC8-48F2-B0F7-0A355999AF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001F-1636-469D-BA55-EBAF1E5A5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6592-7DF5-488E-82B5-935592712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4303-16B7-416A-8888-4B49A7E34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92395-77D2-4E6E-B3D0-26AA5E010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DACC-F5C8-4420-89F5-BAE32A956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229A9-27EE-48DE-BB18-AABD98106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80D6-DD18-41D3-92B0-7C517556A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2A5FC-9A75-477B-8DED-B2ECFCB0F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 flipH="1" rot="10800000">
            <a:off x="685800" y="1371240"/>
            <a:ext cx="7848720" cy="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D5AB-DDD1-4AE4-9CE3-414478BEF7D8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SC Alex Bold"/>
              </a:rPr>
              <a:t>Click to edit the title text format</a:t>
            </a:r>
            <a:endParaRPr b="0" lang="en-US" sz="4300" spc="-1" strike="noStrike">
              <a:solidFill>
                <a:srgbClr val="ffffff"/>
              </a:solidFill>
              <a:latin typeface="SC Alex Bold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05520" y="5486400"/>
            <a:ext cx="3429000" cy="69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Alex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SC Alex"/>
            </a:endParaRPr>
          </a:p>
          <a:p>
            <a:pPr lvl="1" marL="457200" indent="0" algn="ctr">
              <a:lnSpc>
                <a:spcPct val="11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2" marL="914400" algn="ctr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3" marL="1371600" algn="ctr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SC Morg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4" marL="1828800" algn="ctr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5" marL="1828800">
              <a:spcBef>
                <a:spcPts val="499"/>
              </a:spcBef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6" marL="1828800">
              <a:spcBef>
                <a:spcPts val="499"/>
              </a:spcBef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SC Alex Bold"/>
              </a:rPr>
              <a:t>INTEGRATING NUTRITION into FOOD SECURITY INFORMATION SYSTEMS</a:t>
            </a:r>
            <a:br>
              <a:rPr sz="3900"/>
            </a:b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SC Ale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Headlines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ECHNICAL: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MUAC &amp; MEAN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ADULT MALNUTRITION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INSTITUTIONAL: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“ </a:t>
            </a:r>
            <a:r>
              <a:rPr b="0" i="1" lang="en-US" sz="2400" spc="-1" strike="noStrike">
                <a:solidFill>
                  <a:srgbClr val="000000"/>
                </a:solidFill>
                <a:latin typeface="SC Morgan"/>
              </a:rPr>
              <a:t>discussion needs to focus as much on implementation as methods”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6F2F-038C-433D-8699-2B7938218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0643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lnSpc>
                <a:spcPct val="100000"/>
              </a:lnSpc>
              <a:spcAft>
                <a:spcPts val="524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C Morgan"/>
              </a:rPr>
              <a:t>REPEATED SURVEYS</a:t>
            </a: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lvl="1" marL="800280" indent="-343080">
              <a:lnSpc>
                <a:spcPct val="100000"/>
              </a:lnSpc>
              <a:spcAft>
                <a:spcPts val="425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C Morgan"/>
              </a:rPr>
              <a:t>National</a:t>
            </a:r>
            <a:endParaRPr b="0" lang="en-US" sz="1700" spc="-1" strike="noStrike">
              <a:solidFill>
                <a:srgbClr val="000000"/>
              </a:solidFill>
              <a:latin typeface="SC Morgan"/>
            </a:endParaRPr>
          </a:p>
          <a:p>
            <a:pPr lvl="1" marL="800280" indent="-343080">
              <a:lnSpc>
                <a:spcPct val="100000"/>
              </a:lnSpc>
              <a:spcAft>
                <a:spcPts val="425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C Morgan"/>
              </a:rPr>
              <a:t>Small-scale</a:t>
            </a:r>
            <a:endParaRPr b="0" lang="en-US" sz="1700" spc="-1" strike="noStrike">
              <a:solidFill>
                <a:srgbClr val="000000"/>
              </a:solidFill>
              <a:latin typeface="SC Morgan"/>
            </a:endParaRPr>
          </a:p>
          <a:p>
            <a:pPr marL="419040"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-419040">
              <a:lnSpc>
                <a:spcPct val="100000"/>
              </a:lnSpc>
              <a:spcAft>
                <a:spcPts val="524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C Morgan"/>
              </a:rPr>
              <a:t>GROWTH MONITORING</a:t>
            </a: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lvl="1" marL="800280" indent="-343080">
              <a:lnSpc>
                <a:spcPct val="100000"/>
              </a:lnSpc>
              <a:spcAft>
                <a:spcPts val="425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C Morgan"/>
              </a:rPr>
              <a:t>Community based</a:t>
            </a:r>
            <a:endParaRPr b="0" lang="en-US" sz="1700" spc="-1" strike="noStrike">
              <a:solidFill>
                <a:srgbClr val="000000"/>
              </a:solidFill>
              <a:latin typeface="SC Morgan"/>
            </a:endParaRPr>
          </a:p>
          <a:p>
            <a:pPr lvl="1" marL="800280" indent="-343080">
              <a:lnSpc>
                <a:spcPct val="100000"/>
              </a:lnSpc>
              <a:spcAft>
                <a:spcPts val="425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SC Morgan"/>
              </a:rPr>
              <a:t>Clinic</a:t>
            </a:r>
            <a:endParaRPr b="0" lang="en-US" sz="1700" spc="-1" strike="noStrike">
              <a:solidFill>
                <a:srgbClr val="000000"/>
              </a:solidFill>
              <a:latin typeface="SC Morgan"/>
            </a:endParaRPr>
          </a:p>
          <a:p>
            <a:pPr marL="419040"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-419040">
              <a:lnSpc>
                <a:spcPct val="100000"/>
              </a:lnSpc>
              <a:spcAft>
                <a:spcPts val="524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C Morgan"/>
              </a:rPr>
              <a:t>SENTINEL SITE SURVEILLANCE</a:t>
            </a: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-419040">
              <a:lnSpc>
                <a:spcPct val="100000"/>
              </a:lnSpc>
              <a:spcAft>
                <a:spcPts val="524"/>
              </a:spcAft>
              <a:buClr>
                <a:srgbClr val="a36abb"/>
              </a:buClr>
              <a:buFont typeface="SC Morg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C Morgan"/>
              </a:rPr>
              <a:t>SCHOOL CENSUS</a:t>
            </a: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  <a:p>
            <a:pPr marL="419040"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Methods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2F9F-826C-48A4-B58A-60BBC8E69E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36abb"/>
                </a:solidFill>
                <a:latin typeface="SC Alex Bold"/>
              </a:rPr>
              <a:t>SCUK ETHIOPIA </a:t>
            </a:r>
            <a:br>
              <a:rPr sz="2600"/>
            </a:br>
            <a:r>
              <a:rPr b="1" lang="en-US" sz="2600" spc="-1" strike="noStrike">
                <a:solidFill>
                  <a:srgbClr val="a36abb"/>
                </a:solidFill>
                <a:latin typeface="SC Alex Bold"/>
              </a:rPr>
              <a:t>NUTRITIONAL SURVEILLANCE PROJECT - NSP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5 years of nutritional surveillance.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Phased out in 2001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00% SCUK funded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£200,000 / year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B7C0-FCFA-4C69-A247-F800C222C5F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NSP DESIGN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2 clusters within one survey area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50 children sampled in each cluster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Data collected every 3 month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Mean weight for Length – key anthropometric measure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uster surveys every 6 months to verify surveillance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Lack of data on morbidity &amp; mortality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Focus on under-5’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Sampling based on administrative area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3230-E6B9-476E-B591-1D9C3B1E33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Evolution of the NSP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978 – 1986: Nutrition Field Worker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986 – 1991: NSP Established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991 - 1995: seeds of HEA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995 - 2001: Focus on Communication &amp; Phase ou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2001 - 2006 : From Surveillance to Rapid Assessment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9737-AC3B-4CD1-8A66-7E51BEDE5D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The decision to phase out 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Desire to handover to Governmen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cus on HEA for Early Warning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Mean WFL seen as outdated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NSP no longer viewed as appropriate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Decision to phase out was not informed by evaluation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! Phase out left key gaps into nutrition information in Ethiopia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3264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5A8F0-E800-4484-97FF-FD3F96D586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Key Learning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+ Trend data and the use of mean WFL was very effective – but this approach has fallen out of favour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+ Nutritional trend data can provide both early warning &amp; causal analysis of determinants of malnutrition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+ Local knowledge of field workers was a key component of successs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+ NSP was cost effective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0">
              <a:lnSpc>
                <a:spcPct val="11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NSP ability to trigger a response was varied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Shift to use of nutritional surveys undermines ability to provide early warning &amp; causal analysis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25800" indent="-32580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SC Morg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C Morgan"/>
              </a:rPr>
              <a:t>Use of 90% threshold may have masked the severity of some crises. 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67AD-06B6-4F55-BB4F-A54F52C6A7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The Malnutrition Problem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0 – 2 years old is critical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178 million children stunted, 55million wasted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80% of stunted children live in 20 Countrie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Globally there is not a strong geographic relationship between stunting &amp; wasting.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EBC5-97D4-45A0-ADA6-DBFC92CE2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36abb"/>
                </a:solidFill>
                <a:latin typeface="SC Alex Bold"/>
              </a:rPr>
              <a:t>SCUK Current work to integrate Nutrition &amp; Food Security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ost of the Diet: in collaboration with WFP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Listening Posts: in partnership with ACF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IPC: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1308-2F02-466D-B021-71B5456B61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5:04:11Z</dcterms:created>
  <dc:creator>rwalton</dc:creator>
  <dc:description/>
  <dc:language>en-US</dc:language>
  <cp:lastModifiedBy>mmurray</cp:lastModifiedBy>
  <dcterms:modified xsi:type="dcterms:W3CDTF">2010-09-01T12:50:18Z</dcterms:modified>
  <cp:revision>70</cp:revision>
  <dc:subject/>
  <dc:title>Presentation title goes here  in up to 2 lines of text</dc:title>
</cp:coreProperties>
</file>