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BEA0-0997-49B0-9229-4E904BC5E285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3FE7-6F13-4775-9F02-A913D0522A89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7B01-34D0-43A8-8C95-2D6A31DAFD5A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92A-6136-4CBC-B2B2-CEC8FF1D9FD1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609B-EF47-4362-9AC8-8083B17BF4DD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C517-2225-4463-BE9E-FBD607361A83}" type="slidenum">
              <a:rPr b="0" lang="fr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B958-447A-415B-A3BB-7567CF63B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92E7-A082-437E-8DF7-013D5C19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9FDD-2B84-4794-84DE-F5AF0263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07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6520" y="119700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07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6520" y="3792240"/>
            <a:ext cx="25387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A6A3C-5772-42E6-B93D-7A1D2A6D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F83E-D3BD-4477-B589-BD160EF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15A9-3C16-4002-B4A5-636CF8EA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6883-84CE-4BBD-AB24-C6A4300B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4C18-F40E-48ED-8D2E-C114219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4560" y="274680"/>
            <a:ext cx="788508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F40A1-A83B-4B7C-AC69-53C3A411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F8B6-CC98-4343-860A-CA2A76E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4840" y="379224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3D8F-9BD8-49A8-BAE8-32C1A8C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197000"/>
            <a:ext cx="3847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3792240"/>
            <a:ext cx="78850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5C08-7763-4698-9308-601BE80E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67280" y="188640"/>
            <a:ext cx="12970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FA91-8ACB-47EA-9DAA-52B7AE375953}" type="slidenum">
              <a:rPr b="0" lang="fr-BE" sz="1400" spc="-1" strike="noStrike">
                <a:solidFill>
                  <a:srgbClr val="0066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848880" y="6381720"/>
            <a:ext cx="1584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AE1D-C15F-41AF-8C3F-785559D36C0D}" type="datetime">
              <a:rPr b="0" lang="en-GB" sz="1200" spc="-1" strike="noStrike">
                <a:solidFill>
                  <a:srgbClr val="808080"/>
                </a:solidFill>
                <a:latin typeface="Tahom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203640" y="6410160"/>
            <a:ext cx="3456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6000" y="15570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 Humanitarian Perspective on Food Security Information Systems 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860280"/>
            <a:ext cx="7777080" cy="17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Symposium on Information Systems for Food Security</a:t>
            </a: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ahoma"/>
              </a:rPr>
              <a:t>Brussels, 1-2 September 2010</a:t>
            </a: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72" name="Picture 5" descr="ipc_reg_wkshp_081024"/>
          <p:cNvPicPr/>
          <p:nvPr/>
        </p:nvPicPr>
        <p:blipFill>
          <a:blip r:embed="rId1"/>
          <a:stretch/>
        </p:blipFill>
        <p:spPr>
          <a:xfrm>
            <a:off x="1363680" y="262080"/>
            <a:ext cx="58723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mmon prioritie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o shortages of challenges – can we identify common priorities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balancing investment in analysis with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ver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alysis of caus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ood insecurity (eg. I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ng nutrition in analysis, programming and 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ance of coordination – recognize and consider linkages with hum initiatives (Clusters, NAT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Tahoma"/>
              </a:rPr>
              <a:t>THANK YOU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Outline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Humanitarian (food security) information systems; what do we do, what have we learnt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Tahoma"/>
              </a:rPr>
              <a:t>Moving forward; linking the humanitarian and development agendas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The Humanitarian Regulation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Objectives and scope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meet the needs generated by natural or man-made disasters or comparable exceptional circumstan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lief operations to save and preserve life in emergencies or their immediate afterma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n element of short-term rehabilit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preparedness for risks of natural disaster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Principles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umanitarian aid decisions must be taken impartially and solely according to the victims' needs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Tahoma"/>
              </a:rPr>
              <a:t>Partners</a:t>
            </a:r>
            <a:endParaRPr b="0" lang="en-US" sz="24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GOs and International Organiz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he context for our food assistance work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22200" y="1628640"/>
          <a:ext cx="4141800" cy="4973760"/>
        </p:xfrm>
        <a:graphic>
          <a:graphicData uri="http://schemas.openxmlformats.org/drawingml/2006/table">
            <a:tbl>
              <a:tblPr/>
              <a:tblGrid>
                <a:gridCol w="1662120"/>
                <a:gridCol w="1121040"/>
                <a:gridCol w="13586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en largest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010 N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% of 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u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85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Som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Ir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4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DP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Ethio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0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Afghanis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Ken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4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Ch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2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otal of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3 3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5,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Tahom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 Box 72"/>
          <p:cNvSpPr/>
          <p:nvPr/>
        </p:nvSpPr>
        <p:spPr>
          <a:xfrm>
            <a:off x="5580000" y="1658880"/>
            <a:ext cx="302436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largest countries make up 2/3 of the total Programme of Work for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FP Management Plan 2010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as presented in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ahoma"/>
              </a:rPr>
              <a:t>The scope of Food Security Information Systems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34560" y="6286320"/>
            <a:ext cx="7885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EC Staff Working Paper on Humanitarian Food Assistance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ahoma"/>
              </a:rPr>
              <a:t>The focus of DG ECHO support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34560" y="6286320"/>
            <a:ext cx="788508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ahoma"/>
              </a:rPr>
              <a:t>EC Staff Working Paper on Humanitarian Food Assistance</a:t>
            </a:r>
            <a:endParaRPr b="0" lang="en-US" sz="1600" spc="-1" strike="noStrike">
              <a:solidFill>
                <a:srgbClr val="006699"/>
              </a:solidFill>
              <a:latin typeface="Tahoma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428840" y="1285920"/>
            <a:ext cx="628632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"/>
          <p:cNvSpPr/>
          <p:nvPr/>
        </p:nvSpPr>
        <p:spPr>
          <a:xfrm>
            <a:off x="1214280" y="4286160"/>
            <a:ext cx="6572520" cy="71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DG ECHO support to Information Systems (Emergency Needs Assessments)</a:t>
            </a:r>
            <a:endParaRPr b="1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Investment in order of EUR 5m per year for capacity building for </a:t>
            </a:r>
            <a:r>
              <a:rPr b="1" i="1" lang="en-US" sz="2000" spc="-1" strike="noStrike">
                <a:solidFill>
                  <a:srgbClr val="006699"/>
                </a:solidFill>
                <a:latin typeface="Tahoma"/>
              </a:rPr>
              <a:t>food security information systems</a:t>
            </a: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Food information system related investments (2005 on) include: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FP SENAC and ENCAP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O Integrated Food Security Phase Classification and Response Analysis Framework pro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CEF Global Nutrition Cluster and NIPHOR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Tahoma"/>
              </a:rPr>
              <a:t>With further support to related systems</a:t>
            </a: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O Global Health Cluster and H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h and Voucher Learning Partnership (CaL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3723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HA ACE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Key lesson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Limited information and analysis is still a critical constraint to objective decision making on humanitarian response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Highlight importance of working in collaboration with development partners: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ons between chronic and acute food in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relevance of humanitarian initiatives to development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tive disadvantages of DG ECHO in supporting HIS (duration &amp; predictability,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34560" y="274680"/>
            <a:ext cx="78850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mmon priorities</a:t>
            </a:r>
            <a:endParaRPr b="1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34560" y="119700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Tahoma"/>
              </a:rPr>
              <a:t>No shortages of challenges – can we identify common priorities?</a:t>
            </a: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balancing investment in analysis with data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rability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ver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nalysis of causalit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food insecurity (eg. IP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2:00:28Z</dcterms:created>
  <dc:creator>Kax</dc:creator>
  <dc:description/>
  <dc:language>en-US</dc:language>
  <cp:lastModifiedBy>Your User Name</cp:lastModifiedBy>
  <dcterms:modified xsi:type="dcterms:W3CDTF">2010-09-02T11:56:20Z</dcterms:modified>
  <cp:revision>48</cp:revision>
  <dc:subject/>
  <dc:title>Diapositive 1</dc:title>
</cp:coreProperties>
</file>