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312480" y="49644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300" spc="-1" strike="noStrike">
                <a:solidFill>
                  <a:srgbClr val="ffffff"/>
                </a:solidFill>
                <a:latin typeface="SC Alex Bold"/>
              </a:rPr>
              <a:t>Click to move the slide</a:t>
            </a:r>
            <a:endParaRPr b="0" lang="en-US" sz="4300" spc="-1" strike="noStrike">
              <a:solidFill>
                <a:srgbClr val="ffffff"/>
              </a:solidFill>
              <a:latin typeface="SC Alex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28480" y="4467240"/>
            <a:ext cx="574056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C Morg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C Morg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27600" y="9050400"/>
            <a:ext cx="3173400" cy="63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312840" y="49680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528480" y="4467240"/>
            <a:ext cx="574056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C Morgan"/>
              </a:rPr>
              <a:t>This document is designed to give a brief over-view of key issues emerging from the 2010 Kenya NCS Situation Analysis, as such it does not cover all subject areas – these are included in the full CRSA. </a:t>
            </a:r>
            <a:endParaRPr b="0" lang="en-US" sz="1200" spc="-1" strike="noStrike">
              <a:solidFill>
                <a:srgbClr val="000000"/>
              </a:solidFill>
              <a:latin typeface="SC Morg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C Morg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C Morgan"/>
              </a:rPr>
              <a:t>The Situation Analysis does not make recommendations for program or policy interventions - these will be outlined in the NCS plan. </a:t>
            </a:r>
            <a:endParaRPr b="0" lang="en-US" sz="12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D24E4-E770-4615-9AEE-800F1DADA0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E9FE-D9DA-4929-8CE5-C84DABC43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08E48-68D4-45F5-A513-91B7404F1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A530F-B36F-4345-9E14-7B2DD0845B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C Alex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SC Alex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C Alex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A3D7-20DF-4D08-832D-1C83A3AFB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D6884-73A5-4FFA-8D7D-F96E81F60E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69059-B31D-417F-80A2-52E9CD2A4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6B149-1277-4826-B407-0F069A4E5B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SC Alex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8497B-1240-46DB-BFF8-51ED3BC0F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CDE63-E716-416A-A4D4-8977E959E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2A9C9-B2D7-4C92-BE94-0622D2352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A8704-6A65-46F4-A7E6-53B0B3FE80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 flipH="1" rot="10800000">
            <a:off x="685800" y="1371240"/>
            <a:ext cx="7848720" cy="8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2E8B-74A7-4647-AFD1-ABD44B20E97F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SC Alex Bold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SC Alex Bold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105520" y="5486400"/>
            <a:ext cx="3429000" cy="696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 Alex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SC Alex"/>
            </a:endParaRPr>
          </a:p>
          <a:p>
            <a:pPr lvl="1" marL="457200" indent="0" algn="ctr">
              <a:lnSpc>
                <a:spcPct val="11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lvl="2" marL="914400" algn="ctr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lvl="3" marL="1371600" algn="ctr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SC Morg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lvl="4" marL="1828800" algn="ctr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lvl="5" marL="1828800">
              <a:spcBef>
                <a:spcPts val="499"/>
              </a:spcBef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lvl="6" marL="1828800">
              <a:spcBef>
                <a:spcPts val="499"/>
              </a:spcBef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SC Alex Bold"/>
              </a:rPr>
              <a:t>INTEGRATING NUTRITION into FOOD SECURITY INFORMATION SYSTEMS</a:t>
            </a: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SC Alex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Headlines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ECHNICAL: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MUAC &amp; MEANS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ADULT MALNUTRITION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INSTITUTIONAL: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“ </a:t>
            </a:r>
            <a:r>
              <a:rPr b="0" i="1" lang="en-US" sz="2400" spc="-1" strike="noStrike">
                <a:solidFill>
                  <a:srgbClr val="000000"/>
                </a:solidFill>
                <a:latin typeface="SC Morgan"/>
              </a:rPr>
              <a:t>discussion needs to focus as much on implementation as methods”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B1E6D-E1CC-403D-9693-D9199DCE3D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80643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lnSpc>
                <a:spcPct val="100000"/>
              </a:lnSpc>
              <a:spcAft>
                <a:spcPts val="524"/>
              </a:spcAft>
              <a:buClr>
                <a:srgbClr val="a36abb"/>
              </a:buClr>
              <a:buFont typeface="SC Morg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C Morgan"/>
              </a:rPr>
              <a:t>REPEATED SURVEYS</a:t>
            </a:r>
            <a:endParaRPr b="0" lang="en-US" sz="2100" spc="-1" strike="noStrike">
              <a:solidFill>
                <a:srgbClr val="000000"/>
              </a:solidFill>
              <a:latin typeface="SC Morgan"/>
            </a:endParaRPr>
          </a:p>
          <a:p>
            <a:pPr lvl="1" marL="800280" indent="-343080">
              <a:lnSpc>
                <a:spcPct val="100000"/>
              </a:lnSpc>
              <a:spcAft>
                <a:spcPts val="425"/>
              </a:spcAft>
              <a:buClr>
                <a:srgbClr val="a36abb"/>
              </a:buClr>
              <a:buFont typeface="SC Morg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C Morgan"/>
              </a:rPr>
              <a:t>National</a:t>
            </a:r>
            <a:endParaRPr b="0" lang="en-US" sz="1700" spc="-1" strike="noStrike">
              <a:solidFill>
                <a:srgbClr val="000000"/>
              </a:solidFill>
              <a:latin typeface="SC Morgan"/>
            </a:endParaRPr>
          </a:p>
          <a:p>
            <a:pPr lvl="1" marL="800280" indent="-343080">
              <a:lnSpc>
                <a:spcPct val="100000"/>
              </a:lnSpc>
              <a:spcAft>
                <a:spcPts val="425"/>
              </a:spcAft>
              <a:buClr>
                <a:srgbClr val="a36abb"/>
              </a:buClr>
              <a:buFont typeface="SC Morg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C Morgan"/>
              </a:rPr>
              <a:t>Small-scale</a:t>
            </a:r>
            <a:endParaRPr b="0" lang="en-US" sz="1700" spc="-1" strike="noStrike">
              <a:solidFill>
                <a:srgbClr val="000000"/>
              </a:solidFill>
              <a:latin typeface="SC Morgan"/>
            </a:endParaRPr>
          </a:p>
          <a:p>
            <a:pPr marL="419040" indent="0">
              <a:lnSpc>
                <a:spcPct val="100000"/>
              </a:lnSpc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SC Morgan"/>
            </a:endParaRPr>
          </a:p>
          <a:p>
            <a:pPr marL="419040" indent="-419040">
              <a:lnSpc>
                <a:spcPct val="100000"/>
              </a:lnSpc>
              <a:spcAft>
                <a:spcPts val="524"/>
              </a:spcAft>
              <a:buClr>
                <a:srgbClr val="a36abb"/>
              </a:buClr>
              <a:buFont typeface="SC Morg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C Morgan"/>
              </a:rPr>
              <a:t>GROWTH MONITORING</a:t>
            </a:r>
            <a:endParaRPr b="0" lang="en-US" sz="2100" spc="-1" strike="noStrike">
              <a:solidFill>
                <a:srgbClr val="000000"/>
              </a:solidFill>
              <a:latin typeface="SC Morgan"/>
            </a:endParaRPr>
          </a:p>
          <a:p>
            <a:pPr lvl="1" marL="800280" indent="-343080">
              <a:lnSpc>
                <a:spcPct val="100000"/>
              </a:lnSpc>
              <a:spcAft>
                <a:spcPts val="425"/>
              </a:spcAft>
              <a:buClr>
                <a:srgbClr val="a36abb"/>
              </a:buClr>
              <a:buFont typeface="SC Morg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C Morgan"/>
              </a:rPr>
              <a:t>Community based</a:t>
            </a:r>
            <a:endParaRPr b="0" lang="en-US" sz="1700" spc="-1" strike="noStrike">
              <a:solidFill>
                <a:srgbClr val="000000"/>
              </a:solidFill>
              <a:latin typeface="SC Morgan"/>
            </a:endParaRPr>
          </a:p>
          <a:p>
            <a:pPr lvl="1" marL="800280" indent="-343080">
              <a:lnSpc>
                <a:spcPct val="100000"/>
              </a:lnSpc>
              <a:spcAft>
                <a:spcPts val="425"/>
              </a:spcAft>
              <a:buClr>
                <a:srgbClr val="a36abb"/>
              </a:buClr>
              <a:buFont typeface="SC Morg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C Morgan"/>
              </a:rPr>
              <a:t>Clinic</a:t>
            </a:r>
            <a:endParaRPr b="0" lang="en-US" sz="1700" spc="-1" strike="noStrike">
              <a:solidFill>
                <a:srgbClr val="000000"/>
              </a:solidFill>
              <a:latin typeface="SC Morgan"/>
            </a:endParaRPr>
          </a:p>
          <a:p>
            <a:pPr marL="419040" indent="0">
              <a:lnSpc>
                <a:spcPct val="100000"/>
              </a:lnSpc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SC Morgan"/>
            </a:endParaRPr>
          </a:p>
          <a:p>
            <a:pPr marL="419040" indent="-419040">
              <a:lnSpc>
                <a:spcPct val="100000"/>
              </a:lnSpc>
              <a:spcAft>
                <a:spcPts val="524"/>
              </a:spcAft>
              <a:buClr>
                <a:srgbClr val="a36abb"/>
              </a:buClr>
              <a:buFont typeface="SC Morg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C Morgan"/>
              </a:rPr>
              <a:t>SENTINEL SITE SURVEILLANCE</a:t>
            </a:r>
            <a:endParaRPr b="0" lang="en-US" sz="2100" spc="-1" strike="noStrike">
              <a:solidFill>
                <a:srgbClr val="000000"/>
              </a:solidFill>
              <a:latin typeface="SC Morgan"/>
            </a:endParaRPr>
          </a:p>
          <a:p>
            <a:pPr marL="419040" indent="0">
              <a:lnSpc>
                <a:spcPct val="100000"/>
              </a:lnSpc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SC Morgan"/>
            </a:endParaRPr>
          </a:p>
          <a:p>
            <a:pPr marL="419040" indent="-419040">
              <a:lnSpc>
                <a:spcPct val="100000"/>
              </a:lnSpc>
              <a:spcAft>
                <a:spcPts val="524"/>
              </a:spcAft>
              <a:buClr>
                <a:srgbClr val="a36abb"/>
              </a:buClr>
              <a:buFont typeface="SC Morg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C Morgan"/>
              </a:rPr>
              <a:t>SCHOOL CENSUS</a:t>
            </a:r>
            <a:endParaRPr b="0" lang="en-US" sz="2100" spc="-1" strike="noStrike">
              <a:solidFill>
                <a:srgbClr val="000000"/>
              </a:solidFill>
              <a:latin typeface="SC Morgan"/>
            </a:endParaRPr>
          </a:p>
          <a:p>
            <a:pPr marL="419040" indent="0">
              <a:lnSpc>
                <a:spcPct val="100000"/>
              </a:lnSpc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Methods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495F0-7C5D-4597-A471-E4433911170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36abb"/>
                </a:solidFill>
                <a:latin typeface="SC Alex Bold"/>
              </a:rPr>
              <a:t>SCUK ETHIOPIA </a:t>
            </a:r>
            <a:br>
              <a:rPr sz="2600"/>
            </a:br>
            <a:r>
              <a:rPr b="1" lang="en-US" sz="2600" spc="-1" strike="noStrike">
                <a:solidFill>
                  <a:srgbClr val="a36abb"/>
                </a:solidFill>
                <a:latin typeface="SC Alex Bold"/>
              </a:rPr>
              <a:t>NUTRITIONAL SURVEILLANCE PROJECT - NSP</a:t>
            </a:r>
            <a:endParaRPr b="1" lang="en-US" sz="26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15 years of nutritional surveillance. 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Phased out in 2001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100% SCUK funded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£200,000 / year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29CF8-2BD0-4C45-8266-C6A33C4E97D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NSP DESIGN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12 clusters within one survey area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25800" indent="-3258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50 children sampled in each cluster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25800" indent="-3258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Data collected every 3 months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25800" indent="-3258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Mean weight for Length – key anthropometric measure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25800" indent="-3258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uster surveys every 6 months to verify surveillance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2580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2580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! Lack of data on morbidity &amp; mortality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2580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! Focus on under-5’s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2580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! Sampling based on administrative areas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2580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E4F85-4E8E-4BCC-83FC-087FC00FB4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Evolution of the NSP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1978 – 1986: Nutrition Field Workers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1986 – 1991: NSP Established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1991 - 1995: seeds of HEA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1995 - 2001: Focus on Communication &amp; Phase ou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2001 - 2006 : From Surveillance to Rapid Assessments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61B87-D78F-4243-AD64-D0678FFAD0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The decision to phase out 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32640" indent="-3326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Desire to handover to Governmen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32640" indent="-3326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cus on HEA for Early Warning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32640" indent="-3326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Mean WFL seen as outdated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32640" indent="-3326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NSP no longer viewed as appropriate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3264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3264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! Decision to phase out was not informed by evaluation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3264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! Phase out left key gaps into nutrition information in Ethiopia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3264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BD00B-44D5-4CED-8ED3-B6274C114D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Key Learning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0">
              <a:lnSpc>
                <a:spcPct val="11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C Morgan"/>
              </a:rPr>
              <a:t>+ Trend data and the use of mean WFL was very effective – but this approach has fallen out of favour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marL="325800" indent="0">
              <a:lnSpc>
                <a:spcPct val="11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C Morgan"/>
              </a:rPr>
              <a:t>+ Nutritional trend data can provide both early warning &amp; causal analysis of determinants of malnutrition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marL="325800" indent="0">
              <a:lnSpc>
                <a:spcPct val="11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C Morgan"/>
              </a:rPr>
              <a:t>+ Local knowledge of field workers was a key component of successs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marL="325800" indent="0">
              <a:lnSpc>
                <a:spcPct val="11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C Morgan"/>
              </a:rPr>
              <a:t>+ NSP was cost effective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marL="325800" indent="0">
              <a:lnSpc>
                <a:spcPct val="11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marL="325800" indent="-32580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SC Morg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C Morgan"/>
              </a:rPr>
              <a:t>NSP ability to trigger a response was varied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marL="325800" indent="-32580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SC Morg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C Morgan"/>
              </a:rPr>
              <a:t>Shift to use of nutritional surveys undermines ability to provide early warning &amp; causal analysis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marL="325800" indent="-32580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SC Morg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C Morgan"/>
              </a:rPr>
              <a:t>Use of 90% threshold may have masked the severity of some crises. 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F8F5A-47C6-4CBF-9E0C-46BEB59101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The Malnutrition Problem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0 – 2 years old is critical 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178 million children stunted, 55million wasted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80% of stunted children live in 20 Countries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Globally there is not a strong geographic relationship between stunting &amp; wasting. 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92892-30C4-4494-96B4-A6163F26D5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36abb"/>
                </a:solidFill>
                <a:latin typeface="SC Alex Bold"/>
              </a:rPr>
              <a:t>SCUK Current work to integrate Nutrition &amp; Food Security</a:t>
            </a:r>
            <a:endParaRPr b="1" lang="en-US" sz="26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ost of the Diet: in collaboration with WFP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Listening Posts: in partnership with ACF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IPC: 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6D552-3517-45F9-957C-7ADB39ED9F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5:04:11Z</dcterms:created>
  <dc:creator>rwalton</dc:creator>
  <dc:description/>
  <dc:language>en-US</dc:language>
  <cp:lastModifiedBy>mmurray</cp:lastModifiedBy>
  <dcterms:modified xsi:type="dcterms:W3CDTF">2010-09-01T12:50:18Z</dcterms:modified>
  <cp:revision>70</cp:revision>
  <dc:subject/>
  <dc:title>Presentation title goes here  in up to 2 lines of text</dc:title>
</cp:coreProperties>
</file>