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061E-CFB3-466F-AD48-44F07CD5186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07C-AFB8-4EBB-8677-CF6C3FD7526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8FDA-B05E-40DC-8438-7F6E11ADF0A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52A2-E66A-4CA3-9F8C-4FD687FE5FB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4634-5B0A-4361-B309-5857CD7529B7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B2FD-C1E7-4B53-BC4C-56C55F49A08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419D-944D-4396-BAB6-3B8192EF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E495-5671-4496-A736-31A0B1EB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6680-0EDD-4DE2-A386-0F8B0C31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07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5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007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5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B346-0BA8-4194-A721-4367A3C2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E3FF-5A9D-4B3F-AFA9-80A7FBFB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47AA-F32F-4255-9799-9D3EF83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B7E3-D6E0-40B3-A78E-A7DF4307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470E-6E80-4B6A-B9AF-01AADBBD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4560" y="274680"/>
            <a:ext cx="78850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BFD2-466C-4C11-B578-020F1E4E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D0AD-A0F5-4FBE-8B2F-EBFEE725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7C83-746D-4F62-A966-A99BAE2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124B-6015-4678-9C18-CD15F05A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67280" y="188640"/>
            <a:ext cx="12970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DC0A-AF06-4C61-AB94-71C99924E134}" type="slidenum">
              <a:rPr b="0" lang="fr-BE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848880" y="6381720"/>
            <a:ext cx="1584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B192-E8AA-4815-8FB2-D94C9E14B0D2}" type="datetime">
              <a:rPr b="0" lang="en-GB" sz="1200" spc="-1" strike="noStrike">
                <a:solidFill>
                  <a:srgbClr val="808080"/>
                </a:solidFill>
                <a:latin typeface="Tahom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203640" y="6410160"/>
            <a:ext cx="3456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1557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A Humanitarian Perspective on Food Security Information Systems 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3860280"/>
            <a:ext cx="7777080" cy="17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Symposium on Information Systems for Food Security</a:t>
            </a:r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Brussels, 1-2 September 2010</a:t>
            </a:r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72" name="Picture 5" descr="ipc_reg_wkshp_081024"/>
          <p:cNvPicPr/>
          <p:nvPr/>
        </p:nvPicPr>
        <p:blipFill>
          <a:blip r:embed="rId1"/>
          <a:stretch/>
        </p:blipFill>
        <p:spPr>
          <a:xfrm>
            <a:off x="1363680" y="262080"/>
            <a:ext cx="58723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mmon priorities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o shortages of challenges – can we identify common priorities?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balancing investment in analysis with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ver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alysis of causal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food insecurity (eg. IP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ng nutrition in analysis, programming and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ce of coordination – recognize and consider linkages with hum initiatives (Clusters, NAT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Tahoma"/>
              </a:rPr>
              <a:t>THANK YOU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Outline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Humanitarian (food security) information systems; what do we do, what have we learnt?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Moving forward; linking the humanitarian and development agenda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The Humanitarian Regula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Tahoma"/>
              </a:rPr>
              <a:t>Objectives and scope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meet the needs generated by natural or man-made disasters or comparable exceptional circumstan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lief operations to save and preserve life in emergencies or their immediate afterma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 element of short-term rehabili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preparedness for risks of natural disaster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Tahoma"/>
              </a:rPr>
              <a:t>Principles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umanitarian aid decisions must be taken impartially and solely according to the victims' needs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Tahoma"/>
              </a:rPr>
              <a:t>Partners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GOs and International Organ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he context for our food assistance work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22200" y="1628640"/>
          <a:ext cx="4141800" cy="4973760"/>
        </p:xfrm>
        <a:graphic>
          <a:graphicData uri="http://schemas.openxmlformats.org/drawingml/2006/table">
            <a:tbl>
              <a:tblPr/>
              <a:tblGrid>
                <a:gridCol w="1662120"/>
                <a:gridCol w="1121040"/>
                <a:gridCol w="13586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Ten largest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010 Ne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% of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Su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85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Som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4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Ira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3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DP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3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3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Afghan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4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4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Ch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1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Total of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3 3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5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72"/>
          <p:cNvSpPr/>
          <p:nvPr/>
        </p:nvSpPr>
        <p:spPr>
          <a:xfrm>
            <a:off x="5580000" y="1658880"/>
            <a:ext cx="3024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largest countries make up 2/3 of the total Programme of Work for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FP Management Plan 2010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as presented in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ahoma"/>
              </a:rPr>
              <a:t>The scope of Food Security Information Systems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34560" y="6286320"/>
            <a:ext cx="78850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EC Staff Working Paper on Humanitarian Food Assistance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62863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The focus of DG ECHO support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4560" y="6286320"/>
            <a:ext cx="78850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EC Staff Working Paper on Humanitarian Food Assistance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628632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"/>
          <p:cNvSpPr/>
          <p:nvPr/>
        </p:nvSpPr>
        <p:spPr>
          <a:xfrm>
            <a:off x="1214280" y="4286160"/>
            <a:ext cx="6572520" cy="71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DG ECHO support to Information Systems (Emergency Needs Assessments)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Investment in order of EUR 5m per year for capacity building for </a:t>
            </a:r>
            <a:r>
              <a:rPr b="1" i="1" lang="en-US" sz="2000" spc="-1" strike="noStrike">
                <a:solidFill>
                  <a:srgbClr val="006699"/>
                </a:solidFill>
                <a:latin typeface="Tahoma"/>
              </a:rPr>
              <a:t>food security information systems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Food information system related investments (2005 on) include: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FP SENAC and ENCAP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O Integrated Food Security Phase Classification and Response Analysis Framework pro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CEF Global Nutrition Cluster and NIPHO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With further support to related systems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O Global Health Cluster and H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h and Voucher Learning Partnership (CaL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CHA ACE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Key lessons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Limited information and analysis is still a critical constraint to objective decision making on humanitarian response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Highlight importance of working in collaboration with development partners: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s between chronic and acute food in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relevance of humanitarian initiatives to development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ative disadvantages of DG ECHO in supporting HIS (duration &amp; predictability,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mmon priorities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o shortages of challenges – can we identify common priorities?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balancing investment in analysis with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ver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alysis of causal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food insecurity (eg. IP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00:28Z</dcterms:created>
  <dc:creator>Kax</dc:creator>
  <dc:description/>
  <dc:language>en-US</dc:language>
  <cp:lastModifiedBy>Your User Name</cp:lastModifiedBy>
  <dcterms:modified xsi:type="dcterms:W3CDTF">2010-09-02T11:56:20Z</dcterms:modified>
  <cp:revision>48</cp:revision>
  <dc:subject/>
  <dc:title>Diapositive 1</dc:title>
</cp:coreProperties>
</file>