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065F-F41F-441F-82EC-D14CEC158794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77F9-5C61-48FF-A7A5-CA3FBD4E24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546C2-3235-4FC5-944D-E85D62EDB7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6A01-68A5-4D94-8EBE-4F74D78133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B2100-B5EC-4A81-AC2C-6A6FE080C8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78A1-8C0D-4602-8546-0B2D5173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2E52-B875-4837-BDCF-C9069C04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97A-3AAD-434D-8088-DEF7792D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6C1-A6C1-4ECB-A023-2FF22255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916E-6A90-4385-BEB2-A70D02D3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BE6B-C966-48D6-986B-6CD75C9A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818F-2448-4F2D-A5B2-F866EC75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96AB-6661-44ED-A1A2-D057653A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D4B5-B4FC-4BB7-AA23-65FBBFAE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A85A-6BCA-4ABE-B2EF-6276216D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0FE9-2677-4F40-89B3-137C65BE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DA7-4092-4B2B-BA52-66F56981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0555-F06B-4746-A37C-9DB4AD10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51BC-7B0D-4BB8-A3CF-C153FDC7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4CEA-BC11-4908-8A61-2F195C01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4FD6-846D-41EA-9DBE-192BE8CB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3861-255A-4D3E-8230-8988CDCA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16B1D-B8CB-402F-BF53-AF3F7CF6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A82B2-B102-4190-A10D-07D1D163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9B0BD-D634-4E4E-8771-977B9AE6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58BB3-848B-420A-AC02-09EDE944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CF33C-73F3-4DA8-B9D0-5F50E684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6B6-E18D-4F21-8D22-CC7EBBD1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523D1-7601-4F31-8B34-1A2CFC34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BDDDC-70DE-4B1D-BDD6-8D6C153E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98950-D5A1-4116-B852-D601F844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6E02F-4974-4C1D-93C1-103D193E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B00C5-8542-4752-9480-5A366C2B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C2A78-1E52-47A1-A7F4-95AC83BE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A4E00-D32A-4377-8C46-A99E1AF6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06D4-D2E1-4960-B27C-AF178A93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AE5-7C40-42A9-A605-7B46A250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06A-BCC1-4C83-A174-0BA38FC5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B3ED-E283-418F-99D9-C66B166A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4BC-A8CC-4557-AFE0-E77DB87C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F4D3-31FC-4368-9630-73163841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CFB5-DFA5-42D8-B31E-59F51619E9F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0DEC-D440-4468-8CBD-255512637F43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97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98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99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0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1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3709-331E-4FDC-971F-424653C1EC6C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103c72"/>
                </a:solidFill>
                <a:latin typeface="Calibri"/>
                <a:ea typeface="Calibri"/>
              </a:rPr>
              <a:t>JHDF Formulation </a:t>
            </a:r>
            <a:r>
              <a:rPr b="1" lang="en-GB" sz="4000" spc="-1" strike="noStrike">
                <a:solidFill>
                  <a:srgbClr val="103c72"/>
                </a:solidFill>
                <a:latin typeface="Calibri"/>
                <a:ea typeface="Calibri"/>
              </a:rPr>
              <a:t>Exercise</a:t>
            </a:r>
            <a:br>
              <a:rPr sz="4000"/>
            </a:br>
            <a:r>
              <a:rPr b="1" lang="en-GB" sz="4000" spc="-1" strike="noStrike">
                <a:solidFill>
                  <a:srgbClr val="103c72"/>
                </a:solidFill>
                <a:latin typeface="Calibri"/>
                <a:ea typeface="Calibri"/>
              </a:rPr>
              <a:t>Sri Lanka</a:t>
            </a:r>
            <a:endParaRPr b="1" lang="en-US" sz="40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71280" y="3644640"/>
            <a:ext cx="708804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3c72"/>
                </a:solidFill>
                <a:latin typeface="Calibri"/>
                <a:ea typeface="Calibri"/>
              </a:rPr>
              <a:t>Working Group 2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3c72"/>
                </a:solidFill>
                <a:latin typeface="Calibri"/>
                <a:ea typeface="Calibri"/>
              </a:rPr>
              <a:t>Acting in Transition Training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3c72"/>
                </a:solidFill>
                <a:latin typeface="Calibri"/>
                <a:ea typeface="Calibri"/>
              </a:rPr>
              <a:t>18</a:t>
            </a:r>
            <a:r>
              <a:rPr b="1" lang="en-US" sz="2800" spc="-1" strike="noStrike" baseline="30000">
                <a:solidFill>
                  <a:srgbClr val="103c72"/>
                </a:solidFill>
                <a:latin typeface="Calibri"/>
                <a:ea typeface="Calibri"/>
              </a:rPr>
              <a:t>th</a:t>
            </a:r>
            <a:r>
              <a:rPr b="1" lang="en-US" sz="2800" spc="-1" strike="noStrike">
                <a:solidFill>
                  <a:srgbClr val="103c72"/>
                </a:solidFill>
                <a:latin typeface="Calibri"/>
                <a:ea typeface="Calibri"/>
              </a:rPr>
              <a:t> – 20</a:t>
            </a:r>
            <a:r>
              <a:rPr b="1" lang="en-US" sz="2800" spc="-1" strike="noStrike" baseline="30000">
                <a:solidFill>
                  <a:srgbClr val="103c72"/>
                </a:solidFill>
                <a:latin typeface="Calibri"/>
                <a:ea typeface="Calibri"/>
              </a:rPr>
              <a:t>th</a:t>
            </a:r>
            <a:r>
              <a:rPr b="1" lang="en-US" sz="2800" spc="-1" strike="noStrike">
                <a:solidFill>
                  <a:srgbClr val="103c72"/>
                </a:solidFill>
                <a:latin typeface="Calibri"/>
                <a:ea typeface="Calibri"/>
              </a:rPr>
              <a:t> July 2011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3c72"/>
                </a:solidFill>
                <a:latin typeface="Calibri"/>
                <a:ea typeface="Calibri"/>
              </a:rPr>
              <a:t>Brussels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satellite-image-of-sri-lanka reduced.jpg"/>
          <p:cNvPicPr/>
          <p:nvPr/>
        </p:nvPicPr>
        <p:blipFill>
          <a:blip r:embed="rId1"/>
          <a:srcRect l="35926" t="0" r="0" b="0"/>
          <a:stretch/>
        </p:blipFill>
        <p:spPr>
          <a:xfrm>
            <a:off x="5940360" y="1268280"/>
            <a:ext cx="2446560" cy="3975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Calibri"/>
                <a:ea typeface="Calibri"/>
              </a:rPr>
              <a:t>Step 1: Analysis of problem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5689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-177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fflicted by regional and ethnic divide between South-West (Sinhala) vs. North-East (Tamil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ri Lanka (22 Million inhabitants) is transiting between LDC and MDC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778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ivil war (1983 – 2009) between the Government of Sri Lanka and the Liberation Tigers of Tamil Eelam (LTTE), who fought for an independent state in the North Eas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26 years of conflict had devastating impact on: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09640" indent="-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opulations of N&amp;E: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09640" indent="-3524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high number of casualties,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09640" indent="-3524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untless of wounded and disabled people.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09640" indent="-3524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Hundreds of thousands of displaced.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09640" indent="-3524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frastructure, shelter and economic activities likewise shattered.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08040" y="206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6" name="Oval 1"/>
          <p:cNvSpPr/>
          <p:nvPr/>
        </p:nvSpPr>
        <p:spPr>
          <a:xfrm rot="5400000">
            <a:off x="1105920" y="1022040"/>
            <a:ext cx="4425840" cy="603252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Calibri"/>
                <a:ea typeface="Calibri"/>
              </a:rPr>
              <a:t>Reconciling Objectives and Principle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8" name="TextBox 16"/>
          <p:cNvSpPr/>
          <p:nvPr/>
        </p:nvSpPr>
        <p:spPr>
          <a:xfrm>
            <a:off x="7089840" y="1387440"/>
            <a:ext cx="113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d2d8a"/>
                </a:solidFill>
                <a:latin typeface="Arial"/>
              </a:rPr>
              <a:t>Poverty Reduction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Left Brace 27"/>
          <p:cNvSpPr/>
          <p:nvPr/>
        </p:nvSpPr>
        <p:spPr>
          <a:xfrm>
            <a:off x="1438200" y="1163520"/>
            <a:ext cx="216000" cy="5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505080"/>
              <a:gd name="textAreaBottom" fmla="*/ 49968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5"/>
                  <a:pt x="10800" y="770"/>
                </a:cubicBezTo>
                <a:lnTo>
                  <a:pt x="10800" y="10030"/>
                </a:lnTo>
                <a:cubicBezTo>
                  <a:pt x="10800" y="10415"/>
                  <a:pt x="5400" y="10800"/>
                  <a:pt x="0" y="10800"/>
                </a:cubicBezTo>
                <a:cubicBezTo>
                  <a:pt x="5400" y="10800"/>
                  <a:pt x="10800" y="11185"/>
                  <a:pt x="10800" y="11570"/>
                </a:cubicBezTo>
                <a:lnTo>
                  <a:pt x="10800" y="20830"/>
                </a:lnTo>
                <a:cubicBezTo>
                  <a:pt x="10800" y="2121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TextBox 28"/>
          <p:cNvSpPr/>
          <p:nvPr/>
        </p:nvSpPr>
        <p:spPr>
          <a:xfrm>
            <a:off x="182520" y="1127160"/>
            <a:ext cx="12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bbb59"/>
                </a:solidFill>
                <a:latin typeface="Arial"/>
              </a:rPr>
              <a:t>Principles: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" name="TextBox 33"/>
          <p:cNvSpPr/>
          <p:nvPr/>
        </p:nvSpPr>
        <p:spPr>
          <a:xfrm>
            <a:off x="7308720" y="5218200"/>
            <a:ext cx="1498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030a0"/>
                </a:solidFill>
                <a:latin typeface="Arial"/>
              </a:rPr>
              <a:t>Saving Life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030a0"/>
                </a:solidFill>
                <a:latin typeface="Arial"/>
              </a:rPr>
              <a:t>Impartiality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030a0"/>
                </a:solidFill>
                <a:latin typeface="Arial"/>
              </a:rPr>
              <a:t>Neutrality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030a0"/>
                </a:solidFill>
                <a:latin typeface="Arial"/>
              </a:rPr>
              <a:t>Independence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TextBox 37"/>
          <p:cNvSpPr/>
          <p:nvPr/>
        </p:nvSpPr>
        <p:spPr>
          <a:xfrm>
            <a:off x="5935680" y="1496880"/>
            <a:ext cx="115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d2d8a"/>
                </a:solidFill>
                <a:latin typeface="Arial"/>
              </a:rPr>
              <a:t>Principles: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TextBox 42"/>
          <p:cNvSpPr/>
          <p:nvPr/>
        </p:nvSpPr>
        <p:spPr>
          <a:xfrm>
            <a:off x="4638600" y="4392720"/>
            <a:ext cx="49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EEAS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TextBox 43"/>
          <p:cNvSpPr/>
          <p:nvPr/>
        </p:nvSpPr>
        <p:spPr>
          <a:xfrm>
            <a:off x="5110200" y="1771560"/>
            <a:ext cx="49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EEAS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5154480" y="3125880"/>
            <a:ext cx="81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Devco &amp; EUD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6" name="Oval 2"/>
          <p:cNvSpPr/>
          <p:nvPr/>
        </p:nvSpPr>
        <p:spPr>
          <a:xfrm>
            <a:off x="863640" y="2495520"/>
            <a:ext cx="5864040" cy="335916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6a3a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TextBox 51"/>
          <p:cNvSpPr/>
          <p:nvPr/>
        </p:nvSpPr>
        <p:spPr>
          <a:xfrm>
            <a:off x="3533760" y="2109960"/>
            <a:ext cx="49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EEAS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TextBox 23"/>
          <p:cNvSpPr/>
          <p:nvPr/>
        </p:nvSpPr>
        <p:spPr>
          <a:xfrm>
            <a:off x="1973160" y="3665520"/>
            <a:ext cx="81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DEVCO &amp; EUD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TextBox 29"/>
          <p:cNvSpPr/>
          <p:nvPr/>
        </p:nvSpPr>
        <p:spPr>
          <a:xfrm>
            <a:off x="7221600" y="4973760"/>
            <a:ext cx="11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030a0"/>
                </a:solidFill>
                <a:latin typeface="Arial"/>
              </a:rPr>
              <a:t>Principles: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TextBox 37"/>
          <p:cNvSpPr/>
          <p:nvPr/>
        </p:nvSpPr>
        <p:spPr>
          <a:xfrm>
            <a:off x="142920" y="57024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lignment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71" name="Group 50"/>
          <p:cNvGrpSpPr/>
          <p:nvPr/>
        </p:nvGrpSpPr>
        <p:grpSpPr>
          <a:xfrm>
            <a:off x="287280" y="6159600"/>
            <a:ext cx="8424720" cy="687600"/>
            <a:chOff x="287280" y="6159600"/>
            <a:chExt cx="8424720" cy="687600"/>
          </a:xfrm>
        </p:grpSpPr>
        <p:sp>
          <p:nvSpPr>
            <p:cNvPr id="172" name="ZoneTexte 11"/>
            <p:cNvSpPr/>
            <p:nvPr/>
          </p:nvSpPr>
          <p:spPr>
            <a:xfrm>
              <a:off x="1546200" y="6205320"/>
              <a:ext cx="93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Nation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3" name="ZoneTexte 12"/>
            <p:cNvSpPr/>
            <p:nvPr/>
          </p:nvSpPr>
          <p:spPr>
            <a:xfrm>
              <a:off x="3009960" y="6388200"/>
              <a:ext cx="100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Provinci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4" name="ZoneTexte 13"/>
            <p:cNvSpPr/>
            <p:nvPr/>
          </p:nvSpPr>
          <p:spPr>
            <a:xfrm>
              <a:off x="4722840" y="6210360"/>
              <a:ext cx="865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District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5" name="ZoneTexte 14"/>
            <p:cNvSpPr/>
            <p:nvPr/>
          </p:nvSpPr>
          <p:spPr>
            <a:xfrm>
              <a:off x="5665680" y="6207120"/>
              <a:ext cx="72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Village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6" name="ZoneTexte 15"/>
            <p:cNvSpPr/>
            <p:nvPr/>
          </p:nvSpPr>
          <p:spPr>
            <a:xfrm>
              <a:off x="7777080" y="6161040"/>
              <a:ext cx="93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Individu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7" name="ZoneTexte 16"/>
            <p:cNvSpPr/>
            <p:nvPr/>
          </p:nvSpPr>
          <p:spPr>
            <a:xfrm>
              <a:off x="6589440" y="6159600"/>
              <a:ext cx="9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Household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8" name="ZoneTexte 17"/>
            <p:cNvSpPr/>
            <p:nvPr/>
          </p:nvSpPr>
          <p:spPr>
            <a:xfrm>
              <a:off x="287280" y="6161040"/>
              <a:ext cx="863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Supra nation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79" name="Oval 3"/>
          <p:cNvSpPr/>
          <p:nvPr/>
        </p:nvSpPr>
        <p:spPr>
          <a:xfrm>
            <a:off x="3664080" y="3222720"/>
            <a:ext cx="4614840" cy="1904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180" name="Straight Arrow Connector 30"/>
          <p:cNvCxnSpPr/>
          <p:nvPr/>
        </p:nvCxnSpPr>
        <p:spPr>
          <a:xfrm>
            <a:off x="182520" y="4175280"/>
            <a:ext cx="8530200" cy="244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181" name="Straight Arrow Connector 15"/>
          <p:cNvCxnSpPr/>
          <p:nvPr/>
        </p:nvCxnSpPr>
        <p:spPr>
          <a:xfrm flipV="1">
            <a:off x="2626920" y="1801080"/>
            <a:ext cx="3693240" cy="4793400"/>
          </a:xfrm>
          <a:prstGeom prst="straightConnector1">
            <a:avLst/>
          </a:prstGeom>
          <a:ln w="2844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182" name="Straight Arrow Connector 21"/>
          <p:cNvCxnSpPr>
            <a:endCxn id="183" idx="2"/>
          </p:cNvCxnSpPr>
          <p:nvPr/>
        </p:nvCxnSpPr>
        <p:spPr>
          <a:xfrm flipH="1" flipV="1">
            <a:off x="4468320" y="1452240"/>
            <a:ext cx="170640" cy="52156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84" name="Straight Arrow Connector 6"/>
          <p:cNvCxnSpPr>
            <a:stCxn id="170" idx="3"/>
          </p:cNvCxnSpPr>
          <p:nvPr/>
        </p:nvCxnSpPr>
        <p:spPr>
          <a:xfrm flipV="1">
            <a:off x="1295280" y="4291920"/>
            <a:ext cx="2990160" cy="1562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5" name="TextBox 24"/>
          <p:cNvSpPr/>
          <p:nvPr/>
        </p:nvSpPr>
        <p:spPr>
          <a:xfrm>
            <a:off x="5329080" y="3906720"/>
            <a:ext cx="6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CHO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3781440" y="804960"/>
            <a:ext cx="13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</a:rPr>
              <a:t>CFP Objectiv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" name="TextBox 34"/>
          <p:cNvSpPr/>
          <p:nvPr/>
        </p:nvSpPr>
        <p:spPr>
          <a:xfrm>
            <a:off x="1444680" y="95724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bbb59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9bbb59"/>
                </a:solidFill>
                <a:latin typeface="Arial"/>
              </a:rPr>
              <a:t>European Value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77840" indent="-177840"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bbb59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9bbb59"/>
                </a:solidFill>
                <a:latin typeface="Arial"/>
              </a:rPr>
              <a:t>European Influence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77840" indent="-177840"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bbb59"/>
                </a:solidFill>
                <a:latin typeface="Arial"/>
              </a:rPr>
              <a:t>Joint Interests with    Country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Left Brace 35"/>
          <p:cNvSpPr/>
          <p:nvPr/>
        </p:nvSpPr>
        <p:spPr>
          <a:xfrm>
            <a:off x="1374840" y="102888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504720"/>
              <a:gd name="textAreaBottom" fmla="*/ 4993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5"/>
                  <a:pt x="10800" y="770"/>
                </a:cubicBezTo>
                <a:lnTo>
                  <a:pt x="10800" y="10030"/>
                </a:lnTo>
                <a:cubicBezTo>
                  <a:pt x="10800" y="10415"/>
                  <a:pt x="5400" y="10800"/>
                  <a:pt x="0" y="10800"/>
                </a:cubicBezTo>
                <a:cubicBezTo>
                  <a:pt x="5400" y="10800"/>
                  <a:pt x="10800" y="11185"/>
                  <a:pt x="10800" y="11570"/>
                </a:cubicBezTo>
                <a:lnTo>
                  <a:pt x="10800" y="20830"/>
                </a:lnTo>
                <a:cubicBezTo>
                  <a:pt x="10800" y="2121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Calibri"/>
                <a:ea typeface="Calibri"/>
              </a:rPr>
              <a:t>Step 2: Target Areas and popula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5689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6666"/>
                </a:solidFill>
                <a:latin typeface="Verdana"/>
                <a:ea typeface="Times New Roman"/>
              </a:rPr>
              <a:t>To be inserted from blue shee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90" name="Picture 2" descr="satellite-image-of-sri-lanka reduced.jpg"/>
          <p:cNvPicPr/>
          <p:nvPr/>
        </p:nvPicPr>
        <p:blipFill>
          <a:blip r:embed="rId1"/>
          <a:srcRect l="35926" t="0" r="0" b="0"/>
          <a:stretch/>
        </p:blipFill>
        <p:spPr>
          <a:xfrm>
            <a:off x="6324480" y="1989000"/>
            <a:ext cx="2446560" cy="3975120"/>
          </a:xfrm>
          <a:prstGeom prst="rect">
            <a:avLst/>
          </a:prstGeom>
          <a:ln w="0">
            <a:noFill/>
          </a:ln>
        </p:spPr>
      </p:pic>
      <p:sp>
        <p:nvSpPr>
          <p:cNvPr id="191" name="Freeform 5"/>
          <p:cNvSpPr/>
          <p:nvPr/>
        </p:nvSpPr>
        <p:spPr>
          <a:xfrm>
            <a:off x="7837560" y="4184640"/>
            <a:ext cx="772920" cy="820800"/>
          </a:xfrm>
          <a:custGeom>
            <a:avLst/>
            <a:gdLst/>
            <a:ahLst/>
            <a:rect l="l" t="t" r="r" b="b"/>
            <a:pathLst>
              <a:path w="773723" h="820616">
                <a:moveTo>
                  <a:pt x="726831" y="820616"/>
                </a:moveTo>
                <a:lnTo>
                  <a:pt x="726831" y="820616"/>
                </a:lnTo>
                <a:cubicBezTo>
                  <a:pt x="709246" y="810847"/>
                  <a:pt x="693542" y="796386"/>
                  <a:pt x="674077" y="791308"/>
                </a:cubicBezTo>
                <a:cubicBezTo>
                  <a:pt x="647541" y="784386"/>
                  <a:pt x="619271" y="788475"/>
                  <a:pt x="592015" y="785447"/>
                </a:cubicBezTo>
                <a:cubicBezTo>
                  <a:pt x="584008" y="784557"/>
                  <a:pt x="576531" y="780810"/>
                  <a:pt x="568569" y="779585"/>
                </a:cubicBezTo>
                <a:cubicBezTo>
                  <a:pt x="551082" y="776895"/>
                  <a:pt x="533400" y="775678"/>
                  <a:pt x="515815" y="773724"/>
                </a:cubicBezTo>
                <a:cubicBezTo>
                  <a:pt x="504092" y="769816"/>
                  <a:pt x="490928" y="768854"/>
                  <a:pt x="480646" y="762000"/>
                </a:cubicBezTo>
                <a:cubicBezTo>
                  <a:pt x="456358" y="745809"/>
                  <a:pt x="469895" y="751985"/>
                  <a:pt x="439615" y="744416"/>
                </a:cubicBezTo>
                <a:cubicBezTo>
                  <a:pt x="433754" y="740508"/>
                  <a:pt x="428506" y="735468"/>
                  <a:pt x="422031" y="732693"/>
                </a:cubicBezTo>
                <a:cubicBezTo>
                  <a:pt x="414627" y="729520"/>
                  <a:pt x="406331" y="729044"/>
                  <a:pt x="398585" y="726831"/>
                </a:cubicBezTo>
                <a:cubicBezTo>
                  <a:pt x="392644" y="725134"/>
                  <a:pt x="386862" y="722924"/>
                  <a:pt x="381000" y="720970"/>
                </a:cubicBezTo>
                <a:cubicBezTo>
                  <a:pt x="377092" y="715108"/>
                  <a:pt x="375139" y="707293"/>
                  <a:pt x="369277" y="703385"/>
                </a:cubicBezTo>
                <a:cubicBezTo>
                  <a:pt x="362574" y="698916"/>
                  <a:pt x="353374" y="700353"/>
                  <a:pt x="345831" y="697524"/>
                </a:cubicBezTo>
                <a:cubicBezTo>
                  <a:pt x="337649" y="694456"/>
                  <a:pt x="330200" y="689708"/>
                  <a:pt x="322385" y="685800"/>
                </a:cubicBezTo>
                <a:cubicBezTo>
                  <a:pt x="320431" y="679939"/>
                  <a:pt x="319524" y="673617"/>
                  <a:pt x="316523" y="668216"/>
                </a:cubicBezTo>
                <a:cubicBezTo>
                  <a:pt x="309680" y="655900"/>
                  <a:pt x="300892" y="644770"/>
                  <a:pt x="293077" y="633047"/>
                </a:cubicBezTo>
                <a:lnTo>
                  <a:pt x="281354" y="615462"/>
                </a:lnTo>
                <a:cubicBezTo>
                  <a:pt x="277446" y="609600"/>
                  <a:pt x="271859" y="604560"/>
                  <a:pt x="269631" y="597877"/>
                </a:cubicBezTo>
                <a:cubicBezTo>
                  <a:pt x="255879" y="556626"/>
                  <a:pt x="273782" y="607566"/>
                  <a:pt x="252046" y="556847"/>
                </a:cubicBezTo>
                <a:cubicBezTo>
                  <a:pt x="249612" y="551168"/>
                  <a:pt x="247684" y="545256"/>
                  <a:pt x="246185" y="539262"/>
                </a:cubicBezTo>
                <a:cubicBezTo>
                  <a:pt x="243769" y="529597"/>
                  <a:pt x="245266" y="518604"/>
                  <a:pt x="240323" y="509954"/>
                </a:cubicBezTo>
                <a:cubicBezTo>
                  <a:pt x="236828" y="503837"/>
                  <a:pt x="228600" y="502139"/>
                  <a:pt x="222738" y="498231"/>
                </a:cubicBezTo>
                <a:cubicBezTo>
                  <a:pt x="218830" y="492370"/>
                  <a:pt x="214165" y="486948"/>
                  <a:pt x="211015" y="480647"/>
                </a:cubicBezTo>
                <a:cubicBezTo>
                  <a:pt x="208252" y="475121"/>
                  <a:pt x="209523" y="467431"/>
                  <a:pt x="205154" y="463062"/>
                </a:cubicBezTo>
                <a:cubicBezTo>
                  <a:pt x="195191" y="453099"/>
                  <a:pt x="179948" y="449578"/>
                  <a:pt x="169985" y="439616"/>
                </a:cubicBezTo>
                <a:lnTo>
                  <a:pt x="158261" y="427893"/>
                </a:lnTo>
                <a:cubicBezTo>
                  <a:pt x="141489" y="377571"/>
                  <a:pt x="167175" y="457685"/>
                  <a:pt x="146538" y="375139"/>
                </a:cubicBezTo>
                <a:cubicBezTo>
                  <a:pt x="143541" y="363151"/>
                  <a:pt x="138723" y="351693"/>
                  <a:pt x="134815" y="339970"/>
                </a:cubicBezTo>
                <a:lnTo>
                  <a:pt x="128954" y="322385"/>
                </a:lnTo>
                <a:cubicBezTo>
                  <a:pt x="125093" y="310801"/>
                  <a:pt x="121698" y="295480"/>
                  <a:pt x="111369" y="287216"/>
                </a:cubicBezTo>
                <a:cubicBezTo>
                  <a:pt x="106544" y="283356"/>
                  <a:pt x="99646" y="283308"/>
                  <a:pt x="93785" y="281354"/>
                </a:cubicBezTo>
                <a:cubicBezTo>
                  <a:pt x="84016" y="273539"/>
                  <a:pt x="75413" y="263984"/>
                  <a:pt x="64477" y="257908"/>
                </a:cubicBezTo>
                <a:cubicBezTo>
                  <a:pt x="57435" y="253996"/>
                  <a:pt x="47322" y="257079"/>
                  <a:pt x="41031" y="252047"/>
                </a:cubicBezTo>
                <a:cubicBezTo>
                  <a:pt x="36206" y="248187"/>
                  <a:pt x="36866" y="240403"/>
                  <a:pt x="35169" y="234462"/>
                </a:cubicBezTo>
                <a:cubicBezTo>
                  <a:pt x="17451" y="172448"/>
                  <a:pt x="45447" y="259430"/>
                  <a:pt x="17585" y="175847"/>
                </a:cubicBezTo>
                <a:lnTo>
                  <a:pt x="5861" y="140677"/>
                </a:lnTo>
                <a:lnTo>
                  <a:pt x="0" y="123093"/>
                </a:lnTo>
                <a:cubicBezTo>
                  <a:pt x="1954" y="109416"/>
                  <a:pt x="-1803" y="93557"/>
                  <a:pt x="5861" y="82062"/>
                </a:cubicBezTo>
                <a:cubicBezTo>
                  <a:pt x="9288" y="76921"/>
                  <a:pt x="18045" y="84923"/>
                  <a:pt x="23446" y="87924"/>
                </a:cubicBezTo>
                <a:cubicBezTo>
                  <a:pt x="35762" y="94766"/>
                  <a:pt x="46892" y="103555"/>
                  <a:pt x="58615" y="111370"/>
                </a:cubicBezTo>
                <a:cubicBezTo>
                  <a:pt x="64477" y="115278"/>
                  <a:pt x="69159" y="122850"/>
                  <a:pt x="76200" y="123093"/>
                </a:cubicBezTo>
                <a:lnTo>
                  <a:pt x="246185" y="128954"/>
                </a:lnTo>
                <a:cubicBezTo>
                  <a:pt x="287748" y="142810"/>
                  <a:pt x="266646" y="138270"/>
                  <a:pt x="345831" y="128954"/>
                </a:cubicBezTo>
                <a:cubicBezTo>
                  <a:pt x="351967" y="128232"/>
                  <a:pt x="357384" y="124433"/>
                  <a:pt x="363415" y="123093"/>
                </a:cubicBezTo>
                <a:cubicBezTo>
                  <a:pt x="425310" y="109339"/>
                  <a:pt x="376585" y="124564"/>
                  <a:pt x="416169" y="111370"/>
                </a:cubicBezTo>
                <a:cubicBezTo>
                  <a:pt x="422031" y="107462"/>
                  <a:pt x="427158" y="102121"/>
                  <a:pt x="433754" y="99647"/>
                </a:cubicBezTo>
                <a:cubicBezTo>
                  <a:pt x="443082" y="96149"/>
                  <a:pt x="453396" y="96201"/>
                  <a:pt x="463061" y="93785"/>
                </a:cubicBezTo>
                <a:cubicBezTo>
                  <a:pt x="469055" y="92286"/>
                  <a:pt x="474784" y="89878"/>
                  <a:pt x="480646" y="87924"/>
                </a:cubicBezTo>
                <a:cubicBezTo>
                  <a:pt x="503544" y="65024"/>
                  <a:pt x="479517" y="85557"/>
                  <a:pt x="509954" y="70339"/>
                </a:cubicBezTo>
                <a:cubicBezTo>
                  <a:pt x="516255" y="67189"/>
                  <a:pt x="521237" y="61766"/>
                  <a:pt x="527538" y="58616"/>
                </a:cubicBezTo>
                <a:cubicBezTo>
                  <a:pt x="533064" y="55853"/>
                  <a:pt x="539444" y="55188"/>
                  <a:pt x="545123" y="52754"/>
                </a:cubicBezTo>
                <a:cubicBezTo>
                  <a:pt x="553154" y="49312"/>
                  <a:pt x="560754" y="44939"/>
                  <a:pt x="568569" y="41031"/>
                </a:cubicBezTo>
                <a:cubicBezTo>
                  <a:pt x="572477" y="35170"/>
                  <a:pt x="575311" y="28428"/>
                  <a:pt x="580292" y="23447"/>
                </a:cubicBezTo>
                <a:cubicBezTo>
                  <a:pt x="585274" y="18466"/>
                  <a:pt x="592376" y="16125"/>
                  <a:pt x="597877" y="11724"/>
                </a:cubicBezTo>
                <a:cubicBezTo>
                  <a:pt x="602192" y="8272"/>
                  <a:pt x="605692" y="3908"/>
                  <a:pt x="609600" y="0"/>
                </a:cubicBezTo>
                <a:cubicBezTo>
                  <a:pt x="641602" y="10668"/>
                  <a:pt x="616854" y="-3077"/>
                  <a:pt x="633046" y="29308"/>
                </a:cubicBezTo>
                <a:cubicBezTo>
                  <a:pt x="639347" y="41910"/>
                  <a:pt x="652036" y="51111"/>
                  <a:pt x="656492" y="64477"/>
                </a:cubicBezTo>
                <a:cubicBezTo>
                  <a:pt x="658446" y="70339"/>
                  <a:pt x="658494" y="77237"/>
                  <a:pt x="662354" y="82062"/>
                </a:cubicBezTo>
                <a:cubicBezTo>
                  <a:pt x="666755" y="87563"/>
                  <a:pt x="674077" y="89877"/>
                  <a:pt x="679938" y="93785"/>
                </a:cubicBezTo>
                <a:cubicBezTo>
                  <a:pt x="687754" y="105508"/>
                  <a:pt x="698930" y="115587"/>
                  <a:pt x="703385" y="128954"/>
                </a:cubicBezTo>
                <a:cubicBezTo>
                  <a:pt x="717438" y="171117"/>
                  <a:pt x="700388" y="118464"/>
                  <a:pt x="715108" y="169985"/>
                </a:cubicBezTo>
                <a:cubicBezTo>
                  <a:pt x="716805" y="175926"/>
                  <a:pt x="717109" y="182745"/>
                  <a:pt x="720969" y="187570"/>
                </a:cubicBezTo>
                <a:cubicBezTo>
                  <a:pt x="725370" y="193071"/>
                  <a:pt x="732692" y="195385"/>
                  <a:pt x="738554" y="199293"/>
                </a:cubicBezTo>
                <a:cubicBezTo>
                  <a:pt x="740508" y="207108"/>
                  <a:pt x="741242" y="215334"/>
                  <a:pt x="744415" y="222739"/>
                </a:cubicBezTo>
                <a:cubicBezTo>
                  <a:pt x="747190" y="229214"/>
                  <a:pt x="755699" y="233293"/>
                  <a:pt x="756138" y="240324"/>
                </a:cubicBezTo>
                <a:cubicBezTo>
                  <a:pt x="757727" y="265749"/>
                  <a:pt x="752231" y="291124"/>
                  <a:pt x="750277" y="316524"/>
                </a:cubicBezTo>
                <a:cubicBezTo>
                  <a:pt x="752231" y="336062"/>
                  <a:pt x="754437" y="355577"/>
                  <a:pt x="756138" y="375139"/>
                </a:cubicBezTo>
                <a:cubicBezTo>
                  <a:pt x="758345" y="400518"/>
                  <a:pt x="758840" y="426061"/>
                  <a:pt x="762000" y="451339"/>
                </a:cubicBezTo>
                <a:cubicBezTo>
                  <a:pt x="762766" y="457470"/>
                  <a:pt x="766164" y="462983"/>
                  <a:pt x="767861" y="468924"/>
                </a:cubicBezTo>
                <a:cubicBezTo>
                  <a:pt x="770074" y="476670"/>
                  <a:pt x="771769" y="484555"/>
                  <a:pt x="773723" y="492370"/>
                </a:cubicBezTo>
                <a:cubicBezTo>
                  <a:pt x="771380" y="518145"/>
                  <a:pt x="775767" y="556737"/>
                  <a:pt x="756138" y="580293"/>
                </a:cubicBezTo>
                <a:cubicBezTo>
                  <a:pt x="751628" y="585705"/>
                  <a:pt x="744415" y="588108"/>
                  <a:pt x="738554" y="592016"/>
                </a:cubicBezTo>
                <a:cubicBezTo>
                  <a:pt x="740508" y="619370"/>
                  <a:pt x="744415" y="646654"/>
                  <a:pt x="744415" y="674077"/>
                </a:cubicBezTo>
                <a:cubicBezTo>
                  <a:pt x="744415" y="701501"/>
                  <a:pt x="739858" y="728746"/>
                  <a:pt x="738554" y="756139"/>
                </a:cubicBezTo>
                <a:cubicBezTo>
                  <a:pt x="737904" y="769801"/>
                  <a:pt x="728785" y="809870"/>
                  <a:pt x="726831" y="820616"/>
                </a:cubicBez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Freeform 10"/>
          <p:cNvSpPr/>
          <p:nvPr/>
        </p:nvSpPr>
        <p:spPr>
          <a:xfrm>
            <a:off x="6588000" y="2808360"/>
            <a:ext cx="1876680" cy="1509480"/>
          </a:xfrm>
          <a:custGeom>
            <a:avLst/>
            <a:gdLst/>
            <a:ahLst/>
            <a:rect l="l" t="t" r="r" b="b"/>
            <a:pathLst>
              <a:path w="1875693" h="1510011">
                <a:moveTo>
                  <a:pt x="1242646" y="1471246"/>
                </a:moveTo>
                <a:lnTo>
                  <a:pt x="1242646" y="1471246"/>
                </a:lnTo>
                <a:cubicBezTo>
                  <a:pt x="1226003" y="1466253"/>
                  <a:pt x="1180712" y="1456314"/>
                  <a:pt x="1160585" y="1441938"/>
                </a:cubicBezTo>
                <a:cubicBezTo>
                  <a:pt x="1153840" y="1437120"/>
                  <a:pt x="1150246" y="1428380"/>
                  <a:pt x="1143000" y="1424354"/>
                </a:cubicBezTo>
                <a:cubicBezTo>
                  <a:pt x="1132198" y="1418353"/>
                  <a:pt x="1107831" y="1412631"/>
                  <a:pt x="1107831" y="1412631"/>
                </a:cubicBezTo>
                <a:cubicBezTo>
                  <a:pt x="1096108" y="1402862"/>
                  <a:pt x="1083452" y="1394113"/>
                  <a:pt x="1072662" y="1383323"/>
                </a:cubicBezTo>
                <a:cubicBezTo>
                  <a:pt x="1065754" y="1376415"/>
                  <a:pt x="1063971" y="1363920"/>
                  <a:pt x="1055077" y="1359877"/>
                </a:cubicBezTo>
                <a:cubicBezTo>
                  <a:pt x="1040737" y="1353359"/>
                  <a:pt x="1023816" y="1355969"/>
                  <a:pt x="1008185" y="1354015"/>
                </a:cubicBezTo>
                <a:cubicBezTo>
                  <a:pt x="963564" y="1339141"/>
                  <a:pt x="985133" y="1344715"/>
                  <a:pt x="943708" y="1336431"/>
                </a:cubicBezTo>
                <a:cubicBezTo>
                  <a:pt x="839007" y="1284080"/>
                  <a:pt x="919541" y="1319794"/>
                  <a:pt x="644769" y="1330569"/>
                </a:cubicBezTo>
                <a:cubicBezTo>
                  <a:pt x="636719" y="1330885"/>
                  <a:pt x="629335" y="1335588"/>
                  <a:pt x="621323" y="1336431"/>
                </a:cubicBezTo>
                <a:cubicBezTo>
                  <a:pt x="592112" y="1339506"/>
                  <a:pt x="562708" y="1340338"/>
                  <a:pt x="533400" y="1342292"/>
                </a:cubicBezTo>
                <a:cubicBezTo>
                  <a:pt x="481110" y="1359724"/>
                  <a:pt x="563658" y="1331823"/>
                  <a:pt x="486508" y="1359877"/>
                </a:cubicBezTo>
                <a:cubicBezTo>
                  <a:pt x="474895" y="1364100"/>
                  <a:pt x="463062" y="1367692"/>
                  <a:pt x="451339" y="1371600"/>
                </a:cubicBezTo>
                <a:cubicBezTo>
                  <a:pt x="445477" y="1373554"/>
                  <a:pt x="439748" y="1375962"/>
                  <a:pt x="433754" y="1377461"/>
                </a:cubicBezTo>
                <a:cubicBezTo>
                  <a:pt x="425939" y="1379415"/>
                  <a:pt x="417851" y="1380494"/>
                  <a:pt x="410308" y="1383323"/>
                </a:cubicBezTo>
                <a:cubicBezTo>
                  <a:pt x="402127" y="1386391"/>
                  <a:pt x="395292" y="1392747"/>
                  <a:pt x="386862" y="1395046"/>
                </a:cubicBezTo>
                <a:cubicBezTo>
                  <a:pt x="373533" y="1398681"/>
                  <a:pt x="359424" y="1398437"/>
                  <a:pt x="345831" y="1400908"/>
                </a:cubicBezTo>
                <a:cubicBezTo>
                  <a:pt x="337905" y="1402349"/>
                  <a:pt x="330131" y="1404556"/>
                  <a:pt x="322385" y="1406769"/>
                </a:cubicBezTo>
                <a:cubicBezTo>
                  <a:pt x="316444" y="1408466"/>
                  <a:pt x="310917" y="1411757"/>
                  <a:pt x="304800" y="1412631"/>
                </a:cubicBezTo>
                <a:cubicBezTo>
                  <a:pt x="283436" y="1415683"/>
                  <a:pt x="261815" y="1416538"/>
                  <a:pt x="240323" y="1418492"/>
                </a:cubicBezTo>
                <a:cubicBezTo>
                  <a:pt x="201246" y="1416538"/>
                  <a:pt x="161860" y="1417917"/>
                  <a:pt x="123093" y="1412631"/>
                </a:cubicBezTo>
                <a:cubicBezTo>
                  <a:pt x="117617" y="1411884"/>
                  <a:pt x="116312" y="1403380"/>
                  <a:pt x="111369" y="1400908"/>
                </a:cubicBezTo>
                <a:cubicBezTo>
                  <a:pt x="104164" y="1397305"/>
                  <a:pt x="95738" y="1397000"/>
                  <a:pt x="87923" y="1395046"/>
                </a:cubicBezTo>
                <a:cubicBezTo>
                  <a:pt x="75174" y="1363173"/>
                  <a:pt x="83640" y="1373178"/>
                  <a:pt x="70339" y="1359877"/>
                </a:cubicBezTo>
                <a:lnTo>
                  <a:pt x="70339" y="1359877"/>
                </a:lnTo>
                <a:cubicBezTo>
                  <a:pt x="55295" y="1262091"/>
                  <a:pt x="59541" y="1303421"/>
                  <a:pt x="52754" y="1201615"/>
                </a:cubicBezTo>
                <a:cubicBezTo>
                  <a:pt x="46081" y="1101522"/>
                  <a:pt x="76692" y="1117765"/>
                  <a:pt x="29308" y="1101969"/>
                </a:cubicBezTo>
                <a:cubicBezTo>
                  <a:pt x="25400" y="1096108"/>
                  <a:pt x="20735" y="1090686"/>
                  <a:pt x="17585" y="1084385"/>
                </a:cubicBezTo>
                <a:cubicBezTo>
                  <a:pt x="5574" y="1060364"/>
                  <a:pt x="7318" y="1012473"/>
                  <a:pt x="5862" y="996461"/>
                </a:cubicBezTo>
                <a:cubicBezTo>
                  <a:pt x="4084" y="976906"/>
                  <a:pt x="1954" y="957384"/>
                  <a:pt x="0" y="937846"/>
                </a:cubicBezTo>
                <a:cubicBezTo>
                  <a:pt x="1954" y="924169"/>
                  <a:pt x="-317" y="909172"/>
                  <a:pt x="5862" y="896815"/>
                </a:cubicBezTo>
                <a:cubicBezTo>
                  <a:pt x="8625" y="891289"/>
                  <a:pt x="19077" y="895323"/>
                  <a:pt x="23446" y="890954"/>
                </a:cubicBezTo>
                <a:cubicBezTo>
                  <a:pt x="69972" y="844429"/>
                  <a:pt x="22584" y="861863"/>
                  <a:pt x="70339" y="849923"/>
                </a:cubicBezTo>
                <a:cubicBezTo>
                  <a:pt x="72293" y="844061"/>
                  <a:pt x="73199" y="837739"/>
                  <a:pt x="76200" y="832338"/>
                </a:cubicBezTo>
                <a:cubicBezTo>
                  <a:pt x="83042" y="820022"/>
                  <a:pt x="99646" y="797169"/>
                  <a:pt x="99646" y="797169"/>
                </a:cubicBezTo>
                <a:cubicBezTo>
                  <a:pt x="100381" y="792759"/>
                  <a:pt x="106999" y="747294"/>
                  <a:pt x="111369" y="738554"/>
                </a:cubicBezTo>
                <a:cubicBezTo>
                  <a:pt x="113841" y="733611"/>
                  <a:pt x="119185" y="730739"/>
                  <a:pt x="123093" y="726831"/>
                </a:cubicBezTo>
                <a:cubicBezTo>
                  <a:pt x="125047" y="701431"/>
                  <a:pt x="121956" y="675126"/>
                  <a:pt x="128954" y="650631"/>
                </a:cubicBezTo>
                <a:cubicBezTo>
                  <a:pt x="130651" y="644690"/>
                  <a:pt x="142170" y="649138"/>
                  <a:pt x="146539" y="644769"/>
                </a:cubicBezTo>
                <a:cubicBezTo>
                  <a:pt x="150908" y="640400"/>
                  <a:pt x="150902" y="633179"/>
                  <a:pt x="152400" y="627185"/>
                </a:cubicBezTo>
                <a:cubicBezTo>
                  <a:pt x="162477" y="586875"/>
                  <a:pt x="152334" y="609734"/>
                  <a:pt x="164123" y="586154"/>
                </a:cubicBezTo>
                <a:lnTo>
                  <a:pt x="164123" y="586154"/>
                </a:lnTo>
                <a:cubicBezTo>
                  <a:pt x="181708" y="584200"/>
                  <a:pt x="199712" y="584583"/>
                  <a:pt x="216877" y="580292"/>
                </a:cubicBezTo>
                <a:cubicBezTo>
                  <a:pt x="223711" y="578583"/>
                  <a:pt x="227866" y="571043"/>
                  <a:pt x="234462" y="568569"/>
                </a:cubicBezTo>
                <a:cubicBezTo>
                  <a:pt x="243790" y="565071"/>
                  <a:pt x="254000" y="564662"/>
                  <a:pt x="263769" y="562708"/>
                </a:cubicBezTo>
                <a:cubicBezTo>
                  <a:pt x="275312" y="556937"/>
                  <a:pt x="291250" y="547587"/>
                  <a:pt x="304800" y="545123"/>
                </a:cubicBezTo>
                <a:cubicBezTo>
                  <a:pt x="383010" y="530902"/>
                  <a:pt x="322692" y="546855"/>
                  <a:pt x="381000" y="533400"/>
                </a:cubicBezTo>
                <a:cubicBezTo>
                  <a:pt x="396699" y="529777"/>
                  <a:pt x="427893" y="521677"/>
                  <a:pt x="427893" y="521677"/>
                </a:cubicBezTo>
                <a:cubicBezTo>
                  <a:pt x="433754" y="517769"/>
                  <a:pt x="438448" y="510423"/>
                  <a:pt x="445477" y="509954"/>
                </a:cubicBezTo>
                <a:cubicBezTo>
                  <a:pt x="493291" y="506766"/>
                  <a:pt x="501028" y="510885"/>
                  <a:pt x="533400" y="521677"/>
                </a:cubicBezTo>
                <a:cubicBezTo>
                  <a:pt x="575170" y="563445"/>
                  <a:pt x="527768" y="518343"/>
                  <a:pt x="568569" y="550985"/>
                </a:cubicBezTo>
                <a:cubicBezTo>
                  <a:pt x="572884" y="554437"/>
                  <a:pt x="580293" y="562708"/>
                  <a:pt x="580293" y="562708"/>
                </a:cubicBezTo>
                <a:lnTo>
                  <a:pt x="580293" y="562708"/>
                </a:lnTo>
                <a:cubicBezTo>
                  <a:pt x="577179" y="528454"/>
                  <a:pt x="565787" y="466850"/>
                  <a:pt x="586154" y="433754"/>
                </a:cubicBezTo>
                <a:cubicBezTo>
                  <a:pt x="592630" y="423230"/>
                  <a:pt x="621323" y="422031"/>
                  <a:pt x="621323" y="422031"/>
                </a:cubicBezTo>
                <a:cubicBezTo>
                  <a:pt x="633046" y="414216"/>
                  <a:pt x="643127" y="403041"/>
                  <a:pt x="656493" y="398585"/>
                </a:cubicBezTo>
                <a:cubicBezTo>
                  <a:pt x="668216" y="394677"/>
                  <a:pt x="681380" y="393716"/>
                  <a:pt x="691662" y="386861"/>
                </a:cubicBezTo>
                <a:cubicBezTo>
                  <a:pt x="714387" y="371711"/>
                  <a:pt x="702563" y="377365"/>
                  <a:pt x="726831" y="369277"/>
                </a:cubicBezTo>
                <a:cubicBezTo>
                  <a:pt x="732693" y="365369"/>
                  <a:pt x="737978" y="360415"/>
                  <a:pt x="744416" y="357554"/>
                </a:cubicBezTo>
                <a:cubicBezTo>
                  <a:pt x="755708" y="352535"/>
                  <a:pt x="779585" y="345831"/>
                  <a:pt x="779585" y="345831"/>
                </a:cubicBezTo>
                <a:cubicBezTo>
                  <a:pt x="785446" y="341923"/>
                  <a:pt x="790486" y="336336"/>
                  <a:pt x="797169" y="334108"/>
                </a:cubicBezTo>
                <a:cubicBezTo>
                  <a:pt x="819573" y="326640"/>
                  <a:pt x="838868" y="328246"/>
                  <a:pt x="861646" y="328246"/>
                </a:cubicBezTo>
                <a:lnTo>
                  <a:pt x="861646" y="328246"/>
                </a:lnTo>
                <a:cubicBezTo>
                  <a:pt x="909138" y="233267"/>
                  <a:pt x="869564" y="328119"/>
                  <a:pt x="890954" y="164123"/>
                </a:cubicBezTo>
                <a:cubicBezTo>
                  <a:pt x="892361" y="153335"/>
                  <a:pt x="915244" y="135405"/>
                  <a:pt x="920262" y="128954"/>
                </a:cubicBezTo>
                <a:cubicBezTo>
                  <a:pt x="928912" y="117833"/>
                  <a:pt x="935893" y="105508"/>
                  <a:pt x="943708" y="93785"/>
                </a:cubicBezTo>
                <a:cubicBezTo>
                  <a:pt x="947616" y="87923"/>
                  <a:pt x="949569" y="80108"/>
                  <a:pt x="955431" y="76200"/>
                </a:cubicBezTo>
                <a:cubicBezTo>
                  <a:pt x="1033508" y="24150"/>
                  <a:pt x="917789" y="99067"/>
                  <a:pt x="990600" y="58615"/>
                </a:cubicBezTo>
                <a:cubicBezTo>
                  <a:pt x="1002916" y="51772"/>
                  <a:pt x="1015806" y="45131"/>
                  <a:pt x="1025769" y="35169"/>
                </a:cubicBezTo>
                <a:cubicBezTo>
                  <a:pt x="1029677" y="31261"/>
                  <a:pt x="1032550" y="25917"/>
                  <a:pt x="1037493" y="23446"/>
                </a:cubicBezTo>
                <a:cubicBezTo>
                  <a:pt x="1087875" y="-1744"/>
                  <a:pt x="1061109" y="23278"/>
                  <a:pt x="1078523" y="5861"/>
                </a:cubicBezTo>
                <a:lnTo>
                  <a:pt x="1078523" y="0"/>
                </a:lnTo>
                <a:cubicBezTo>
                  <a:pt x="1079598" y="9678"/>
                  <a:pt x="1080700" y="53155"/>
                  <a:pt x="1090246" y="70338"/>
                </a:cubicBezTo>
                <a:cubicBezTo>
                  <a:pt x="1097089" y="82655"/>
                  <a:pt x="1105877" y="93785"/>
                  <a:pt x="1113693" y="105508"/>
                </a:cubicBezTo>
                <a:lnTo>
                  <a:pt x="1125416" y="123092"/>
                </a:lnTo>
                <a:cubicBezTo>
                  <a:pt x="1129324" y="128954"/>
                  <a:pt x="1132158" y="135696"/>
                  <a:pt x="1137139" y="140677"/>
                </a:cubicBezTo>
                <a:lnTo>
                  <a:pt x="1154723" y="158261"/>
                </a:lnTo>
                <a:cubicBezTo>
                  <a:pt x="1156677" y="166077"/>
                  <a:pt x="1158270" y="173992"/>
                  <a:pt x="1160585" y="181708"/>
                </a:cubicBezTo>
                <a:cubicBezTo>
                  <a:pt x="1164136" y="193544"/>
                  <a:pt x="1169311" y="204889"/>
                  <a:pt x="1172308" y="216877"/>
                </a:cubicBezTo>
                <a:cubicBezTo>
                  <a:pt x="1174262" y="224692"/>
                  <a:pt x="1174566" y="233118"/>
                  <a:pt x="1178169" y="240323"/>
                </a:cubicBezTo>
                <a:cubicBezTo>
                  <a:pt x="1180641" y="245266"/>
                  <a:pt x="1185985" y="248138"/>
                  <a:pt x="1189893" y="252046"/>
                </a:cubicBezTo>
                <a:cubicBezTo>
                  <a:pt x="1191847" y="259861"/>
                  <a:pt x="1192925" y="267949"/>
                  <a:pt x="1195754" y="275492"/>
                </a:cubicBezTo>
                <a:cubicBezTo>
                  <a:pt x="1201326" y="290350"/>
                  <a:pt x="1213997" y="311320"/>
                  <a:pt x="1225062" y="322385"/>
                </a:cubicBezTo>
                <a:cubicBezTo>
                  <a:pt x="1239144" y="336467"/>
                  <a:pt x="1243544" y="332818"/>
                  <a:pt x="1260231" y="339969"/>
                </a:cubicBezTo>
                <a:cubicBezTo>
                  <a:pt x="1268262" y="343411"/>
                  <a:pt x="1275163" y="349727"/>
                  <a:pt x="1283677" y="351692"/>
                </a:cubicBezTo>
                <a:cubicBezTo>
                  <a:pt x="1300917" y="355670"/>
                  <a:pt x="1318846" y="355600"/>
                  <a:pt x="1336431" y="357554"/>
                </a:cubicBezTo>
                <a:cubicBezTo>
                  <a:pt x="1338385" y="367323"/>
                  <a:pt x="1340132" y="377136"/>
                  <a:pt x="1342293" y="386861"/>
                </a:cubicBezTo>
                <a:cubicBezTo>
                  <a:pt x="1345337" y="400561"/>
                  <a:pt x="1347642" y="418104"/>
                  <a:pt x="1359877" y="427892"/>
                </a:cubicBezTo>
                <a:cubicBezTo>
                  <a:pt x="1364702" y="431752"/>
                  <a:pt x="1371600" y="431800"/>
                  <a:pt x="1377462" y="433754"/>
                </a:cubicBezTo>
                <a:cubicBezTo>
                  <a:pt x="1379416" y="443523"/>
                  <a:pt x="1380702" y="453450"/>
                  <a:pt x="1383323" y="463061"/>
                </a:cubicBezTo>
                <a:cubicBezTo>
                  <a:pt x="1391186" y="491894"/>
                  <a:pt x="1391372" y="490884"/>
                  <a:pt x="1400908" y="509954"/>
                </a:cubicBezTo>
                <a:lnTo>
                  <a:pt x="1400908" y="509954"/>
                </a:lnTo>
                <a:lnTo>
                  <a:pt x="1400908" y="580292"/>
                </a:lnTo>
                <a:lnTo>
                  <a:pt x="1377462" y="586154"/>
                </a:lnTo>
                <a:lnTo>
                  <a:pt x="1342293" y="621323"/>
                </a:lnTo>
                <a:lnTo>
                  <a:pt x="1371600" y="633046"/>
                </a:lnTo>
                <a:lnTo>
                  <a:pt x="1400908" y="662354"/>
                </a:lnTo>
                <a:cubicBezTo>
                  <a:pt x="1424109" y="666994"/>
                  <a:pt x="1489206" y="702727"/>
                  <a:pt x="1512277" y="662354"/>
                </a:cubicBezTo>
                <a:cubicBezTo>
                  <a:pt x="1516155" y="655568"/>
                  <a:pt x="1512277" y="646723"/>
                  <a:pt x="1512277" y="638908"/>
                </a:cubicBezTo>
                <a:lnTo>
                  <a:pt x="1512277" y="638908"/>
                </a:lnTo>
                <a:cubicBezTo>
                  <a:pt x="1514134" y="655616"/>
                  <a:pt x="1514182" y="689608"/>
                  <a:pt x="1524000" y="709246"/>
                </a:cubicBezTo>
                <a:cubicBezTo>
                  <a:pt x="1527150" y="715547"/>
                  <a:pt x="1530222" y="722430"/>
                  <a:pt x="1535723" y="726831"/>
                </a:cubicBezTo>
                <a:cubicBezTo>
                  <a:pt x="1540548" y="730691"/>
                  <a:pt x="1547446" y="730738"/>
                  <a:pt x="1553308" y="732692"/>
                </a:cubicBezTo>
                <a:cubicBezTo>
                  <a:pt x="1555262" y="738554"/>
                  <a:pt x="1555990" y="744979"/>
                  <a:pt x="1559169" y="750277"/>
                </a:cubicBezTo>
                <a:cubicBezTo>
                  <a:pt x="1562012" y="755016"/>
                  <a:pt x="1569735" y="756596"/>
                  <a:pt x="1570893" y="762000"/>
                </a:cubicBezTo>
                <a:cubicBezTo>
                  <a:pt x="1577331" y="792042"/>
                  <a:pt x="1572246" y="830536"/>
                  <a:pt x="1582616" y="861646"/>
                </a:cubicBezTo>
                <a:cubicBezTo>
                  <a:pt x="1585379" y="869935"/>
                  <a:pt x="1588745" y="878379"/>
                  <a:pt x="1594339" y="885092"/>
                </a:cubicBezTo>
                <a:cubicBezTo>
                  <a:pt x="1598849" y="890504"/>
                  <a:pt x="1606062" y="892907"/>
                  <a:pt x="1611923" y="896815"/>
                </a:cubicBezTo>
                <a:cubicBezTo>
                  <a:pt x="1615199" y="909920"/>
                  <a:pt x="1623802" y="946872"/>
                  <a:pt x="1629508" y="955431"/>
                </a:cubicBezTo>
                <a:cubicBezTo>
                  <a:pt x="1633416" y="961292"/>
                  <a:pt x="1638081" y="966714"/>
                  <a:pt x="1641231" y="973015"/>
                </a:cubicBezTo>
                <a:cubicBezTo>
                  <a:pt x="1665502" y="1021556"/>
                  <a:pt x="1625217" y="957785"/>
                  <a:pt x="1658816" y="1008185"/>
                </a:cubicBezTo>
                <a:cubicBezTo>
                  <a:pt x="1660770" y="1017954"/>
                  <a:pt x="1663268" y="1027630"/>
                  <a:pt x="1664677" y="1037492"/>
                </a:cubicBezTo>
                <a:cubicBezTo>
                  <a:pt x="1667179" y="1055007"/>
                  <a:pt x="1667630" y="1072794"/>
                  <a:pt x="1670539" y="1090246"/>
                </a:cubicBezTo>
                <a:cubicBezTo>
                  <a:pt x="1674223" y="1112349"/>
                  <a:pt x="1677995" y="1105159"/>
                  <a:pt x="1688123" y="1125415"/>
                </a:cubicBezTo>
                <a:cubicBezTo>
                  <a:pt x="1705090" y="1159348"/>
                  <a:pt x="1678235" y="1127249"/>
                  <a:pt x="1711569" y="1160585"/>
                </a:cubicBezTo>
                <a:lnTo>
                  <a:pt x="1717431" y="1184031"/>
                </a:lnTo>
                <a:lnTo>
                  <a:pt x="1717431" y="1184031"/>
                </a:lnTo>
                <a:cubicBezTo>
                  <a:pt x="1719385" y="1205523"/>
                  <a:pt x="1714167" y="1228952"/>
                  <a:pt x="1723293" y="1248508"/>
                </a:cubicBezTo>
                <a:cubicBezTo>
                  <a:pt x="1729251" y="1261275"/>
                  <a:pt x="1758462" y="1271954"/>
                  <a:pt x="1758462" y="1271954"/>
                </a:cubicBezTo>
                <a:cubicBezTo>
                  <a:pt x="1760416" y="1277815"/>
                  <a:pt x="1759954" y="1285169"/>
                  <a:pt x="1764323" y="1289538"/>
                </a:cubicBezTo>
                <a:cubicBezTo>
                  <a:pt x="1784479" y="1309694"/>
                  <a:pt x="1794964" y="1311475"/>
                  <a:pt x="1817077" y="1318846"/>
                </a:cubicBezTo>
                <a:cubicBezTo>
                  <a:pt x="1822939" y="1322754"/>
                  <a:pt x="1828361" y="1327418"/>
                  <a:pt x="1834662" y="1330569"/>
                </a:cubicBezTo>
                <a:cubicBezTo>
                  <a:pt x="1840188" y="1333332"/>
                  <a:pt x="1847421" y="1332571"/>
                  <a:pt x="1852246" y="1336431"/>
                </a:cubicBezTo>
                <a:cubicBezTo>
                  <a:pt x="1857747" y="1340832"/>
                  <a:pt x="1859568" y="1348514"/>
                  <a:pt x="1863969" y="1354015"/>
                </a:cubicBezTo>
                <a:cubicBezTo>
                  <a:pt x="1867422" y="1358330"/>
                  <a:pt x="1875693" y="1365738"/>
                  <a:pt x="1875693" y="1365738"/>
                </a:cubicBezTo>
                <a:lnTo>
                  <a:pt x="1875693" y="1365738"/>
                </a:lnTo>
                <a:cubicBezTo>
                  <a:pt x="1860062" y="1375507"/>
                  <a:pt x="1846059" y="1388574"/>
                  <a:pt x="1828800" y="1395046"/>
                </a:cubicBezTo>
                <a:cubicBezTo>
                  <a:pt x="1814051" y="1400577"/>
                  <a:pt x="1797406" y="1398090"/>
                  <a:pt x="1781908" y="1400908"/>
                </a:cubicBezTo>
                <a:cubicBezTo>
                  <a:pt x="1775829" y="1402013"/>
                  <a:pt x="1770185" y="1404815"/>
                  <a:pt x="1764323" y="1406769"/>
                </a:cubicBezTo>
                <a:cubicBezTo>
                  <a:pt x="1748692" y="1422400"/>
                  <a:pt x="1738876" y="1448299"/>
                  <a:pt x="1717431" y="1453661"/>
                </a:cubicBezTo>
                <a:cubicBezTo>
                  <a:pt x="1709616" y="1455615"/>
                  <a:pt x="1701884" y="1457943"/>
                  <a:pt x="1693985" y="1459523"/>
                </a:cubicBezTo>
                <a:cubicBezTo>
                  <a:pt x="1682331" y="1461854"/>
                  <a:pt x="1670346" y="1462502"/>
                  <a:pt x="1658816" y="1465385"/>
                </a:cubicBezTo>
                <a:cubicBezTo>
                  <a:pt x="1646828" y="1468382"/>
                  <a:pt x="1635369" y="1473200"/>
                  <a:pt x="1623646" y="1477108"/>
                </a:cubicBezTo>
                <a:cubicBezTo>
                  <a:pt x="1617785" y="1479062"/>
                  <a:pt x="1612056" y="1481470"/>
                  <a:pt x="1606062" y="1482969"/>
                </a:cubicBezTo>
                <a:lnTo>
                  <a:pt x="1582616" y="1488831"/>
                </a:lnTo>
                <a:cubicBezTo>
                  <a:pt x="1526950" y="1525941"/>
                  <a:pt x="1565608" y="1505155"/>
                  <a:pt x="1424354" y="1494692"/>
                </a:cubicBezTo>
                <a:cubicBezTo>
                  <a:pt x="1418192" y="1494236"/>
                  <a:pt x="1412905" y="1489553"/>
                  <a:pt x="1406769" y="1488831"/>
                </a:cubicBezTo>
                <a:cubicBezTo>
                  <a:pt x="1379533" y="1485627"/>
                  <a:pt x="1352062" y="1484923"/>
                  <a:pt x="1324708" y="1482969"/>
                </a:cubicBezTo>
                <a:cubicBezTo>
                  <a:pt x="1318846" y="1479061"/>
                  <a:pt x="1313424" y="1474396"/>
                  <a:pt x="1307123" y="1471246"/>
                </a:cubicBezTo>
                <a:cubicBezTo>
                  <a:pt x="1283044" y="1459207"/>
                  <a:pt x="1253392" y="1471246"/>
                  <a:pt x="1242646" y="1471246"/>
                </a:cubicBez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Freeform 13"/>
          <p:cNvSpPr/>
          <p:nvPr/>
        </p:nvSpPr>
        <p:spPr>
          <a:xfrm>
            <a:off x="7966080" y="3705120"/>
            <a:ext cx="487440" cy="620640"/>
          </a:xfrm>
          <a:custGeom>
            <a:avLst/>
            <a:gdLst/>
            <a:ahLst/>
            <a:rect l="l" t="t" r="r" b="b"/>
            <a:pathLst>
              <a:path w="486859" h="621323">
                <a:moveTo>
                  <a:pt x="474784" y="468923"/>
                </a:moveTo>
                <a:lnTo>
                  <a:pt x="474784" y="468923"/>
                </a:lnTo>
                <a:cubicBezTo>
                  <a:pt x="465015" y="455246"/>
                  <a:pt x="457362" y="439778"/>
                  <a:pt x="445477" y="427893"/>
                </a:cubicBezTo>
                <a:cubicBezTo>
                  <a:pt x="441108" y="423524"/>
                  <a:pt x="433677" y="424201"/>
                  <a:pt x="427892" y="422031"/>
                </a:cubicBezTo>
                <a:cubicBezTo>
                  <a:pt x="383748" y="405477"/>
                  <a:pt x="414424" y="414268"/>
                  <a:pt x="375138" y="404446"/>
                </a:cubicBezTo>
                <a:cubicBezTo>
                  <a:pt x="369277" y="394677"/>
                  <a:pt x="362649" y="385329"/>
                  <a:pt x="357554" y="375139"/>
                </a:cubicBezTo>
                <a:cubicBezTo>
                  <a:pt x="343687" y="347406"/>
                  <a:pt x="349168" y="293292"/>
                  <a:pt x="345831" y="275493"/>
                </a:cubicBezTo>
                <a:cubicBezTo>
                  <a:pt x="344812" y="270061"/>
                  <a:pt x="338353" y="267308"/>
                  <a:pt x="334107" y="263770"/>
                </a:cubicBezTo>
                <a:cubicBezTo>
                  <a:pt x="306033" y="240375"/>
                  <a:pt x="308558" y="245284"/>
                  <a:pt x="269631" y="228600"/>
                </a:cubicBezTo>
                <a:cubicBezTo>
                  <a:pt x="271585" y="222739"/>
                  <a:pt x="273795" y="216957"/>
                  <a:pt x="275492" y="211016"/>
                </a:cubicBezTo>
                <a:cubicBezTo>
                  <a:pt x="277705" y="203270"/>
                  <a:pt x="279039" y="195286"/>
                  <a:pt x="281354" y="187570"/>
                </a:cubicBezTo>
                <a:cubicBezTo>
                  <a:pt x="284905" y="175734"/>
                  <a:pt x="293077" y="152400"/>
                  <a:pt x="293077" y="152400"/>
                </a:cubicBezTo>
                <a:cubicBezTo>
                  <a:pt x="291123" y="142631"/>
                  <a:pt x="289836" y="132704"/>
                  <a:pt x="287215" y="123093"/>
                </a:cubicBezTo>
                <a:cubicBezTo>
                  <a:pt x="283963" y="111171"/>
                  <a:pt x="279400" y="99646"/>
                  <a:pt x="275492" y="87923"/>
                </a:cubicBezTo>
                <a:lnTo>
                  <a:pt x="269631" y="70339"/>
                </a:lnTo>
                <a:lnTo>
                  <a:pt x="257907" y="35170"/>
                </a:lnTo>
                <a:cubicBezTo>
                  <a:pt x="253999" y="31262"/>
                  <a:pt x="249636" y="27762"/>
                  <a:pt x="246184" y="23446"/>
                </a:cubicBezTo>
                <a:cubicBezTo>
                  <a:pt x="241783" y="17945"/>
                  <a:pt x="240322" y="9770"/>
                  <a:pt x="234461" y="5862"/>
                </a:cubicBezTo>
                <a:cubicBezTo>
                  <a:pt x="227758" y="1393"/>
                  <a:pt x="218830" y="1954"/>
                  <a:pt x="211015" y="0"/>
                </a:cubicBezTo>
                <a:lnTo>
                  <a:pt x="93784" y="23446"/>
                </a:lnTo>
                <a:cubicBezTo>
                  <a:pt x="87747" y="24759"/>
                  <a:pt x="79517" y="24095"/>
                  <a:pt x="76200" y="29308"/>
                </a:cubicBezTo>
                <a:cubicBezTo>
                  <a:pt x="31155" y="100095"/>
                  <a:pt x="78386" y="79379"/>
                  <a:pt x="35169" y="93785"/>
                </a:cubicBezTo>
                <a:cubicBezTo>
                  <a:pt x="27528" y="111613"/>
                  <a:pt x="14091" y="136950"/>
                  <a:pt x="11723" y="158262"/>
                </a:cubicBezTo>
                <a:cubicBezTo>
                  <a:pt x="-1148" y="274103"/>
                  <a:pt x="14402" y="206155"/>
                  <a:pt x="0" y="263770"/>
                </a:cubicBezTo>
                <a:cubicBezTo>
                  <a:pt x="1954" y="326293"/>
                  <a:pt x="-1448" y="389214"/>
                  <a:pt x="5861" y="451339"/>
                </a:cubicBezTo>
                <a:cubicBezTo>
                  <a:pt x="6684" y="458336"/>
                  <a:pt x="19045" y="457561"/>
                  <a:pt x="23446" y="463062"/>
                </a:cubicBezTo>
                <a:cubicBezTo>
                  <a:pt x="26503" y="466883"/>
                  <a:pt x="34787" y="502564"/>
                  <a:pt x="35169" y="504093"/>
                </a:cubicBezTo>
                <a:cubicBezTo>
                  <a:pt x="37123" y="541216"/>
                  <a:pt x="33741" y="579010"/>
                  <a:pt x="41031" y="615462"/>
                </a:cubicBezTo>
                <a:cubicBezTo>
                  <a:pt x="42243" y="621520"/>
                  <a:pt x="52437" y="621323"/>
                  <a:pt x="58615" y="621323"/>
                </a:cubicBezTo>
                <a:cubicBezTo>
                  <a:pt x="105548" y="621323"/>
                  <a:pt x="152400" y="617416"/>
                  <a:pt x="199292" y="615462"/>
                </a:cubicBezTo>
                <a:cubicBezTo>
                  <a:pt x="224692" y="607647"/>
                  <a:pt x="249886" y="599129"/>
                  <a:pt x="275492" y="592016"/>
                </a:cubicBezTo>
                <a:cubicBezTo>
                  <a:pt x="289879" y="588019"/>
                  <a:pt x="326673" y="582786"/>
                  <a:pt x="339969" y="580293"/>
                </a:cubicBezTo>
                <a:cubicBezTo>
                  <a:pt x="359553" y="576621"/>
                  <a:pt x="379254" y="573403"/>
                  <a:pt x="398584" y="568570"/>
                </a:cubicBezTo>
                <a:cubicBezTo>
                  <a:pt x="491467" y="545348"/>
                  <a:pt x="376903" y="566320"/>
                  <a:pt x="468923" y="550985"/>
                </a:cubicBezTo>
                <a:cubicBezTo>
                  <a:pt x="476093" y="536644"/>
                  <a:pt x="483056" y="525482"/>
                  <a:pt x="486507" y="509954"/>
                </a:cubicBezTo>
                <a:cubicBezTo>
                  <a:pt x="489085" y="498352"/>
                  <a:pt x="476738" y="475762"/>
                  <a:pt x="474784" y="468923"/>
                </a:cubicBez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4" name="Freeform 14"/>
          <p:cNvSpPr/>
          <p:nvPr/>
        </p:nvSpPr>
        <p:spPr>
          <a:xfrm>
            <a:off x="7551720" y="3200400"/>
            <a:ext cx="673200" cy="1092240"/>
          </a:xfrm>
          <a:custGeom>
            <a:avLst/>
            <a:gdLst/>
            <a:ahLst/>
            <a:rect l="l" t="t" r="r" b="b"/>
            <a:pathLst>
              <a:path w="673951" h="1092681">
                <a:moveTo>
                  <a:pt x="625561" y="504194"/>
                </a:moveTo>
                <a:lnTo>
                  <a:pt x="625561" y="504194"/>
                </a:lnTo>
                <a:cubicBezTo>
                  <a:pt x="641192" y="498333"/>
                  <a:pt x="659778" y="497474"/>
                  <a:pt x="672453" y="486610"/>
                </a:cubicBezTo>
                <a:cubicBezTo>
                  <a:pt x="677144" y="482589"/>
                  <a:pt x="669593" y="474426"/>
                  <a:pt x="666592" y="469025"/>
                </a:cubicBezTo>
                <a:cubicBezTo>
                  <a:pt x="659750" y="456709"/>
                  <a:pt x="650961" y="445579"/>
                  <a:pt x="643146" y="433856"/>
                </a:cubicBezTo>
                <a:lnTo>
                  <a:pt x="631423" y="416271"/>
                </a:lnTo>
                <a:cubicBezTo>
                  <a:pt x="627515" y="410410"/>
                  <a:pt x="621928" y="405370"/>
                  <a:pt x="619700" y="398687"/>
                </a:cubicBezTo>
                <a:cubicBezTo>
                  <a:pt x="617746" y="392825"/>
                  <a:pt x="615535" y="387043"/>
                  <a:pt x="613838" y="381102"/>
                </a:cubicBezTo>
                <a:cubicBezTo>
                  <a:pt x="611625" y="373356"/>
                  <a:pt x="612446" y="364359"/>
                  <a:pt x="607977" y="357656"/>
                </a:cubicBezTo>
                <a:cubicBezTo>
                  <a:pt x="604069" y="351794"/>
                  <a:pt x="596254" y="349841"/>
                  <a:pt x="590392" y="345933"/>
                </a:cubicBezTo>
                <a:cubicBezTo>
                  <a:pt x="575655" y="301725"/>
                  <a:pt x="595536" y="356223"/>
                  <a:pt x="572807" y="310764"/>
                </a:cubicBezTo>
                <a:cubicBezTo>
                  <a:pt x="570044" y="305238"/>
                  <a:pt x="571315" y="297548"/>
                  <a:pt x="566946" y="293179"/>
                </a:cubicBezTo>
                <a:cubicBezTo>
                  <a:pt x="562577" y="288810"/>
                  <a:pt x="555528" y="287702"/>
                  <a:pt x="549361" y="287317"/>
                </a:cubicBezTo>
                <a:cubicBezTo>
                  <a:pt x="492776" y="283780"/>
                  <a:pt x="436038" y="283410"/>
                  <a:pt x="379377" y="281456"/>
                </a:cubicBezTo>
                <a:cubicBezTo>
                  <a:pt x="381331" y="271687"/>
                  <a:pt x="382822" y="261813"/>
                  <a:pt x="385238" y="252148"/>
                </a:cubicBezTo>
                <a:cubicBezTo>
                  <a:pt x="386736" y="246154"/>
                  <a:pt x="391100" y="240742"/>
                  <a:pt x="391100" y="234564"/>
                </a:cubicBezTo>
                <a:cubicBezTo>
                  <a:pt x="391100" y="228385"/>
                  <a:pt x="387192" y="222841"/>
                  <a:pt x="385238" y="216979"/>
                </a:cubicBezTo>
                <a:cubicBezTo>
                  <a:pt x="391100" y="213071"/>
                  <a:pt x="396522" y="208407"/>
                  <a:pt x="402823" y="205256"/>
                </a:cubicBezTo>
                <a:cubicBezTo>
                  <a:pt x="412234" y="200551"/>
                  <a:pt x="428803" y="203515"/>
                  <a:pt x="432130" y="193533"/>
                </a:cubicBezTo>
                <a:cubicBezTo>
                  <a:pt x="438339" y="174905"/>
                  <a:pt x="429182" y="154336"/>
                  <a:pt x="426269" y="134917"/>
                </a:cubicBezTo>
                <a:cubicBezTo>
                  <a:pt x="423313" y="115212"/>
                  <a:pt x="420847" y="95205"/>
                  <a:pt x="414546" y="76302"/>
                </a:cubicBezTo>
                <a:cubicBezTo>
                  <a:pt x="412592" y="70440"/>
                  <a:pt x="411447" y="64243"/>
                  <a:pt x="408684" y="58717"/>
                </a:cubicBezTo>
                <a:cubicBezTo>
                  <a:pt x="405534" y="52416"/>
                  <a:pt x="402822" y="45041"/>
                  <a:pt x="396961" y="41133"/>
                </a:cubicBezTo>
                <a:cubicBezTo>
                  <a:pt x="390258" y="36664"/>
                  <a:pt x="381330" y="37225"/>
                  <a:pt x="373515" y="35271"/>
                </a:cubicBezTo>
                <a:cubicBezTo>
                  <a:pt x="359564" y="-6581"/>
                  <a:pt x="372074" y="-6752"/>
                  <a:pt x="344207" y="11825"/>
                </a:cubicBezTo>
                <a:cubicBezTo>
                  <a:pt x="332205" y="41830"/>
                  <a:pt x="330662" y="56850"/>
                  <a:pt x="297315" y="76302"/>
                </a:cubicBezTo>
                <a:cubicBezTo>
                  <a:pt x="287049" y="82290"/>
                  <a:pt x="273869" y="80210"/>
                  <a:pt x="262146" y="82164"/>
                </a:cubicBezTo>
                <a:cubicBezTo>
                  <a:pt x="260192" y="93887"/>
                  <a:pt x="260042" y="106058"/>
                  <a:pt x="256284" y="117333"/>
                </a:cubicBezTo>
                <a:cubicBezTo>
                  <a:pt x="237072" y="174968"/>
                  <a:pt x="237515" y="171865"/>
                  <a:pt x="215253" y="205256"/>
                </a:cubicBezTo>
                <a:cubicBezTo>
                  <a:pt x="206879" y="263882"/>
                  <a:pt x="208907" y="270704"/>
                  <a:pt x="174223" y="340071"/>
                </a:cubicBezTo>
                <a:cubicBezTo>
                  <a:pt x="154166" y="380183"/>
                  <a:pt x="165906" y="365972"/>
                  <a:pt x="144915" y="386964"/>
                </a:cubicBezTo>
                <a:cubicBezTo>
                  <a:pt x="142255" y="397603"/>
                  <a:pt x="137995" y="417186"/>
                  <a:pt x="133192" y="427994"/>
                </a:cubicBezTo>
                <a:cubicBezTo>
                  <a:pt x="127869" y="439971"/>
                  <a:pt x="120930" y="451187"/>
                  <a:pt x="115607" y="463164"/>
                </a:cubicBezTo>
                <a:cubicBezTo>
                  <a:pt x="113098" y="468810"/>
                  <a:pt x="113173" y="475607"/>
                  <a:pt x="109746" y="480748"/>
                </a:cubicBezTo>
                <a:cubicBezTo>
                  <a:pt x="105148" y="487645"/>
                  <a:pt x="98023" y="492471"/>
                  <a:pt x="92161" y="498333"/>
                </a:cubicBezTo>
                <a:cubicBezTo>
                  <a:pt x="90207" y="510056"/>
                  <a:pt x="92529" y="523380"/>
                  <a:pt x="86300" y="533502"/>
                </a:cubicBezTo>
                <a:cubicBezTo>
                  <a:pt x="76163" y="549975"/>
                  <a:pt x="45269" y="574533"/>
                  <a:pt x="45269" y="574533"/>
                </a:cubicBezTo>
                <a:cubicBezTo>
                  <a:pt x="29762" y="636557"/>
                  <a:pt x="50816" y="563517"/>
                  <a:pt x="27684" y="615564"/>
                </a:cubicBezTo>
                <a:cubicBezTo>
                  <a:pt x="22665" y="626856"/>
                  <a:pt x="19869" y="639010"/>
                  <a:pt x="15961" y="650733"/>
                </a:cubicBezTo>
                <a:cubicBezTo>
                  <a:pt x="14007" y="664410"/>
                  <a:pt x="12810" y="678216"/>
                  <a:pt x="10100" y="691764"/>
                </a:cubicBezTo>
                <a:cubicBezTo>
                  <a:pt x="8888" y="697822"/>
                  <a:pt x="4238" y="703170"/>
                  <a:pt x="4238" y="709348"/>
                </a:cubicBezTo>
                <a:cubicBezTo>
                  <a:pt x="4238" y="789479"/>
                  <a:pt x="-8460" y="871719"/>
                  <a:pt x="10100" y="949671"/>
                </a:cubicBezTo>
                <a:cubicBezTo>
                  <a:pt x="14198" y="966882"/>
                  <a:pt x="45338" y="953031"/>
                  <a:pt x="62853" y="955533"/>
                </a:cubicBezTo>
                <a:cubicBezTo>
                  <a:pt x="72716" y="956942"/>
                  <a:pt x="82392" y="959440"/>
                  <a:pt x="92161" y="961394"/>
                </a:cubicBezTo>
                <a:cubicBezTo>
                  <a:pt x="103884" y="969209"/>
                  <a:pt x="121029" y="972238"/>
                  <a:pt x="127330" y="984840"/>
                </a:cubicBezTo>
                <a:cubicBezTo>
                  <a:pt x="131238" y="992656"/>
                  <a:pt x="132063" y="1003044"/>
                  <a:pt x="139053" y="1008287"/>
                </a:cubicBezTo>
                <a:cubicBezTo>
                  <a:pt x="148939" y="1015701"/>
                  <a:pt x="163170" y="1014484"/>
                  <a:pt x="174223" y="1020010"/>
                </a:cubicBezTo>
                <a:cubicBezTo>
                  <a:pt x="213494" y="1039645"/>
                  <a:pt x="188985" y="1030768"/>
                  <a:pt x="250423" y="1037594"/>
                </a:cubicBezTo>
                <a:cubicBezTo>
                  <a:pt x="300810" y="1071186"/>
                  <a:pt x="237062" y="1030914"/>
                  <a:pt x="285592" y="1055179"/>
                </a:cubicBezTo>
                <a:cubicBezTo>
                  <a:pt x="303747" y="1064257"/>
                  <a:pt x="308022" y="1073858"/>
                  <a:pt x="326623" y="1084487"/>
                </a:cubicBezTo>
                <a:cubicBezTo>
                  <a:pt x="331987" y="1087552"/>
                  <a:pt x="338346" y="1088394"/>
                  <a:pt x="344207" y="1090348"/>
                </a:cubicBezTo>
                <a:cubicBezTo>
                  <a:pt x="481150" y="1083828"/>
                  <a:pt x="476239" y="1125159"/>
                  <a:pt x="461438" y="1014148"/>
                </a:cubicBezTo>
                <a:cubicBezTo>
                  <a:pt x="460621" y="1008024"/>
                  <a:pt x="457531" y="1002425"/>
                  <a:pt x="455577" y="996564"/>
                </a:cubicBezTo>
                <a:cubicBezTo>
                  <a:pt x="455175" y="993351"/>
                  <a:pt x="447073" y="923357"/>
                  <a:pt x="443853" y="914502"/>
                </a:cubicBezTo>
                <a:cubicBezTo>
                  <a:pt x="439960" y="903795"/>
                  <a:pt x="430983" y="895566"/>
                  <a:pt x="426269" y="885194"/>
                </a:cubicBezTo>
                <a:cubicBezTo>
                  <a:pt x="421156" y="873944"/>
                  <a:pt x="414546" y="850025"/>
                  <a:pt x="414546" y="850025"/>
                </a:cubicBezTo>
                <a:cubicBezTo>
                  <a:pt x="416500" y="779687"/>
                  <a:pt x="415621" y="709212"/>
                  <a:pt x="420407" y="639010"/>
                </a:cubicBezTo>
                <a:cubicBezTo>
                  <a:pt x="422652" y="606078"/>
                  <a:pt x="437869" y="580702"/>
                  <a:pt x="449715" y="551087"/>
                </a:cubicBezTo>
                <a:cubicBezTo>
                  <a:pt x="452010" y="545350"/>
                  <a:pt x="450830" y="537458"/>
                  <a:pt x="455577" y="533502"/>
                </a:cubicBezTo>
                <a:cubicBezTo>
                  <a:pt x="463660" y="526766"/>
                  <a:pt x="475032" y="525473"/>
                  <a:pt x="484884" y="521779"/>
                </a:cubicBezTo>
                <a:cubicBezTo>
                  <a:pt x="530044" y="504844"/>
                  <a:pt x="470487" y="528531"/>
                  <a:pt x="525915" y="510056"/>
                </a:cubicBezTo>
                <a:cubicBezTo>
                  <a:pt x="582801" y="491095"/>
                  <a:pt x="525439" y="502588"/>
                  <a:pt x="596253" y="492471"/>
                </a:cubicBezTo>
                <a:cubicBezTo>
                  <a:pt x="600161" y="488563"/>
                  <a:pt x="602506" y="481529"/>
                  <a:pt x="607977" y="480748"/>
                </a:cubicBezTo>
                <a:cubicBezTo>
                  <a:pt x="632285" y="477276"/>
                  <a:pt x="622630" y="500286"/>
                  <a:pt x="625561" y="504194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Freeform 16"/>
          <p:cNvSpPr/>
          <p:nvPr/>
        </p:nvSpPr>
        <p:spPr>
          <a:xfrm>
            <a:off x="7432560" y="2813040"/>
            <a:ext cx="498600" cy="550800"/>
          </a:xfrm>
          <a:custGeom>
            <a:avLst/>
            <a:gdLst/>
            <a:ahLst/>
            <a:rect l="l" t="t" r="r" b="b"/>
            <a:pathLst>
              <a:path w="498299" h="551167">
                <a:moveTo>
                  <a:pt x="498299" y="363598"/>
                </a:moveTo>
                <a:lnTo>
                  <a:pt x="498299" y="363598"/>
                </a:lnTo>
                <a:cubicBezTo>
                  <a:pt x="482668" y="355783"/>
                  <a:pt x="463763" y="352509"/>
                  <a:pt x="451406" y="340152"/>
                </a:cubicBezTo>
                <a:cubicBezTo>
                  <a:pt x="442668" y="331414"/>
                  <a:pt x="443591" y="316705"/>
                  <a:pt x="439683" y="304982"/>
                </a:cubicBezTo>
                <a:cubicBezTo>
                  <a:pt x="437729" y="299121"/>
                  <a:pt x="439683" y="289352"/>
                  <a:pt x="433822" y="287398"/>
                </a:cubicBezTo>
                <a:lnTo>
                  <a:pt x="416237" y="281536"/>
                </a:lnTo>
                <a:cubicBezTo>
                  <a:pt x="412329" y="275675"/>
                  <a:pt x="409495" y="268933"/>
                  <a:pt x="404514" y="263952"/>
                </a:cubicBezTo>
                <a:cubicBezTo>
                  <a:pt x="399532" y="258971"/>
                  <a:pt x="392341" y="256739"/>
                  <a:pt x="386929" y="252229"/>
                </a:cubicBezTo>
                <a:cubicBezTo>
                  <a:pt x="380561" y="246922"/>
                  <a:pt x="375206" y="240506"/>
                  <a:pt x="369345" y="234644"/>
                </a:cubicBezTo>
                <a:cubicBezTo>
                  <a:pt x="355668" y="193613"/>
                  <a:pt x="369345" y="203383"/>
                  <a:pt x="340037" y="193613"/>
                </a:cubicBezTo>
                <a:cubicBezTo>
                  <a:pt x="336129" y="185798"/>
                  <a:pt x="332649" y="177754"/>
                  <a:pt x="328314" y="170167"/>
                </a:cubicBezTo>
                <a:cubicBezTo>
                  <a:pt x="324819" y="164050"/>
                  <a:pt x="319742" y="158883"/>
                  <a:pt x="316591" y="152582"/>
                </a:cubicBezTo>
                <a:cubicBezTo>
                  <a:pt x="309512" y="138425"/>
                  <a:pt x="313003" y="128611"/>
                  <a:pt x="299006" y="117413"/>
                </a:cubicBezTo>
                <a:cubicBezTo>
                  <a:pt x="294182" y="113553"/>
                  <a:pt x="287283" y="113506"/>
                  <a:pt x="281422" y="111552"/>
                </a:cubicBezTo>
                <a:cubicBezTo>
                  <a:pt x="279468" y="99829"/>
                  <a:pt x="280875" y="87012"/>
                  <a:pt x="275560" y="76382"/>
                </a:cubicBezTo>
                <a:cubicBezTo>
                  <a:pt x="272409" y="70081"/>
                  <a:pt x="262957" y="69640"/>
                  <a:pt x="257975" y="64659"/>
                </a:cubicBezTo>
                <a:cubicBezTo>
                  <a:pt x="218895" y="25580"/>
                  <a:pt x="275563" y="66616"/>
                  <a:pt x="228668" y="35352"/>
                </a:cubicBezTo>
                <a:cubicBezTo>
                  <a:pt x="202574" y="-3790"/>
                  <a:pt x="216315" y="-8579"/>
                  <a:pt x="187637" y="11906"/>
                </a:cubicBezTo>
                <a:cubicBezTo>
                  <a:pt x="179688" y="17584"/>
                  <a:pt x="172006" y="23629"/>
                  <a:pt x="164191" y="29490"/>
                </a:cubicBezTo>
                <a:cubicBezTo>
                  <a:pt x="146636" y="70451"/>
                  <a:pt x="147663" y="79351"/>
                  <a:pt x="111437" y="111552"/>
                </a:cubicBezTo>
                <a:cubicBezTo>
                  <a:pt x="106819" y="115657"/>
                  <a:pt x="99498" y="114904"/>
                  <a:pt x="93852" y="117413"/>
                </a:cubicBezTo>
                <a:cubicBezTo>
                  <a:pt x="81875" y="122736"/>
                  <a:pt x="70560" y="129455"/>
                  <a:pt x="58683" y="134998"/>
                </a:cubicBezTo>
                <a:cubicBezTo>
                  <a:pt x="41245" y="143136"/>
                  <a:pt x="23514" y="150629"/>
                  <a:pt x="5929" y="158444"/>
                </a:cubicBezTo>
                <a:cubicBezTo>
                  <a:pt x="3975" y="164306"/>
                  <a:pt x="-614" y="169888"/>
                  <a:pt x="68" y="176029"/>
                </a:cubicBezTo>
                <a:cubicBezTo>
                  <a:pt x="2167" y="194922"/>
                  <a:pt x="11693" y="214005"/>
                  <a:pt x="23514" y="228782"/>
                </a:cubicBezTo>
                <a:cubicBezTo>
                  <a:pt x="26966" y="233098"/>
                  <a:pt x="31329" y="236598"/>
                  <a:pt x="35237" y="240506"/>
                </a:cubicBezTo>
                <a:cubicBezTo>
                  <a:pt x="38496" y="269835"/>
                  <a:pt x="32631" y="290653"/>
                  <a:pt x="52822" y="310844"/>
                </a:cubicBezTo>
                <a:cubicBezTo>
                  <a:pt x="57803" y="315825"/>
                  <a:pt x="64545" y="318659"/>
                  <a:pt x="70406" y="322567"/>
                </a:cubicBezTo>
                <a:cubicBezTo>
                  <a:pt x="72360" y="328429"/>
                  <a:pt x="73505" y="334626"/>
                  <a:pt x="76268" y="340152"/>
                </a:cubicBezTo>
                <a:cubicBezTo>
                  <a:pt x="83373" y="354361"/>
                  <a:pt x="90656" y="363065"/>
                  <a:pt x="105575" y="369459"/>
                </a:cubicBezTo>
                <a:cubicBezTo>
                  <a:pt x="112980" y="372633"/>
                  <a:pt x="121206" y="373367"/>
                  <a:pt x="129022" y="375321"/>
                </a:cubicBezTo>
                <a:cubicBezTo>
                  <a:pt x="138499" y="403756"/>
                  <a:pt x="128150" y="386522"/>
                  <a:pt x="158329" y="404629"/>
                </a:cubicBezTo>
                <a:cubicBezTo>
                  <a:pt x="170411" y="411878"/>
                  <a:pt x="181776" y="420260"/>
                  <a:pt x="193499" y="428075"/>
                </a:cubicBezTo>
                <a:lnTo>
                  <a:pt x="228668" y="451521"/>
                </a:lnTo>
                <a:lnTo>
                  <a:pt x="263837" y="474967"/>
                </a:lnTo>
                <a:lnTo>
                  <a:pt x="281422" y="480829"/>
                </a:lnTo>
                <a:cubicBezTo>
                  <a:pt x="287283" y="486690"/>
                  <a:pt x="293699" y="492045"/>
                  <a:pt x="299006" y="498413"/>
                </a:cubicBezTo>
                <a:cubicBezTo>
                  <a:pt x="303516" y="503825"/>
                  <a:pt x="305748" y="511017"/>
                  <a:pt x="310729" y="515998"/>
                </a:cubicBezTo>
                <a:cubicBezTo>
                  <a:pt x="315710" y="520979"/>
                  <a:pt x="322902" y="523211"/>
                  <a:pt x="328314" y="527721"/>
                </a:cubicBezTo>
                <a:cubicBezTo>
                  <a:pt x="334682" y="533028"/>
                  <a:pt x="339002" y="540708"/>
                  <a:pt x="345899" y="545306"/>
                </a:cubicBezTo>
                <a:cubicBezTo>
                  <a:pt x="351040" y="548733"/>
                  <a:pt x="369661" y="551167"/>
                  <a:pt x="363483" y="551167"/>
                </a:cubicBezTo>
                <a:cubicBezTo>
                  <a:pt x="351598" y="551167"/>
                  <a:pt x="340037" y="547260"/>
                  <a:pt x="328314" y="545306"/>
                </a:cubicBezTo>
                <a:cubicBezTo>
                  <a:pt x="347852" y="543352"/>
                  <a:pt x="373044" y="553329"/>
                  <a:pt x="386929" y="539444"/>
                </a:cubicBezTo>
                <a:cubicBezTo>
                  <a:pt x="398068" y="528305"/>
                  <a:pt x="378250" y="508050"/>
                  <a:pt x="381068" y="492552"/>
                </a:cubicBezTo>
                <a:cubicBezTo>
                  <a:pt x="384394" y="474258"/>
                  <a:pt x="410003" y="472130"/>
                  <a:pt x="422099" y="469106"/>
                </a:cubicBezTo>
                <a:cubicBezTo>
                  <a:pt x="426007" y="465198"/>
                  <a:pt x="431351" y="462325"/>
                  <a:pt x="433822" y="457382"/>
                </a:cubicBezTo>
                <a:cubicBezTo>
                  <a:pt x="446435" y="432155"/>
                  <a:pt x="437968" y="419007"/>
                  <a:pt x="463129" y="404629"/>
                </a:cubicBezTo>
                <a:cubicBezTo>
                  <a:pt x="470123" y="400632"/>
                  <a:pt x="478760" y="400721"/>
                  <a:pt x="486575" y="398767"/>
                </a:cubicBezTo>
                <a:cubicBezTo>
                  <a:pt x="501388" y="383955"/>
                  <a:pt x="496345" y="369459"/>
                  <a:pt x="498299" y="363598"/>
                </a:cubicBezTo>
                <a:close/>
              </a:path>
            </a:pathLst>
          </a:custGeom>
          <a:solidFill>
            <a:srgbClr val="666666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Freeform 18"/>
          <p:cNvSpPr/>
          <p:nvPr/>
        </p:nvSpPr>
        <p:spPr>
          <a:xfrm>
            <a:off x="7156440" y="3130560"/>
            <a:ext cx="528480" cy="461880"/>
          </a:xfrm>
          <a:custGeom>
            <a:avLst/>
            <a:gdLst/>
            <a:ahLst/>
            <a:rect l="l" t="t" r="r" b="b"/>
            <a:pathLst>
              <a:path w="528527" h="463061">
                <a:moveTo>
                  <a:pt x="12712" y="234461"/>
                </a:moveTo>
                <a:lnTo>
                  <a:pt x="12712" y="234461"/>
                </a:lnTo>
                <a:cubicBezTo>
                  <a:pt x="15535" y="259873"/>
                  <a:pt x="18586" y="296064"/>
                  <a:pt x="24435" y="322384"/>
                </a:cubicBezTo>
                <a:cubicBezTo>
                  <a:pt x="25775" y="328416"/>
                  <a:pt x="28956" y="333937"/>
                  <a:pt x="30296" y="339969"/>
                </a:cubicBezTo>
                <a:cubicBezTo>
                  <a:pt x="32874" y="351571"/>
                  <a:pt x="34351" y="363391"/>
                  <a:pt x="36158" y="375138"/>
                </a:cubicBezTo>
                <a:cubicBezTo>
                  <a:pt x="38259" y="388793"/>
                  <a:pt x="38049" y="402936"/>
                  <a:pt x="42019" y="416169"/>
                </a:cubicBezTo>
                <a:cubicBezTo>
                  <a:pt x="49383" y="440716"/>
                  <a:pt x="53889" y="429927"/>
                  <a:pt x="71327" y="439615"/>
                </a:cubicBezTo>
                <a:cubicBezTo>
                  <a:pt x="83643" y="446457"/>
                  <a:pt x="106496" y="463061"/>
                  <a:pt x="106496" y="463061"/>
                </a:cubicBezTo>
                <a:cubicBezTo>
                  <a:pt x="137758" y="461107"/>
                  <a:pt x="169099" y="460170"/>
                  <a:pt x="200281" y="457200"/>
                </a:cubicBezTo>
                <a:cubicBezTo>
                  <a:pt x="210199" y="456255"/>
                  <a:pt x="221299" y="456864"/>
                  <a:pt x="229588" y="451338"/>
                </a:cubicBezTo>
                <a:cubicBezTo>
                  <a:pt x="234729" y="447911"/>
                  <a:pt x="231081" y="438122"/>
                  <a:pt x="235450" y="433753"/>
                </a:cubicBezTo>
                <a:cubicBezTo>
                  <a:pt x="239819" y="429384"/>
                  <a:pt x="247298" y="430187"/>
                  <a:pt x="253035" y="427892"/>
                </a:cubicBezTo>
                <a:cubicBezTo>
                  <a:pt x="266851" y="422366"/>
                  <a:pt x="280388" y="416169"/>
                  <a:pt x="294065" y="410307"/>
                </a:cubicBezTo>
                <a:cubicBezTo>
                  <a:pt x="297973" y="404446"/>
                  <a:pt x="299672" y="396218"/>
                  <a:pt x="305788" y="392723"/>
                </a:cubicBezTo>
                <a:cubicBezTo>
                  <a:pt x="375835" y="352697"/>
                  <a:pt x="288732" y="436794"/>
                  <a:pt x="370265" y="363415"/>
                </a:cubicBezTo>
                <a:cubicBezTo>
                  <a:pt x="468753" y="274777"/>
                  <a:pt x="329874" y="381984"/>
                  <a:pt x="417158" y="316523"/>
                </a:cubicBezTo>
                <a:cubicBezTo>
                  <a:pt x="418539" y="310998"/>
                  <a:pt x="425056" y="282377"/>
                  <a:pt x="428881" y="275492"/>
                </a:cubicBezTo>
                <a:cubicBezTo>
                  <a:pt x="435724" y="263176"/>
                  <a:pt x="452327" y="240323"/>
                  <a:pt x="452327" y="240323"/>
                </a:cubicBezTo>
                <a:cubicBezTo>
                  <a:pt x="454207" y="232804"/>
                  <a:pt x="459843" y="207706"/>
                  <a:pt x="464050" y="199292"/>
                </a:cubicBezTo>
                <a:cubicBezTo>
                  <a:pt x="467201" y="192991"/>
                  <a:pt x="470272" y="186108"/>
                  <a:pt x="475773" y="181707"/>
                </a:cubicBezTo>
                <a:cubicBezTo>
                  <a:pt x="480598" y="177847"/>
                  <a:pt x="487573" y="178015"/>
                  <a:pt x="493358" y="175846"/>
                </a:cubicBezTo>
                <a:cubicBezTo>
                  <a:pt x="503210" y="172152"/>
                  <a:pt x="512896" y="168031"/>
                  <a:pt x="522665" y="164123"/>
                </a:cubicBezTo>
                <a:cubicBezTo>
                  <a:pt x="524619" y="158261"/>
                  <a:pt x="528527" y="152717"/>
                  <a:pt x="528527" y="146538"/>
                </a:cubicBezTo>
                <a:cubicBezTo>
                  <a:pt x="528527" y="140359"/>
                  <a:pt x="526525" y="133778"/>
                  <a:pt x="522665" y="128953"/>
                </a:cubicBezTo>
                <a:cubicBezTo>
                  <a:pt x="514401" y="118622"/>
                  <a:pt x="499081" y="115230"/>
                  <a:pt x="487496" y="111369"/>
                </a:cubicBezTo>
                <a:cubicBezTo>
                  <a:pt x="433376" y="75288"/>
                  <a:pt x="499949" y="121331"/>
                  <a:pt x="458188" y="87923"/>
                </a:cubicBezTo>
                <a:cubicBezTo>
                  <a:pt x="452687" y="83522"/>
                  <a:pt x="446105" y="80601"/>
                  <a:pt x="440604" y="76200"/>
                </a:cubicBezTo>
                <a:cubicBezTo>
                  <a:pt x="436289" y="72747"/>
                  <a:pt x="433620" y="67319"/>
                  <a:pt x="428881" y="64476"/>
                </a:cubicBezTo>
                <a:cubicBezTo>
                  <a:pt x="423583" y="61297"/>
                  <a:pt x="417158" y="60569"/>
                  <a:pt x="411296" y="58615"/>
                </a:cubicBezTo>
                <a:cubicBezTo>
                  <a:pt x="405435" y="54707"/>
                  <a:pt x="399213" y="51293"/>
                  <a:pt x="393712" y="46892"/>
                </a:cubicBezTo>
                <a:cubicBezTo>
                  <a:pt x="389396" y="43440"/>
                  <a:pt x="386727" y="38012"/>
                  <a:pt x="381988" y="35169"/>
                </a:cubicBezTo>
                <a:cubicBezTo>
                  <a:pt x="376690" y="31990"/>
                  <a:pt x="369805" y="32308"/>
                  <a:pt x="364404" y="29307"/>
                </a:cubicBezTo>
                <a:cubicBezTo>
                  <a:pt x="303947" y="-4281"/>
                  <a:pt x="351437" y="13261"/>
                  <a:pt x="311650" y="0"/>
                </a:cubicBezTo>
                <a:cubicBezTo>
                  <a:pt x="239019" y="18156"/>
                  <a:pt x="352904" y="-10950"/>
                  <a:pt x="253035" y="17584"/>
                </a:cubicBezTo>
                <a:lnTo>
                  <a:pt x="212004" y="29307"/>
                </a:lnTo>
                <a:cubicBezTo>
                  <a:pt x="167956" y="73355"/>
                  <a:pt x="229361" y="14249"/>
                  <a:pt x="159250" y="70338"/>
                </a:cubicBezTo>
                <a:cubicBezTo>
                  <a:pt x="119510" y="102130"/>
                  <a:pt x="154251" y="89172"/>
                  <a:pt x="112358" y="99646"/>
                </a:cubicBezTo>
                <a:cubicBezTo>
                  <a:pt x="102589" y="105507"/>
                  <a:pt x="93240" y="112135"/>
                  <a:pt x="83050" y="117230"/>
                </a:cubicBezTo>
                <a:cubicBezTo>
                  <a:pt x="77524" y="119993"/>
                  <a:pt x="70866" y="120091"/>
                  <a:pt x="65465" y="123092"/>
                </a:cubicBezTo>
                <a:cubicBezTo>
                  <a:pt x="53149" y="129934"/>
                  <a:pt x="42019" y="138723"/>
                  <a:pt x="30296" y="146538"/>
                </a:cubicBezTo>
                <a:cubicBezTo>
                  <a:pt x="26388" y="152400"/>
                  <a:pt x="24074" y="159722"/>
                  <a:pt x="18573" y="164123"/>
                </a:cubicBezTo>
                <a:cubicBezTo>
                  <a:pt x="13748" y="167983"/>
                  <a:pt x="2093" y="163905"/>
                  <a:pt x="988" y="169984"/>
                </a:cubicBezTo>
                <a:cubicBezTo>
                  <a:pt x="-2525" y="189303"/>
                  <a:pt x="4255" y="209136"/>
                  <a:pt x="6850" y="228600"/>
                </a:cubicBezTo>
                <a:cubicBezTo>
                  <a:pt x="8167" y="238475"/>
                  <a:pt x="11735" y="233484"/>
                  <a:pt x="12712" y="234461"/>
                </a:cubicBezTo>
                <a:close/>
              </a:path>
            </a:pathLst>
          </a:custGeom>
          <a:solidFill>
            <a:srgbClr val="666666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Freeform 19"/>
          <p:cNvSpPr/>
          <p:nvPr/>
        </p:nvSpPr>
        <p:spPr>
          <a:xfrm>
            <a:off x="6553080" y="3352680"/>
            <a:ext cx="711360" cy="866880"/>
          </a:xfrm>
          <a:custGeom>
            <a:avLst/>
            <a:gdLst/>
            <a:ahLst/>
            <a:rect l="l" t="t" r="r" b="b"/>
            <a:pathLst>
              <a:path w="711079" h="867508">
                <a:moveTo>
                  <a:pt x="650631" y="199292"/>
                </a:moveTo>
                <a:lnTo>
                  <a:pt x="650631" y="199292"/>
                </a:lnTo>
                <a:cubicBezTo>
                  <a:pt x="641228" y="283915"/>
                  <a:pt x="641021" y="260872"/>
                  <a:pt x="650631" y="381000"/>
                </a:cubicBezTo>
                <a:cubicBezTo>
                  <a:pt x="651124" y="387159"/>
                  <a:pt x="654538" y="392723"/>
                  <a:pt x="656492" y="398585"/>
                </a:cubicBezTo>
                <a:cubicBezTo>
                  <a:pt x="658446" y="420077"/>
                  <a:pt x="658122" y="441900"/>
                  <a:pt x="662354" y="463062"/>
                </a:cubicBezTo>
                <a:cubicBezTo>
                  <a:pt x="664068" y="471630"/>
                  <a:pt x="672363" y="477940"/>
                  <a:pt x="674077" y="486508"/>
                </a:cubicBezTo>
                <a:cubicBezTo>
                  <a:pt x="678309" y="507670"/>
                  <a:pt x="677261" y="529571"/>
                  <a:pt x="679938" y="550985"/>
                </a:cubicBezTo>
                <a:cubicBezTo>
                  <a:pt x="682767" y="573617"/>
                  <a:pt x="685282" y="578738"/>
                  <a:pt x="691662" y="597877"/>
                </a:cubicBezTo>
                <a:cubicBezTo>
                  <a:pt x="689708" y="666262"/>
                  <a:pt x="740111" y="761431"/>
                  <a:pt x="685800" y="803031"/>
                </a:cubicBezTo>
                <a:cubicBezTo>
                  <a:pt x="614432" y="857696"/>
                  <a:pt x="505998" y="805369"/>
                  <a:pt x="416169" y="808892"/>
                </a:cubicBezTo>
                <a:cubicBezTo>
                  <a:pt x="406214" y="809282"/>
                  <a:pt x="396689" y="813116"/>
                  <a:pt x="386862" y="814754"/>
                </a:cubicBezTo>
                <a:cubicBezTo>
                  <a:pt x="373234" y="817025"/>
                  <a:pt x="359508" y="818661"/>
                  <a:pt x="345831" y="820615"/>
                </a:cubicBezTo>
                <a:cubicBezTo>
                  <a:pt x="336062" y="826477"/>
                  <a:pt x="326713" y="833105"/>
                  <a:pt x="316523" y="838200"/>
                </a:cubicBezTo>
                <a:cubicBezTo>
                  <a:pt x="310997" y="840963"/>
                  <a:pt x="304079" y="840635"/>
                  <a:pt x="298938" y="844062"/>
                </a:cubicBezTo>
                <a:cubicBezTo>
                  <a:pt x="292041" y="848660"/>
                  <a:pt x="288929" y="858279"/>
                  <a:pt x="281354" y="861646"/>
                </a:cubicBezTo>
                <a:cubicBezTo>
                  <a:pt x="270494" y="866473"/>
                  <a:pt x="257908" y="865554"/>
                  <a:pt x="246185" y="867508"/>
                </a:cubicBezTo>
                <a:cubicBezTo>
                  <a:pt x="222739" y="865554"/>
                  <a:pt x="199167" y="864755"/>
                  <a:pt x="175846" y="861646"/>
                </a:cubicBezTo>
                <a:cubicBezTo>
                  <a:pt x="169722" y="860829"/>
                  <a:pt x="163290" y="859376"/>
                  <a:pt x="158262" y="855785"/>
                </a:cubicBezTo>
                <a:cubicBezTo>
                  <a:pt x="149268" y="849361"/>
                  <a:pt x="134815" y="832338"/>
                  <a:pt x="134815" y="832338"/>
                </a:cubicBezTo>
                <a:cubicBezTo>
                  <a:pt x="130907" y="818661"/>
                  <a:pt x="127179" y="804932"/>
                  <a:pt x="123092" y="791308"/>
                </a:cubicBezTo>
                <a:cubicBezTo>
                  <a:pt x="121317" y="785390"/>
                  <a:pt x="118730" y="779717"/>
                  <a:pt x="117231" y="773723"/>
                </a:cubicBezTo>
                <a:cubicBezTo>
                  <a:pt x="114815" y="764058"/>
                  <a:pt x="113323" y="754184"/>
                  <a:pt x="111369" y="744415"/>
                </a:cubicBezTo>
                <a:cubicBezTo>
                  <a:pt x="109415" y="699477"/>
                  <a:pt x="108831" y="654458"/>
                  <a:pt x="105508" y="609600"/>
                </a:cubicBezTo>
                <a:cubicBezTo>
                  <a:pt x="104913" y="601566"/>
                  <a:pt x="104803" y="592343"/>
                  <a:pt x="99646" y="586154"/>
                </a:cubicBezTo>
                <a:cubicBezTo>
                  <a:pt x="94052" y="579441"/>
                  <a:pt x="84355" y="577568"/>
                  <a:pt x="76200" y="574431"/>
                </a:cubicBezTo>
                <a:cubicBezTo>
                  <a:pt x="58900" y="567777"/>
                  <a:pt x="41031" y="562708"/>
                  <a:pt x="23446" y="556846"/>
                </a:cubicBezTo>
                <a:lnTo>
                  <a:pt x="5862" y="550985"/>
                </a:lnTo>
                <a:cubicBezTo>
                  <a:pt x="3908" y="545123"/>
                  <a:pt x="0" y="539579"/>
                  <a:pt x="0" y="533400"/>
                </a:cubicBezTo>
                <a:cubicBezTo>
                  <a:pt x="0" y="527221"/>
                  <a:pt x="4363" y="521809"/>
                  <a:pt x="5862" y="515815"/>
                </a:cubicBezTo>
                <a:lnTo>
                  <a:pt x="17585" y="468923"/>
                </a:lnTo>
                <a:cubicBezTo>
                  <a:pt x="19539" y="453292"/>
                  <a:pt x="21364" y="437645"/>
                  <a:pt x="23446" y="422031"/>
                </a:cubicBezTo>
                <a:cubicBezTo>
                  <a:pt x="26852" y="396489"/>
                  <a:pt x="23405" y="381042"/>
                  <a:pt x="41031" y="363415"/>
                </a:cubicBezTo>
                <a:cubicBezTo>
                  <a:pt x="50065" y="354380"/>
                  <a:pt x="63940" y="348555"/>
                  <a:pt x="76200" y="345831"/>
                </a:cubicBezTo>
                <a:cubicBezTo>
                  <a:pt x="87802" y="343253"/>
                  <a:pt x="99839" y="342852"/>
                  <a:pt x="111369" y="339969"/>
                </a:cubicBezTo>
                <a:cubicBezTo>
                  <a:pt x="123357" y="336972"/>
                  <a:pt x="146538" y="328246"/>
                  <a:pt x="146538" y="328246"/>
                </a:cubicBezTo>
                <a:cubicBezTo>
                  <a:pt x="150446" y="320431"/>
                  <a:pt x="156652" y="313388"/>
                  <a:pt x="158262" y="304800"/>
                </a:cubicBezTo>
                <a:cubicBezTo>
                  <a:pt x="161711" y="286408"/>
                  <a:pt x="169330" y="147229"/>
                  <a:pt x="169985" y="140677"/>
                </a:cubicBezTo>
                <a:cubicBezTo>
                  <a:pt x="171523" y="125297"/>
                  <a:pt x="187324" y="83071"/>
                  <a:pt x="193431" y="76200"/>
                </a:cubicBezTo>
                <a:cubicBezTo>
                  <a:pt x="200421" y="68336"/>
                  <a:pt x="212360" y="66207"/>
                  <a:pt x="222738" y="64477"/>
                </a:cubicBezTo>
                <a:cubicBezTo>
                  <a:pt x="247866" y="60289"/>
                  <a:pt x="273538" y="60569"/>
                  <a:pt x="298938" y="58615"/>
                </a:cubicBezTo>
                <a:cubicBezTo>
                  <a:pt x="304800" y="56661"/>
                  <a:pt x="310529" y="54253"/>
                  <a:pt x="316523" y="52754"/>
                </a:cubicBezTo>
                <a:cubicBezTo>
                  <a:pt x="326188" y="50338"/>
                  <a:pt x="336503" y="50390"/>
                  <a:pt x="345831" y="46892"/>
                </a:cubicBezTo>
                <a:cubicBezTo>
                  <a:pt x="352427" y="44418"/>
                  <a:pt x="357114" y="38319"/>
                  <a:pt x="363415" y="35169"/>
                </a:cubicBezTo>
                <a:cubicBezTo>
                  <a:pt x="368941" y="32406"/>
                  <a:pt x="375059" y="31005"/>
                  <a:pt x="381000" y="29308"/>
                </a:cubicBezTo>
                <a:cubicBezTo>
                  <a:pt x="423162" y="17262"/>
                  <a:pt x="385354" y="29685"/>
                  <a:pt x="433754" y="17585"/>
                </a:cubicBezTo>
                <a:cubicBezTo>
                  <a:pt x="454435" y="12415"/>
                  <a:pt x="451272" y="8997"/>
                  <a:pt x="474785" y="5862"/>
                </a:cubicBezTo>
                <a:cubicBezTo>
                  <a:pt x="496177" y="3010"/>
                  <a:pt x="517770" y="1954"/>
                  <a:pt x="539262" y="0"/>
                </a:cubicBezTo>
                <a:cubicBezTo>
                  <a:pt x="542385" y="781"/>
                  <a:pt x="575249" y="8361"/>
                  <a:pt x="580292" y="11723"/>
                </a:cubicBezTo>
                <a:cubicBezTo>
                  <a:pt x="587189" y="16321"/>
                  <a:pt x="592015" y="23446"/>
                  <a:pt x="597877" y="29308"/>
                </a:cubicBezTo>
                <a:lnTo>
                  <a:pt x="615462" y="82062"/>
                </a:lnTo>
                <a:lnTo>
                  <a:pt x="621323" y="99646"/>
                </a:lnTo>
                <a:cubicBezTo>
                  <a:pt x="623277" y="105508"/>
                  <a:pt x="625973" y="111172"/>
                  <a:pt x="627185" y="117231"/>
                </a:cubicBezTo>
                <a:cubicBezTo>
                  <a:pt x="631093" y="136769"/>
                  <a:pt x="632607" y="156943"/>
                  <a:pt x="638908" y="175846"/>
                </a:cubicBezTo>
                <a:lnTo>
                  <a:pt x="650631" y="211015"/>
                </a:lnTo>
                <a:cubicBezTo>
                  <a:pt x="657367" y="231222"/>
                  <a:pt x="650631" y="201246"/>
                  <a:pt x="650631" y="199292"/>
                </a:cubicBez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8" name="TextBox 20"/>
          <p:cNvSpPr/>
          <p:nvPr/>
        </p:nvSpPr>
        <p:spPr>
          <a:xfrm>
            <a:off x="8172360" y="450864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" name="TextBox 21"/>
          <p:cNvSpPr/>
          <p:nvPr/>
        </p:nvSpPr>
        <p:spPr>
          <a:xfrm>
            <a:off x="8101080" y="4014720"/>
            <a:ext cx="2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TextBox 22"/>
          <p:cNvSpPr/>
          <p:nvPr/>
        </p:nvSpPr>
        <p:spPr>
          <a:xfrm>
            <a:off x="7029360" y="2637000"/>
            <a:ext cx="4968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EEAS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" name="TextBox 23"/>
          <p:cNvSpPr/>
          <p:nvPr/>
        </p:nvSpPr>
        <p:spPr>
          <a:xfrm>
            <a:off x="6732720" y="3592440"/>
            <a:ext cx="81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Devco &amp; EUD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2" name="TextBox 24"/>
          <p:cNvSpPr/>
          <p:nvPr/>
        </p:nvSpPr>
        <p:spPr>
          <a:xfrm rot="19637400">
            <a:off x="7246440" y="3062160"/>
            <a:ext cx="60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CHO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" name="TextBox 25"/>
          <p:cNvSpPr/>
          <p:nvPr/>
        </p:nvSpPr>
        <p:spPr>
          <a:xfrm>
            <a:off x="7940520" y="2498760"/>
            <a:ext cx="744840" cy="550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Calibri"/>
              </a:rPr>
              <a:t>Most war affected areas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204" name="Straight Arrow Connector 27"/>
          <p:cNvCxnSpPr/>
          <p:nvPr/>
        </p:nvCxnSpPr>
        <p:spPr>
          <a:xfrm flipH="1">
            <a:off x="7419600" y="2707920"/>
            <a:ext cx="511920" cy="492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5" name="Straight Arrow Connector 29"/>
          <p:cNvCxnSpPr>
            <a:stCxn id="203" idx="1"/>
          </p:cNvCxnSpPr>
          <p:nvPr/>
        </p:nvCxnSpPr>
        <p:spPr>
          <a:xfrm flipH="1">
            <a:off x="7684920" y="2774520"/>
            <a:ext cx="255960" cy="31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6" name="TextBox 30"/>
          <p:cNvSpPr/>
          <p:nvPr/>
        </p:nvSpPr>
        <p:spPr>
          <a:xfrm>
            <a:off x="6908760" y="4384800"/>
            <a:ext cx="368280" cy="246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Calibri"/>
              </a:rPr>
              <a:t>IDP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7" name="TextBox 31"/>
          <p:cNvSpPr/>
          <p:nvPr/>
        </p:nvSpPr>
        <p:spPr>
          <a:xfrm>
            <a:off x="7342200" y="4386240"/>
            <a:ext cx="368280" cy="246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Calibri"/>
              </a:rPr>
              <a:t>IDP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208" name="Straight Arrow Connector 32"/>
          <p:cNvCxnSpPr/>
          <p:nvPr/>
        </p:nvCxnSpPr>
        <p:spPr>
          <a:xfrm flipH="1" flipV="1">
            <a:off x="6908400" y="4014360"/>
            <a:ext cx="185040" cy="370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9" name="Straight Arrow Connector 35"/>
          <p:cNvCxnSpPr/>
          <p:nvPr/>
        </p:nvCxnSpPr>
        <p:spPr>
          <a:xfrm flipH="1" flipV="1">
            <a:off x="7419240" y="3785400"/>
            <a:ext cx="127800" cy="586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ensées 90"/>
          <p:cNvSpPr/>
          <p:nvPr/>
        </p:nvSpPr>
        <p:spPr>
          <a:xfrm rot="3012600">
            <a:off x="4553280" y="1240200"/>
            <a:ext cx="4105440" cy="2998800"/>
          </a:xfrm>
          <a:prstGeom prst="cloudCallout">
            <a:avLst>
              <a:gd name="adj1" fmla="val -13879"/>
              <a:gd name="adj2" fmla="val 36527"/>
            </a:avLst>
          </a:prstGeom>
          <a:solidFill>
            <a:srgbClr val="00b05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" name="Connecteur droit 6"/>
          <p:cNvSpPr/>
          <p:nvPr/>
        </p:nvSpPr>
        <p:spPr>
          <a:xfrm>
            <a:off x="971640" y="549360"/>
            <a:ext cx="0" cy="6308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2" name="Connecteur droit 7"/>
          <p:cNvSpPr/>
          <p:nvPr/>
        </p:nvSpPr>
        <p:spPr>
          <a:xfrm>
            <a:off x="2556000" y="765000"/>
            <a:ext cx="0" cy="6093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3" name="Connecteur droit 8"/>
          <p:cNvSpPr/>
          <p:nvPr/>
        </p:nvSpPr>
        <p:spPr>
          <a:xfrm>
            <a:off x="5292720" y="549360"/>
            <a:ext cx="0" cy="6308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" name="Connecteur droit 9"/>
          <p:cNvSpPr/>
          <p:nvPr/>
        </p:nvSpPr>
        <p:spPr>
          <a:xfrm>
            <a:off x="3492360" y="549360"/>
            <a:ext cx="0" cy="630864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" name="Connecteur droit 10"/>
          <p:cNvSpPr/>
          <p:nvPr/>
        </p:nvSpPr>
        <p:spPr>
          <a:xfrm>
            <a:off x="4427640" y="549360"/>
            <a:ext cx="0" cy="630864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6" name="ZoneTexte 22"/>
          <p:cNvSpPr/>
          <p:nvPr/>
        </p:nvSpPr>
        <p:spPr>
          <a:xfrm>
            <a:off x="5940360" y="2452680"/>
            <a:ext cx="1471680" cy="23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Lack of skill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7" name="ZoneTexte 118"/>
          <p:cNvSpPr/>
          <p:nvPr/>
        </p:nvSpPr>
        <p:spPr>
          <a:xfrm>
            <a:off x="934920" y="2922480"/>
            <a:ext cx="4356360" cy="231120"/>
          </a:xfrm>
          <a:prstGeom prst="rect">
            <a:avLst/>
          </a:prstGeom>
          <a:solidFill>
            <a:srgbClr val="ff00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Verdana"/>
              </a:rPr>
              <a:t>Lack of Reconcilia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8" name="Forme libre 53"/>
          <p:cNvSpPr/>
          <p:nvPr/>
        </p:nvSpPr>
        <p:spPr>
          <a:xfrm rot="16200000">
            <a:off x="3540600" y="891360"/>
            <a:ext cx="347760" cy="485640"/>
          </a:xfrm>
          <a:custGeom>
            <a:avLst/>
            <a:gdLst/>
            <a:ahLst/>
            <a:rect l="l" t="t" r="r" b="b"/>
            <a:pathLst>
              <a:path w="368580" h="725189">
                <a:moveTo>
                  <a:pt x="11964" y="0"/>
                </a:moveTo>
                <a:cubicBezTo>
                  <a:pt x="8916" y="57912"/>
                  <a:pt x="2820" y="115744"/>
                  <a:pt x="2820" y="173736"/>
                </a:cubicBezTo>
                <a:cubicBezTo>
                  <a:pt x="2820" y="353594"/>
                  <a:pt x="0" y="533773"/>
                  <a:pt x="11964" y="713232"/>
                </a:cubicBezTo>
                <a:cubicBezTo>
                  <a:pt x="12605" y="722849"/>
                  <a:pt x="29761" y="722129"/>
                  <a:pt x="39396" y="722376"/>
                </a:cubicBezTo>
                <a:cubicBezTo>
                  <a:pt x="149088" y="725189"/>
                  <a:pt x="258852" y="722376"/>
                  <a:pt x="368580" y="72237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Forme libre 54"/>
          <p:cNvSpPr/>
          <p:nvPr/>
        </p:nvSpPr>
        <p:spPr>
          <a:xfrm flipH="1" rot="10800000">
            <a:off x="5850000" y="2111040"/>
            <a:ext cx="133200" cy="857160"/>
          </a:xfrm>
          <a:custGeom>
            <a:avLst/>
            <a:gdLst/>
            <a:ahLst/>
            <a:rect l="l" t="t" r="r" b="b"/>
            <a:pathLst>
              <a:path w="133350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0" name="Forme libre 60"/>
          <p:cNvSpPr/>
          <p:nvPr/>
        </p:nvSpPr>
        <p:spPr>
          <a:xfrm rot="2669400">
            <a:off x="4462560" y="3112560"/>
            <a:ext cx="2200320" cy="3567240"/>
          </a:xfrm>
          <a:custGeom>
            <a:avLst/>
            <a:gdLst/>
            <a:ahLst/>
            <a:rect l="l" t="t" r="r" b="b"/>
            <a:pathLst>
              <a:path w="1133856" h="1892808">
                <a:moveTo>
                  <a:pt x="0" y="1892808"/>
                </a:moveTo>
                <a:cubicBezTo>
                  <a:pt x="326136" y="1629918"/>
                  <a:pt x="652272" y="1367028"/>
                  <a:pt x="841248" y="1051560"/>
                </a:cubicBezTo>
                <a:cubicBezTo>
                  <a:pt x="1030224" y="736092"/>
                  <a:pt x="1133856" y="0"/>
                  <a:pt x="1133856" y="0"/>
                </a:cubicBezTo>
                <a:lnTo>
                  <a:pt x="113385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1" name="Connecteur droit 4"/>
          <p:cNvSpPr/>
          <p:nvPr/>
        </p:nvSpPr>
        <p:spPr>
          <a:xfrm>
            <a:off x="250920" y="692280"/>
            <a:ext cx="86421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222" name="Group 50"/>
          <p:cNvGrpSpPr/>
          <p:nvPr/>
        </p:nvGrpSpPr>
        <p:grpSpPr>
          <a:xfrm>
            <a:off x="108000" y="115920"/>
            <a:ext cx="8424720" cy="641520"/>
            <a:chOff x="108000" y="115920"/>
            <a:chExt cx="8424720" cy="641520"/>
          </a:xfrm>
        </p:grpSpPr>
        <p:sp>
          <p:nvSpPr>
            <p:cNvPr id="223" name="ZoneTexte 11"/>
            <p:cNvSpPr/>
            <p:nvPr/>
          </p:nvSpPr>
          <p:spPr>
            <a:xfrm>
              <a:off x="1187280" y="115920"/>
              <a:ext cx="93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Nation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24" name="ZoneTexte 12"/>
            <p:cNvSpPr/>
            <p:nvPr/>
          </p:nvSpPr>
          <p:spPr>
            <a:xfrm>
              <a:off x="2556000" y="115920"/>
              <a:ext cx="100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Provinci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25" name="ZoneTexte 13"/>
            <p:cNvSpPr/>
            <p:nvPr/>
          </p:nvSpPr>
          <p:spPr>
            <a:xfrm>
              <a:off x="3564000" y="115920"/>
              <a:ext cx="865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District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26" name="ZoneTexte 14"/>
            <p:cNvSpPr/>
            <p:nvPr/>
          </p:nvSpPr>
          <p:spPr>
            <a:xfrm>
              <a:off x="4572000" y="115920"/>
              <a:ext cx="72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Village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27" name="ZoneTexte 15"/>
            <p:cNvSpPr/>
            <p:nvPr/>
          </p:nvSpPr>
          <p:spPr>
            <a:xfrm>
              <a:off x="7597800" y="115920"/>
              <a:ext cx="93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Individu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28" name="ZoneTexte 16"/>
            <p:cNvSpPr/>
            <p:nvPr/>
          </p:nvSpPr>
          <p:spPr>
            <a:xfrm>
              <a:off x="5364000" y="115920"/>
              <a:ext cx="9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Household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29" name="ZoneTexte 17"/>
            <p:cNvSpPr/>
            <p:nvPr/>
          </p:nvSpPr>
          <p:spPr>
            <a:xfrm>
              <a:off x="108000" y="115920"/>
              <a:ext cx="863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Supra nation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230" name="Forme libre 62"/>
          <p:cNvSpPr/>
          <p:nvPr/>
        </p:nvSpPr>
        <p:spPr>
          <a:xfrm flipV="1" rot="3360600">
            <a:off x="6217200" y="3075120"/>
            <a:ext cx="298080" cy="163440"/>
          </a:xfrm>
          <a:custGeom>
            <a:avLst/>
            <a:gdLst/>
            <a:ahLst/>
            <a:rect l="l" t="t" r="r" b="b"/>
            <a:pathLst>
              <a:path w="365760" h="201168">
                <a:moveTo>
                  <a:pt x="0" y="0"/>
                </a:moveTo>
                <a:cubicBezTo>
                  <a:pt x="33528" y="65532"/>
                  <a:pt x="67056" y="131064"/>
                  <a:pt x="128016" y="164592"/>
                </a:cubicBezTo>
                <a:cubicBezTo>
                  <a:pt x="188976" y="198120"/>
                  <a:pt x="365760" y="201168"/>
                  <a:pt x="365760" y="201168"/>
                </a:cubicBezTo>
                <a:lnTo>
                  <a:pt x="365760" y="201168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1" name="Forme libre 120"/>
          <p:cNvSpPr/>
          <p:nvPr/>
        </p:nvSpPr>
        <p:spPr>
          <a:xfrm flipH="1" flipV="1" rot="19383000">
            <a:off x="2251800" y="1469520"/>
            <a:ext cx="252720" cy="481320"/>
          </a:xfrm>
          <a:custGeom>
            <a:avLst/>
            <a:gdLst>
              <a:gd name="textAreaLeft" fmla="*/ 360 w 252720"/>
              <a:gd name="textAreaRight" fmla="*/ 253440 w 252720"/>
              <a:gd name="textAreaTop" fmla="*/ -360 h 481320"/>
              <a:gd name="textAreaBottom" fmla="*/ 481320 h 481320"/>
            </a:gdLst>
            <a:ahLst/>
            <a:rect l="textAreaLeft" t="textAreaTop" r="textAreaRight" b="textAreaBottom"/>
            <a:pathLst>
              <a:path w="46037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2" name="ZoneTexte 24"/>
          <p:cNvSpPr/>
          <p:nvPr/>
        </p:nvSpPr>
        <p:spPr>
          <a:xfrm>
            <a:off x="6437160" y="3235320"/>
            <a:ext cx="719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ack of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income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3" name="Forme libre 54"/>
          <p:cNvSpPr/>
          <p:nvPr/>
        </p:nvSpPr>
        <p:spPr>
          <a:xfrm flipH="1" rot="16795200">
            <a:off x="7239600" y="3432960"/>
            <a:ext cx="268200" cy="434880"/>
          </a:xfrm>
          <a:custGeom>
            <a:avLst/>
            <a:gdLst>
              <a:gd name="textAreaLeft" fmla="*/ -360 w 268200"/>
              <a:gd name="textAreaRight" fmla="*/ 268200 w 26820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46043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" name="Forme libre 120"/>
          <p:cNvSpPr/>
          <p:nvPr/>
        </p:nvSpPr>
        <p:spPr>
          <a:xfrm rot="19364400">
            <a:off x="5584320" y="2617560"/>
            <a:ext cx="276480" cy="280800"/>
          </a:xfrm>
          <a:custGeom>
            <a:avLst/>
            <a:gdLst>
              <a:gd name="textAreaLeft" fmla="*/ 0 w 276480"/>
              <a:gd name="textAreaRight" fmla="*/ 276480 w 2764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46037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5" name="ZoneTexte 20"/>
          <p:cNvSpPr/>
          <p:nvPr/>
        </p:nvSpPr>
        <p:spPr>
          <a:xfrm>
            <a:off x="2627280" y="1031760"/>
            <a:ext cx="84924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(Military role in the north)  Lack of civil governance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" name="ZoneTexte 18"/>
          <p:cNvSpPr/>
          <p:nvPr/>
        </p:nvSpPr>
        <p:spPr>
          <a:xfrm>
            <a:off x="2622600" y="1846440"/>
            <a:ext cx="8618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devolution</a:t>
            </a: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7" name="Forme libre 42"/>
          <p:cNvSpPr/>
          <p:nvPr/>
        </p:nvSpPr>
        <p:spPr>
          <a:xfrm>
            <a:off x="7072200" y="2216160"/>
            <a:ext cx="527040" cy="250920"/>
          </a:xfrm>
          <a:custGeom>
            <a:avLst/>
            <a:gdLst>
              <a:gd name="textAreaLeft" fmla="*/ 0 w 527040"/>
              <a:gd name="textAreaRight" fmla="*/ 392194800 w 527040"/>
              <a:gd name="textAreaTop" fmla="*/ 0 h 250920"/>
              <a:gd name="textAreaBottom" fmla="*/ 533222280 h 250920"/>
            </a:gdLst>
            <a:ahLst/>
            <a:rect l="textAreaLeft" t="textAreaTop" r="textAreaRight" b="textAreaBottom"/>
            <a:pathLst>
              <a:path w="332" h="158">
                <a:moveTo>
                  <a:pt x="332" y="0"/>
                </a:moveTo>
                <a:cubicBezTo>
                  <a:pt x="277" y="26"/>
                  <a:pt x="2" y="156"/>
                  <a:pt x="1" y="157"/>
                </a:cubicBezTo>
                <a:cubicBezTo>
                  <a:pt x="0" y="158"/>
                  <a:pt x="256" y="40"/>
                  <a:pt x="323" y="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8" name="Forme libre 49"/>
          <p:cNvSpPr/>
          <p:nvPr/>
        </p:nvSpPr>
        <p:spPr>
          <a:xfrm>
            <a:off x="5991120" y="2128680"/>
            <a:ext cx="351000" cy="2238480"/>
          </a:xfrm>
          <a:custGeom>
            <a:avLst/>
            <a:gdLst>
              <a:gd name="textAreaLeft" fmla="*/ 0 w 351000"/>
              <a:gd name="textAreaRight" fmla="*/ 1686375360 w 351000"/>
              <a:gd name="textAreaTop" fmla="*/ 0 h 2238480"/>
              <a:gd name="textAreaBottom" fmla="*/ 135511560 h 2238480"/>
            </a:gdLst>
            <a:ahLst/>
            <a:rect l="textAreaLeft" t="textAreaTop" r="textAreaRight" b="textAreaBottom"/>
            <a:pathLst>
              <a:path w="221" h="1410">
                <a:moveTo>
                  <a:pt x="204" y="1410"/>
                </a:moveTo>
                <a:lnTo>
                  <a:pt x="221" y="1094"/>
                </a:lnTo>
                <a:cubicBezTo>
                  <a:pt x="187" y="859"/>
                  <a:pt x="46" y="22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9" name="ZoneTexte 50"/>
          <p:cNvSpPr/>
          <p:nvPr/>
        </p:nvSpPr>
        <p:spPr>
          <a:xfrm>
            <a:off x="6732720" y="5013360"/>
            <a:ext cx="603000" cy="50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No male income earner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0" name="Forme libre 51"/>
          <p:cNvSpPr/>
          <p:nvPr/>
        </p:nvSpPr>
        <p:spPr>
          <a:xfrm rot="21108600">
            <a:off x="5211720" y="3876480"/>
            <a:ext cx="2440080" cy="276120"/>
          </a:xfrm>
          <a:custGeom>
            <a:avLst/>
            <a:gdLst>
              <a:gd name="textAreaLeft" fmla="*/ 0 w 2440080"/>
              <a:gd name="textAreaRight" fmla="*/ 2440440 w 244008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621792" h="310896">
                <a:moveTo>
                  <a:pt x="0" y="274320"/>
                </a:moveTo>
                <a:cubicBezTo>
                  <a:pt x="190500" y="292608"/>
                  <a:pt x="381000" y="310896"/>
                  <a:pt x="484632" y="265176"/>
                </a:cubicBezTo>
                <a:cubicBezTo>
                  <a:pt x="588264" y="219456"/>
                  <a:pt x="605028" y="109728"/>
                  <a:pt x="6217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1" name="ZoneTexte 59"/>
          <p:cNvSpPr/>
          <p:nvPr/>
        </p:nvSpPr>
        <p:spPr>
          <a:xfrm>
            <a:off x="7620120" y="2556000"/>
            <a:ext cx="863640" cy="505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Poor access to 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food &amp; nutri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2" name="ZoneTexte 67"/>
          <p:cNvSpPr/>
          <p:nvPr/>
        </p:nvSpPr>
        <p:spPr>
          <a:xfrm>
            <a:off x="5364000" y="2968560"/>
            <a:ext cx="8287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Lack of employment and agricultural economy weakened 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3" name="Forme libre 69"/>
          <p:cNvSpPr/>
          <p:nvPr/>
        </p:nvSpPr>
        <p:spPr>
          <a:xfrm rot="17103000">
            <a:off x="5210280" y="2991600"/>
            <a:ext cx="2392200" cy="1970280"/>
          </a:xfrm>
          <a:custGeom>
            <a:avLst/>
            <a:gdLst>
              <a:gd name="textAreaLeft" fmla="*/ 0 w 2392200"/>
              <a:gd name="textAreaRight" fmla="*/ 2392560 w 2392200"/>
              <a:gd name="textAreaTop" fmla="*/ 0 h 1970280"/>
              <a:gd name="textAreaBottom" fmla="*/ 1970640 h 1970280"/>
            </a:gdLst>
            <a:ahLst/>
            <a:rect l="textAreaLeft" t="textAreaTop" r="textAreaRight" b="textAreaBottom"/>
            <a:pathLst>
              <a:path w="475488" h="1107948">
                <a:moveTo>
                  <a:pt x="0" y="73152"/>
                </a:moveTo>
                <a:cubicBezTo>
                  <a:pt x="54864" y="36576"/>
                  <a:pt x="109728" y="0"/>
                  <a:pt x="164592" y="146304"/>
                </a:cubicBezTo>
                <a:cubicBezTo>
                  <a:pt x="219456" y="292608"/>
                  <a:pt x="277368" y="794004"/>
                  <a:pt x="329184" y="950976"/>
                </a:cubicBezTo>
                <a:cubicBezTo>
                  <a:pt x="381000" y="1107948"/>
                  <a:pt x="428244" y="1098042"/>
                  <a:pt x="475488" y="10881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4" name="Forme libre 72"/>
          <p:cNvSpPr/>
          <p:nvPr/>
        </p:nvSpPr>
        <p:spPr>
          <a:xfrm>
            <a:off x="7500960" y="920880"/>
            <a:ext cx="1170000" cy="191880"/>
          </a:xfrm>
          <a:custGeom>
            <a:avLst/>
            <a:gdLst/>
            <a:ahLst/>
            <a:rect l="l" t="t" r="r" b="b"/>
            <a:pathLst>
              <a:path w="466344" h="120396">
                <a:moveTo>
                  <a:pt x="0" y="1524"/>
                </a:moveTo>
                <a:cubicBezTo>
                  <a:pt x="84582" y="762"/>
                  <a:pt x="169164" y="0"/>
                  <a:pt x="246888" y="19812"/>
                </a:cubicBezTo>
                <a:cubicBezTo>
                  <a:pt x="324612" y="39624"/>
                  <a:pt x="395478" y="80010"/>
                  <a:pt x="466344" y="1203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245" name="Connecteur droit avec flèche 73"/>
          <p:cNvCxnSpPr>
            <a:stCxn id="246" idx="0"/>
          </p:cNvCxnSpPr>
          <p:nvPr/>
        </p:nvCxnSpPr>
        <p:spPr>
          <a:xfrm flipV="1">
            <a:off x="1834920" y="3212640"/>
            <a:ext cx="1080" cy="410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7" name="ZoneTexte 74"/>
          <p:cNvSpPr/>
          <p:nvPr/>
        </p:nvSpPr>
        <p:spPr>
          <a:xfrm>
            <a:off x="7591320" y="1228680"/>
            <a:ext cx="865440" cy="50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No access  to water &amp; sanita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8" name="ZoneTexte 83"/>
          <p:cNvSpPr/>
          <p:nvPr/>
        </p:nvSpPr>
        <p:spPr>
          <a:xfrm>
            <a:off x="2604960" y="4991040"/>
            <a:ext cx="863640" cy="505440"/>
          </a:xfrm>
          <a:prstGeom prst="rect">
            <a:avLst/>
          </a:prstGeom>
          <a:solidFill>
            <a:srgbClr val="d7e4bd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Insecurity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(Gangs, ex-militias 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9" name="ZoneTexte 85"/>
          <p:cNvSpPr/>
          <p:nvPr/>
        </p:nvSpPr>
        <p:spPr>
          <a:xfrm>
            <a:off x="7597800" y="2013120"/>
            <a:ext cx="863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Poor access to Educa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0" name="Forme libre 86"/>
          <p:cNvSpPr/>
          <p:nvPr/>
        </p:nvSpPr>
        <p:spPr>
          <a:xfrm flipV="1">
            <a:off x="1092240" y="1441440"/>
            <a:ext cx="347760" cy="588960"/>
          </a:xfrm>
          <a:custGeom>
            <a:avLst/>
            <a:gdLst/>
            <a:ahLst/>
            <a:rect l="l" t="t" r="r" b="b"/>
            <a:pathLst>
              <a:path w="118872" h="588963">
                <a:moveTo>
                  <a:pt x="0" y="0"/>
                </a:moveTo>
                <a:lnTo>
                  <a:pt x="118872" y="0"/>
                </a:lnTo>
                <a:lnTo>
                  <a:pt x="11887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1" name="Forme libre 88"/>
          <p:cNvSpPr/>
          <p:nvPr/>
        </p:nvSpPr>
        <p:spPr>
          <a:xfrm flipV="1">
            <a:off x="2376360" y="1145520"/>
            <a:ext cx="246240" cy="73080"/>
          </a:xfrm>
          <a:custGeom>
            <a:avLst/>
            <a:gdLst/>
            <a:ahLst/>
            <a:rect l="l" t="t" r="r" b="b"/>
            <a:pathLst>
              <a:path w="118872" h="73025">
                <a:moveTo>
                  <a:pt x="0" y="0"/>
                </a:moveTo>
                <a:lnTo>
                  <a:pt x="118872" y="0"/>
                </a:lnTo>
                <a:lnTo>
                  <a:pt x="11887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252" name="Group 165"/>
          <p:cNvGrpSpPr/>
          <p:nvPr/>
        </p:nvGrpSpPr>
        <p:grpSpPr>
          <a:xfrm>
            <a:off x="1091880" y="2030400"/>
            <a:ext cx="238320" cy="1938240"/>
            <a:chOff x="1091880" y="2030400"/>
            <a:chExt cx="238320" cy="1938240"/>
          </a:xfrm>
        </p:grpSpPr>
        <p:sp>
          <p:nvSpPr>
            <p:cNvPr id="253" name="Line 160"/>
            <p:cNvSpPr/>
            <p:nvPr/>
          </p:nvSpPr>
          <p:spPr>
            <a:xfrm>
              <a:off x="1091880" y="2030400"/>
              <a:ext cx="0" cy="193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54" name="Line 164"/>
            <p:cNvSpPr/>
            <p:nvPr/>
          </p:nvSpPr>
          <p:spPr>
            <a:xfrm>
              <a:off x="1092240" y="3968640"/>
              <a:ext cx="237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cxnSp>
        <p:nvCxnSpPr>
          <p:cNvPr id="255" name="Connecteur droit avec flèche 91"/>
          <p:cNvCxnSpPr>
            <a:endCxn id="256" idx="0"/>
          </p:cNvCxnSpPr>
          <p:nvPr/>
        </p:nvCxnSpPr>
        <p:spPr>
          <a:xfrm>
            <a:off x="4322880" y="975960"/>
            <a:ext cx="535680" cy="322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7" name="Connecteur droit avec flèche 96"/>
          <p:cNvCxnSpPr>
            <a:stCxn id="258" idx="0"/>
          </p:cNvCxnSpPr>
          <p:nvPr/>
        </p:nvCxnSpPr>
        <p:spPr>
          <a:xfrm flipV="1">
            <a:off x="3432240" y="3835080"/>
            <a:ext cx="95760" cy="202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9" name="Connecteur droit avec flèche 101"/>
          <p:cNvCxnSpPr>
            <a:stCxn id="260" idx="2"/>
            <a:endCxn id="261" idx="0"/>
          </p:cNvCxnSpPr>
          <p:nvPr/>
        </p:nvCxnSpPr>
        <p:spPr>
          <a:xfrm>
            <a:off x="1907640" y="1415520"/>
            <a:ext cx="1080" cy="435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2" name="Connecteur droit avec flèche 97"/>
          <p:cNvCxnSpPr/>
          <p:nvPr/>
        </p:nvCxnSpPr>
        <p:spPr>
          <a:xfrm>
            <a:off x="8501040" y="1437840"/>
            <a:ext cx="187920" cy="73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3" name="ZoneTexte 102"/>
          <p:cNvSpPr/>
          <p:nvPr/>
        </p:nvSpPr>
        <p:spPr>
          <a:xfrm>
            <a:off x="0" y="836640"/>
            <a:ext cx="9288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Lack of response from GoSL to UN report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4" name="ZoneTexte 104"/>
          <p:cNvSpPr/>
          <p:nvPr/>
        </p:nvSpPr>
        <p:spPr>
          <a:xfrm>
            <a:off x="55440" y="4727520"/>
            <a:ext cx="9003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High Global food price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Forme libre 54"/>
          <p:cNvSpPr/>
          <p:nvPr/>
        </p:nvSpPr>
        <p:spPr>
          <a:xfrm flipH="1" rot="16200000">
            <a:off x="1090800" y="976320"/>
            <a:ext cx="187200" cy="511200"/>
          </a:xfrm>
          <a:custGeom>
            <a:avLst/>
            <a:gdLst>
              <a:gd name="textAreaLeft" fmla="*/ 360 w 187200"/>
              <a:gd name="textAreaRight" fmla="*/ 187920 w 18720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46043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6" name="ZoneTexte 109"/>
          <p:cNvSpPr/>
          <p:nvPr/>
        </p:nvSpPr>
        <p:spPr>
          <a:xfrm>
            <a:off x="1330200" y="3637080"/>
            <a:ext cx="1009800" cy="50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Lack of GoSL commitment to Reconcilia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6" name="ZoneTexte 110"/>
          <p:cNvSpPr/>
          <p:nvPr/>
        </p:nvSpPr>
        <p:spPr>
          <a:xfrm>
            <a:off x="4111560" y="4897440"/>
            <a:ext cx="1152720" cy="23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High food price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7" name="Forme libre 111"/>
          <p:cNvSpPr/>
          <p:nvPr/>
        </p:nvSpPr>
        <p:spPr>
          <a:xfrm rot="17308800">
            <a:off x="6308640" y="528480"/>
            <a:ext cx="363600" cy="2421000"/>
          </a:xfrm>
          <a:custGeom>
            <a:avLst/>
            <a:gdLst/>
            <a:ahLst/>
            <a:rect l="l" t="t" r="r" b="b"/>
            <a:pathLst>
              <a:path w="108204" h="1316736">
                <a:moveTo>
                  <a:pt x="0" y="0"/>
                </a:moveTo>
                <a:cubicBezTo>
                  <a:pt x="46482" y="150876"/>
                  <a:pt x="92964" y="301752"/>
                  <a:pt x="100584" y="521208"/>
                </a:cubicBezTo>
                <a:cubicBezTo>
                  <a:pt x="108204" y="740664"/>
                  <a:pt x="76962" y="1028700"/>
                  <a:pt x="45720" y="13167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8" name="ZoneTexte 112"/>
          <p:cNvSpPr/>
          <p:nvPr/>
        </p:nvSpPr>
        <p:spPr>
          <a:xfrm>
            <a:off x="3027240" y="3303720"/>
            <a:ext cx="1971720" cy="50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Lack of business opportunities and entrepreneurship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Calibri"/>
              </a:rPr>
              <a:t>Agricultural production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decreased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9" name="Line 111"/>
          <p:cNvSpPr/>
          <p:nvPr/>
        </p:nvSpPr>
        <p:spPr>
          <a:xfrm>
            <a:off x="4687920" y="2844720"/>
            <a:ext cx="0" cy="46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0" name="Text Box 92"/>
          <p:cNvSpPr/>
          <p:nvPr/>
        </p:nvSpPr>
        <p:spPr>
          <a:xfrm>
            <a:off x="1440000" y="1046160"/>
            <a:ext cx="936360" cy="36828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Centralised Control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ZoneTexte 68"/>
          <p:cNvSpPr/>
          <p:nvPr/>
        </p:nvSpPr>
        <p:spPr>
          <a:xfrm rot="5400000">
            <a:off x="7072920" y="2581920"/>
            <a:ext cx="3600360" cy="398520"/>
          </a:xfrm>
          <a:prstGeom prst="rect">
            <a:avLst/>
          </a:prstGeom>
          <a:solidFill>
            <a:srgbClr val="bfbfb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Deteriorating living conditions of displaced population (willing to go back) and  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of the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War affected population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1" name="ZoneTexte 99"/>
          <p:cNvSpPr/>
          <p:nvPr/>
        </p:nvSpPr>
        <p:spPr>
          <a:xfrm>
            <a:off x="2268360" y="730080"/>
            <a:ext cx="3016440" cy="23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ack of Administrative capacity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2" name="Forme libre 103"/>
          <p:cNvSpPr/>
          <p:nvPr/>
        </p:nvSpPr>
        <p:spPr>
          <a:xfrm flipV="1">
            <a:off x="971640" y="4868280"/>
            <a:ext cx="3252600" cy="817560"/>
          </a:xfrm>
          <a:custGeom>
            <a:avLst/>
            <a:gdLst/>
            <a:ahLst/>
            <a:rect l="l" t="t" r="r" b="b"/>
            <a:pathLst>
              <a:path w="2880360" h="220980">
                <a:moveTo>
                  <a:pt x="0" y="220980"/>
                </a:moveTo>
                <a:cubicBezTo>
                  <a:pt x="550926" y="121158"/>
                  <a:pt x="1101852" y="21336"/>
                  <a:pt x="1581912" y="10668"/>
                </a:cubicBezTo>
                <a:cubicBezTo>
                  <a:pt x="2061972" y="0"/>
                  <a:pt x="2471166" y="78486"/>
                  <a:pt x="2880360" y="15697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3" name="ZoneTexte 106"/>
          <p:cNvSpPr/>
          <p:nvPr/>
        </p:nvSpPr>
        <p:spPr>
          <a:xfrm>
            <a:off x="6372360" y="2060640"/>
            <a:ext cx="17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00"/>
                </a:solidFill>
                <a:latin typeface="Calibri"/>
              </a:rPr>
              <a:t>LIVELIHOODS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1" name="ZoneTexte 85"/>
          <p:cNvSpPr/>
          <p:nvPr/>
        </p:nvSpPr>
        <p:spPr>
          <a:xfrm>
            <a:off x="1476360" y="1851120"/>
            <a:ext cx="863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Deteriorating Governance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4" name="ZoneTexte 85"/>
          <p:cNvSpPr/>
          <p:nvPr/>
        </p:nvSpPr>
        <p:spPr>
          <a:xfrm>
            <a:off x="4429080" y="5586480"/>
            <a:ext cx="863640" cy="50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Community network broke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" name="ZoneTexte 24"/>
          <p:cNvSpPr/>
          <p:nvPr/>
        </p:nvSpPr>
        <p:spPr>
          <a:xfrm>
            <a:off x="4429080" y="1298520"/>
            <a:ext cx="855720" cy="64260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Schools destroyed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&amp;/or dysfunctional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5" name="ZoneTexte 24"/>
          <p:cNvSpPr/>
          <p:nvPr/>
        </p:nvSpPr>
        <p:spPr>
          <a:xfrm>
            <a:off x="4487760" y="2060640"/>
            <a:ext cx="1020960" cy="77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Damaged Economic Infrastructure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(Linked to Agric. Irrigation)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6" name="ZoneTexte 24"/>
          <p:cNvSpPr/>
          <p:nvPr/>
        </p:nvSpPr>
        <p:spPr>
          <a:xfrm>
            <a:off x="4356000" y="4221000"/>
            <a:ext cx="928800" cy="505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Health Centres destroyed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dysfunctional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7" name="ZoneTexte 24"/>
          <p:cNvSpPr/>
          <p:nvPr/>
        </p:nvSpPr>
        <p:spPr>
          <a:xfrm>
            <a:off x="5508720" y="1557360"/>
            <a:ext cx="950760" cy="505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Damaged / lost productive asset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8" name="ZoneTexte 24"/>
          <p:cNvSpPr/>
          <p:nvPr/>
        </p:nvSpPr>
        <p:spPr>
          <a:xfrm>
            <a:off x="2906640" y="4037040"/>
            <a:ext cx="10508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Lack of Access to  finance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8" name="ZoneTexte 24"/>
          <p:cNvSpPr/>
          <p:nvPr/>
        </p:nvSpPr>
        <p:spPr>
          <a:xfrm>
            <a:off x="6732720" y="750960"/>
            <a:ext cx="752400" cy="505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8000"/>
                </a:solidFill>
                <a:latin typeface="Calibri"/>
              </a:rPr>
              <a:t>Damaged / Destroyed house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9" name="ZoneTexte 24"/>
          <p:cNvSpPr/>
          <p:nvPr/>
        </p:nvSpPr>
        <p:spPr>
          <a:xfrm>
            <a:off x="7620120" y="3278160"/>
            <a:ext cx="863640" cy="50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Poor access to health service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0" name="ZoneTexte 24"/>
          <p:cNvSpPr/>
          <p:nvPr/>
        </p:nvSpPr>
        <p:spPr>
          <a:xfrm>
            <a:off x="7637400" y="3887640"/>
            <a:ext cx="863640" cy="50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Lack of physical protec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1" name="ZoneTexte 24"/>
          <p:cNvSpPr/>
          <p:nvPr/>
        </p:nvSpPr>
        <p:spPr>
          <a:xfrm>
            <a:off x="7645320" y="4508640"/>
            <a:ext cx="86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Lack of social protec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282" name="Connecteur droit avec flèche 97"/>
          <p:cNvCxnSpPr>
            <a:stCxn id="249" idx="3"/>
          </p:cNvCxnSpPr>
          <p:nvPr/>
        </p:nvCxnSpPr>
        <p:spPr>
          <a:xfrm>
            <a:off x="8461440" y="2198160"/>
            <a:ext cx="21024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3" name="Connecteur droit avec flèche 97"/>
          <p:cNvCxnSpPr>
            <a:endCxn id="270" idx="2"/>
          </p:cNvCxnSpPr>
          <p:nvPr/>
        </p:nvCxnSpPr>
        <p:spPr>
          <a:xfrm flipV="1">
            <a:off x="8454600" y="2780640"/>
            <a:ext cx="183240" cy="6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4" name="Connecteur droit avec flèche 97"/>
          <p:cNvCxnSpPr/>
          <p:nvPr/>
        </p:nvCxnSpPr>
        <p:spPr>
          <a:xfrm flipV="1">
            <a:off x="8508960" y="3546000"/>
            <a:ext cx="162720" cy="16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5" name="Connecteur droit avec flèche 97"/>
          <p:cNvCxnSpPr>
            <a:stCxn id="280" idx="3"/>
          </p:cNvCxnSpPr>
          <p:nvPr/>
        </p:nvCxnSpPr>
        <p:spPr>
          <a:xfrm flipV="1">
            <a:off x="8501040" y="4141080"/>
            <a:ext cx="1706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6" name="Connecteur droit avec flèche 97"/>
          <p:cNvCxnSpPr/>
          <p:nvPr/>
        </p:nvCxnSpPr>
        <p:spPr>
          <a:xfrm flipV="1">
            <a:off x="8526240" y="4581000"/>
            <a:ext cx="221400" cy="146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7" name="Forme libre 53"/>
          <p:cNvSpPr/>
          <p:nvPr/>
        </p:nvSpPr>
        <p:spPr>
          <a:xfrm rot="16200000">
            <a:off x="3314520" y="1476360"/>
            <a:ext cx="749520" cy="393840"/>
          </a:xfrm>
          <a:custGeom>
            <a:avLst/>
            <a:gdLst/>
            <a:ahLst/>
            <a:rect l="l" t="t" r="r" b="b"/>
            <a:pathLst>
              <a:path w="368580" h="725189">
                <a:moveTo>
                  <a:pt x="11964" y="0"/>
                </a:moveTo>
                <a:cubicBezTo>
                  <a:pt x="8916" y="57912"/>
                  <a:pt x="2820" y="115744"/>
                  <a:pt x="2820" y="173736"/>
                </a:cubicBezTo>
                <a:cubicBezTo>
                  <a:pt x="2820" y="353594"/>
                  <a:pt x="0" y="533773"/>
                  <a:pt x="11964" y="713232"/>
                </a:cubicBezTo>
                <a:cubicBezTo>
                  <a:pt x="12605" y="722849"/>
                  <a:pt x="29761" y="722129"/>
                  <a:pt x="39396" y="722376"/>
                </a:cubicBezTo>
                <a:cubicBezTo>
                  <a:pt x="149088" y="725189"/>
                  <a:pt x="258852" y="722376"/>
                  <a:pt x="368580" y="72237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288" name="Straight Arrow Connector 19495"/>
          <p:cNvCxnSpPr>
            <a:stCxn id="261" idx="2"/>
          </p:cNvCxnSpPr>
          <p:nvPr/>
        </p:nvCxnSpPr>
        <p:spPr>
          <a:xfrm flipH="1">
            <a:off x="1907280" y="2244240"/>
            <a:ext cx="1080" cy="678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289" name="Forme libre 53"/>
          <p:cNvSpPr/>
          <p:nvPr/>
        </p:nvSpPr>
        <p:spPr>
          <a:xfrm rot="16200000">
            <a:off x="3104280" y="4199760"/>
            <a:ext cx="1293840" cy="565200"/>
          </a:xfrm>
          <a:custGeom>
            <a:avLst/>
            <a:gdLst/>
            <a:ahLst/>
            <a:rect l="l" t="t" r="r" b="b"/>
            <a:pathLst>
              <a:path w="368580" h="725189">
                <a:moveTo>
                  <a:pt x="11964" y="0"/>
                </a:moveTo>
                <a:cubicBezTo>
                  <a:pt x="8916" y="57912"/>
                  <a:pt x="2820" y="115744"/>
                  <a:pt x="2820" y="173736"/>
                </a:cubicBezTo>
                <a:cubicBezTo>
                  <a:pt x="2820" y="353594"/>
                  <a:pt x="0" y="533773"/>
                  <a:pt x="11964" y="713232"/>
                </a:cubicBezTo>
                <a:cubicBezTo>
                  <a:pt x="12605" y="722849"/>
                  <a:pt x="29761" y="722129"/>
                  <a:pt x="39396" y="722376"/>
                </a:cubicBezTo>
                <a:cubicBezTo>
                  <a:pt x="149088" y="725189"/>
                  <a:pt x="258852" y="722376"/>
                  <a:pt x="368580" y="72237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0" name="Forme libre 42"/>
          <p:cNvSpPr/>
          <p:nvPr/>
        </p:nvSpPr>
        <p:spPr>
          <a:xfrm flipH="1">
            <a:off x="6058080" y="2678040"/>
            <a:ext cx="217440" cy="290520"/>
          </a:xfrm>
          <a:custGeom>
            <a:avLst/>
            <a:gdLst>
              <a:gd name="textAreaLeft" fmla="*/ 360 w 217440"/>
              <a:gd name="textAreaRight" fmla="*/ 218160 w 2174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46888" h="335280">
                <a:moveTo>
                  <a:pt x="0" y="24384"/>
                </a:moveTo>
                <a:cubicBezTo>
                  <a:pt x="48006" y="12192"/>
                  <a:pt x="96012" y="0"/>
                  <a:pt x="137160" y="51816"/>
                </a:cubicBezTo>
                <a:cubicBezTo>
                  <a:pt x="178308" y="103632"/>
                  <a:pt x="212598" y="219456"/>
                  <a:pt x="246888" y="3352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1" name="Forme libre 42"/>
          <p:cNvSpPr/>
          <p:nvPr/>
        </p:nvSpPr>
        <p:spPr>
          <a:xfrm flipH="1">
            <a:off x="5363280" y="1720800"/>
            <a:ext cx="217800" cy="360360"/>
          </a:xfrm>
          <a:custGeom>
            <a:avLst/>
            <a:gdLst>
              <a:gd name="textAreaLeft" fmla="*/ -360 w 217800"/>
              <a:gd name="textAreaRight" fmla="*/ 217800 w 217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46888" h="335280">
                <a:moveTo>
                  <a:pt x="0" y="24384"/>
                </a:moveTo>
                <a:cubicBezTo>
                  <a:pt x="48006" y="12192"/>
                  <a:pt x="96012" y="0"/>
                  <a:pt x="137160" y="51816"/>
                </a:cubicBezTo>
                <a:cubicBezTo>
                  <a:pt x="178308" y="103632"/>
                  <a:pt x="212598" y="219456"/>
                  <a:pt x="246888" y="3352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2" name="Forme libre 54"/>
          <p:cNvSpPr/>
          <p:nvPr/>
        </p:nvSpPr>
        <p:spPr>
          <a:xfrm flipH="1" rot="2376000">
            <a:off x="7286040" y="2657160"/>
            <a:ext cx="125280" cy="698400"/>
          </a:xfrm>
          <a:custGeom>
            <a:avLst/>
            <a:gdLst/>
            <a:ahLst/>
            <a:rect l="l" t="t" r="r" b="b"/>
            <a:pathLst>
              <a:path w="125413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3" name="Forme libre 60"/>
          <p:cNvSpPr/>
          <p:nvPr/>
        </p:nvSpPr>
        <p:spPr>
          <a:xfrm rot="2368800">
            <a:off x="6038640" y="4122720"/>
            <a:ext cx="1400040" cy="2703600"/>
          </a:xfrm>
          <a:custGeom>
            <a:avLst/>
            <a:gdLst/>
            <a:ahLst/>
            <a:rect l="l" t="t" r="r" b="b"/>
            <a:pathLst>
              <a:path w="1133856" h="1892808">
                <a:moveTo>
                  <a:pt x="0" y="1892808"/>
                </a:moveTo>
                <a:cubicBezTo>
                  <a:pt x="326136" y="1629918"/>
                  <a:pt x="652272" y="1367028"/>
                  <a:pt x="841248" y="1051560"/>
                </a:cubicBezTo>
                <a:cubicBezTo>
                  <a:pt x="1030224" y="736092"/>
                  <a:pt x="1133856" y="0"/>
                  <a:pt x="1133856" y="0"/>
                </a:cubicBezTo>
                <a:lnTo>
                  <a:pt x="113385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4" name="ZoneTexte 104"/>
          <p:cNvSpPr/>
          <p:nvPr/>
        </p:nvSpPr>
        <p:spPr>
          <a:xfrm>
            <a:off x="108000" y="6194520"/>
            <a:ext cx="6167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Calibri"/>
              </a:rPr>
              <a:t>Step 3: Causal Model – Sri Lank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295" name="Straight Arrow Connector 100"/>
          <p:cNvCxnSpPr>
            <a:stCxn id="242" idx="1"/>
          </p:cNvCxnSpPr>
          <p:nvPr/>
        </p:nvCxnSpPr>
        <p:spPr>
          <a:xfrm flipH="1" flipV="1">
            <a:off x="4998600" y="3423600"/>
            <a:ext cx="365760" cy="13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296" name="ZoneTexte 50"/>
          <p:cNvSpPr/>
          <p:nvPr/>
        </p:nvSpPr>
        <p:spPr>
          <a:xfrm>
            <a:off x="7721640" y="5337000"/>
            <a:ext cx="1050840" cy="36828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Disproportionate male death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7" name="Forme libre 49"/>
          <p:cNvSpPr/>
          <p:nvPr/>
        </p:nvSpPr>
        <p:spPr>
          <a:xfrm>
            <a:off x="6932520" y="3603600"/>
            <a:ext cx="352440" cy="1403280"/>
          </a:xfrm>
          <a:custGeom>
            <a:avLst/>
            <a:gdLst>
              <a:gd name="textAreaLeft" fmla="*/ 0 w 352440"/>
              <a:gd name="textAreaRight" fmla="*/ 1693286640 w 352440"/>
              <a:gd name="textAreaTop" fmla="*/ 0 h 1403280"/>
              <a:gd name="textAreaBottom" fmla="*/ 84958920 h 1403280"/>
            </a:gdLst>
            <a:ahLst/>
            <a:rect l="textAreaLeft" t="textAreaTop" r="textAreaRight" b="textAreaBottom"/>
            <a:pathLst>
              <a:path w="221" h="1410">
                <a:moveTo>
                  <a:pt x="204" y="1410"/>
                </a:moveTo>
                <a:lnTo>
                  <a:pt x="221" y="1094"/>
                </a:lnTo>
                <a:cubicBezTo>
                  <a:pt x="187" y="859"/>
                  <a:pt x="46" y="22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298" name="Connecteur droit avec flèche 97"/>
          <p:cNvCxnSpPr>
            <a:stCxn id="296" idx="1"/>
            <a:endCxn id="239" idx="3"/>
          </p:cNvCxnSpPr>
          <p:nvPr/>
        </p:nvCxnSpPr>
        <p:spPr>
          <a:xfrm flipH="1" flipV="1">
            <a:off x="7335360" y="5266800"/>
            <a:ext cx="386640" cy="254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9" name="Connecteur droit avec flèche 97"/>
          <p:cNvCxnSpPr>
            <a:endCxn id="300" idx="3"/>
          </p:cNvCxnSpPr>
          <p:nvPr/>
        </p:nvCxnSpPr>
        <p:spPr>
          <a:xfrm flipH="1" flipV="1">
            <a:off x="7009920" y="4577760"/>
            <a:ext cx="851760" cy="759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1" name="Connecteur droit avec flèche 97"/>
          <p:cNvCxnSpPr/>
          <p:nvPr/>
        </p:nvCxnSpPr>
        <p:spPr>
          <a:xfrm flipH="1" flipV="1">
            <a:off x="6214320" y="3785760"/>
            <a:ext cx="940680" cy="465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02" name="ZoneTexte 50"/>
          <p:cNvSpPr/>
          <p:nvPr/>
        </p:nvSpPr>
        <p:spPr>
          <a:xfrm>
            <a:off x="7047000" y="6319800"/>
            <a:ext cx="907920" cy="36828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Direct result of war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3" name="TextBox 19489"/>
          <p:cNvSpPr/>
          <p:nvPr/>
        </p:nvSpPr>
        <p:spPr>
          <a:xfrm>
            <a:off x="6302520" y="6021360"/>
            <a:ext cx="2444760" cy="733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Verdana"/>
              </a:rPr>
              <a:t>Post-Conflict Situation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0" name="ZoneTexte 68"/>
          <p:cNvSpPr/>
          <p:nvPr/>
        </p:nvSpPr>
        <p:spPr>
          <a:xfrm>
            <a:off x="5472000" y="4394160"/>
            <a:ext cx="1538280" cy="36828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No access to 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Land (mines &amp; Rights)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ensées 90"/>
          <p:cNvSpPr/>
          <p:nvPr/>
        </p:nvSpPr>
        <p:spPr>
          <a:xfrm rot="3012600">
            <a:off x="4553280" y="1240200"/>
            <a:ext cx="4105440" cy="2998800"/>
          </a:xfrm>
          <a:prstGeom prst="cloudCallout">
            <a:avLst>
              <a:gd name="adj1" fmla="val -13879"/>
              <a:gd name="adj2" fmla="val 36527"/>
            </a:avLst>
          </a:prstGeom>
          <a:solidFill>
            <a:srgbClr val="00b05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5" name="Connecteur droit 6"/>
          <p:cNvSpPr/>
          <p:nvPr/>
        </p:nvSpPr>
        <p:spPr>
          <a:xfrm>
            <a:off x="971640" y="549360"/>
            <a:ext cx="0" cy="6308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6" name="Connecteur droit 7"/>
          <p:cNvSpPr/>
          <p:nvPr/>
        </p:nvSpPr>
        <p:spPr>
          <a:xfrm>
            <a:off x="2556000" y="549360"/>
            <a:ext cx="0" cy="6308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7" name="Connecteur droit 8"/>
          <p:cNvSpPr/>
          <p:nvPr/>
        </p:nvSpPr>
        <p:spPr>
          <a:xfrm>
            <a:off x="5292720" y="549360"/>
            <a:ext cx="0" cy="6308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8" name="Connecteur droit 9"/>
          <p:cNvSpPr/>
          <p:nvPr/>
        </p:nvSpPr>
        <p:spPr>
          <a:xfrm>
            <a:off x="3492360" y="549360"/>
            <a:ext cx="0" cy="630864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9" name="Connecteur droit 10"/>
          <p:cNvSpPr/>
          <p:nvPr/>
        </p:nvSpPr>
        <p:spPr>
          <a:xfrm>
            <a:off x="4427640" y="549360"/>
            <a:ext cx="0" cy="630864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0" name="ZoneTexte 22"/>
          <p:cNvSpPr/>
          <p:nvPr/>
        </p:nvSpPr>
        <p:spPr>
          <a:xfrm>
            <a:off x="5940360" y="2452680"/>
            <a:ext cx="1471680" cy="23112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Vocational training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1" name="ZoneTexte 118"/>
          <p:cNvSpPr/>
          <p:nvPr/>
        </p:nvSpPr>
        <p:spPr>
          <a:xfrm>
            <a:off x="934920" y="2922480"/>
            <a:ext cx="4356360" cy="231120"/>
          </a:xfrm>
          <a:prstGeom prst="rect">
            <a:avLst/>
          </a:prstGeom>
          <a:solidFill>
            <a:srgbClr val="ff00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Verdana"/>
              </a:rPr>
              <a:t>Lack of Reconcilia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2" name="Forme libre 53"/>
          <p:cNvSpPr/>
          <p:nvPr/>
        </p:nvSpPr>
        <p:spPr>
          <a:xfrm rot="16200000">
            <a:off x="3546360" y="923760"/>
            <a:ext cx="378000" cy="486000"/>
          </a:xfrm>
          <a:custGeom>
            <a:avLst/>
            <a:gdLst/>
            <a:ahLst/>
            <a:rect l="l" t="t" r="r" b="b"/>
            <a:pathLst>
              <a:path w="368580" h="725189">
                <a:moveTo>
                  <a:pt x="11964" y="0"/>
                </a:moveTo>
                <a:cubicBezTo>
                  <a:pt x="8916" y="57912"/>
                  <a:pt x="2820" y="115744"/>
                  <a:pt x="2820" y="173736"/>
                </a:cubicBezTo>
                <a:cubicBezTo>
                  <a:pt x="2820" y="353594"/>
                  <a:pt x="0" y="533773"/>
                  <a:pt x="11964" y="713232"/>
                </a:cubicBezTo>
                <a:cubicBezTo>
                  <a:pt x="12605" y="722849"/>
                  <a:pt x="29761" y="722129"/>
                  <a:pt x="39396" y="722376"/>
                </a:cubicBezTo>
                <a:cubicBezTo>
                  <a:pt x="149088" y="725189"/>
                  <a:pt x="258852" y="722376"/>
                  <a:pt x="368580" y="72237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3" name="Forme libre 54"/>
          <p:cNvSpPr/>
          <p:nvPr/>
        </p:nvSpPr>
        <p:spPr>
          <a:xfrm flipH="1" rot="10800000">
            <a:off x="5850000" y="2111040"/>
            <a:ext cx="133200" cy="857160"/>
          </a:xfrm>
          <a:custGeom>
            <a:avLst/>
            <a:gdLst/>
            <a:ahLst/>
            <a:rect l="l" t="t" r="r" b="b"/>
            <a:pathLst>
              <a:path w="133350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4" name="Forme libre 60"/>
          <p:cNvSpPr/>
          <p:nvPr/>
        </p:nvSpPr>
        <p:spPr>
          <a:xfrm rot="2669400">
            <a:off x="4462560" y="3112560"/>
            <a:ext cx="2200320" cy="3567240"/>
          </a:xfrm>
          <a:custGeom>
            <a:avLst/>
            <a:gdLst/>
            <a:ahLst/>
            <a:rect l="l" t="t" r="r" b="b"/>
            <a:pathLst>
              <a:path w="1133856" h="1892808">
                <a:moveTo>
                  <a:pt x="0" y="1892808"/>
                </a:moveTo>
                <a:cubicBezTo>
                  <a:pt x="326136" y="1629918"/>
                  <a:pt x="652272" y="1367028"/>
                  <a:pt x="841248" y="1051560"/>
                </a:cubicBezTo>
                <a:cubicBezTo>
                  <a:pt x="1030224" y="736092"/>
                  <a:pt x="1133856" y="0"/>
                  <a:pt x="1133856" y="0"/>
                </a:cubicBezTo>
                <a:lnTo>
                  <a:pt x="113385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5" name="Connecteur droit 4"/>
          <p:cNvSpPr/>
          <p:nvPr/>
        </p:nvSpPr>
        <p:spPr>
          <a:xfrm>
            <a:off x="250920" y="692280"/>
            <a:ext cx="86421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316" name="Group 50"/>
          <p:cNvGrpSpPr/>
          <p:nvPr/>
        </p:nvGrpSpPr>
        <p:grpSpPr>
          <a:xfrm>
            <a:off x="108000" y="115920"/>
            <a:ext cx="8424720" cy="641520"/>
            <a:chOff x="108000" y="115920"/>
            <a:chExt cx="8424720" cy="641520"/>
          </a:xfrm>
        </p:grpSpPr>
        <p:sp>
          <p:nvSpPr>
            <p:cNvPr id="317" name="ZoneTexte 11"/>
            <p:cNvSpPr/>
            <p:nvPr/>
          </p:nvSpPr>
          <p:spPr>
            <a:xfrm>
              <a:off x="1187280" y="115920"/>
              <a:ext cx="93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Nation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18" name="ZoneTexte 12"/>
            <p:cNvSpPr/>
            <p:nvPr/>
          </p:nvSpPr>
          <p:spPr>
            <a:xfrm>
              <a:off x="2556000" y="115920"/>
              <a:ext cx="100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Provinci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19" name="ZoneTexte 13"/>
            <p:cNvSpPr/>
            <p:nvPr/>
          </p:nvSpPr>
          <p:spPr>
            <a:xfrm>
              <a:off x="3564000" y="115920"/>
              <a:ext cx="865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District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0" name="ZoneTexte 14"/>
            <p:cNvSpPr/>
            <p:nvPr/>
          </p:nvSpPr>
          <p:spPr>
            <a:xfrm>
              <a:off x="4572000" y="115920"/>
              <a:ext cx="72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Village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1" name="ZoneTexte 15"/>
            <p:cNvSpPr/>
            <p:nvPr/>
          </p:nvSpPr>
          <p:spPr>
            <a:xfrm>
              <a:off x="7597800" y="115920"/>
              <a:ext cx="93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Individu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2" name="ZoneTexte 16"/>
            <p:cNvSpPr/>
            <p:nvPr/>
          </p:nvSpPr>
          <p:spPr>
            <a:xfrm>
              <a:off x="5364000" y="115920"/>
              <a:ext cx="9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Household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3" name="ZoneTexte 17"/>
            <p:cNvSpPr/>
            <p:nvPr/>
          </p:nvSpPr>
          <p:spPr>
            <a:xfrm>
              <a:off x="108000" y="115920"/>
              <a:ext cx="863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Supra national level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324" name="Forme libre 62"/>
          <p:cNvSpPr/>
          <p:nvPr/>
        </p:nvSpPr>
        <p:spPr>
          <a:xfrm flipV="1" rot="3360600">
            <a:off x="6186240" y="3133800"/>
            <a:ext cx="358920" cy="120960"/>
          </a:xfrm>
          <a:custGeom>
            <a:avLst/>
            <a:gdLst/>
            <a:ahLst/>
            <a:rect l="l" t="t" r="r" b="b"/>
            <a:pathLst>
              <a:path w="365760" h="201168">
                <a:moveTo>
                  <a:pt x="0" y="0"/>
                </a:moveTo>
                <a:cubicBezTo>
                  <a:pt x="33528" y="65532"/>
                  <a:pt x="67056" y="131064"/>
                  <a:pt x="128016" y="164592"/>
                </a:cubicBezTo>
                <a:cubicBezTo>
                  <a:pt x="188976" y="198120"/>
                  <a:pt x="365760" y="201168"/>
                  <a:pt x="365760" y="201168"/>
                </a:cubicBezTo>
                <a:lnTo>
                  <a:pt x="365760" y="201168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5" name="Forme libre 120"/>
          <p:cNvSpPr/>
          <p:nvPr/>
        </p:nvSpPr>
        <p:spPr>
          <a:xfrm flipH="1" flipV="1" rot="19542600">
            <a:off x="2364480" y="1497600"/>
            <a:ext cx="88920" cy="538560"/>
          </a:xfrm>
          <a:custGeom>
            <a:avLst/>
            <a:gdLst>
              <a:gd name="textAreaLeft" fmla="*/ -360 w 88920"/>
              <a:gd name="textAreaRight" fmla="*/ 88920 w 88920"/>
              <a:gd name="textAreaTop" fmla="*/ 360 h 538560"/>
              <a:gd name="textAreaBottom" fmla="*/ 539280 h 538560"/>
            </a:gdLst>
            <a:ahLst/>
            <a:rect l="textAreaLeft" t="textAreaTop" r="textAreaRight" b="textAreaBottom"/>
            <a:pathLst>
              <a:path w="46037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6" name="ZoneTexte 24"/>
          <p:cNvSpPr/>
          <p:nvPr/>
        </p:nvSpPr>
        <p:spPr>
          <a:xfrm>
            <a:off x="6431040" y="3332160"/>
            <a:ext cx="71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Lack of income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7" name="Forme libre 54"/>
          <p:cNvSpPr/>
          <p:nvPr/>
        </p:nvSpPr>
        <p:spPr>
          <a:xfrm flipH="1" rot="16200000">
            <a:off x="7236360" y="3429720"/>
            <a:ext cx="268200" cy="441360"/>
          </a:xfrm>
          <a:custGeom>
            <a:avLst/>
            <a:gdLst>
              <a:gd name="textAreaLeft" fmla="*/ -360 w 268200"/>
              <a:gd name="textAreaRight" fmla="*/ 268200 w 2682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46043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8" name="Forme libre 120"/>
          <p:cNvSpPr/>
          <p:nvPr/>
        </p:nvSpPr>
        <p:spPr>
          <a:xfrm rot="19364400">
            <a:off x="5584320" y="2617560"/>
            <a:ext cx="276480" cy="280800"/>
          </a:xfrm>
          <a:custGeom>
            <a:avLst/>
            <a:gdLst>
              <a:gd name="textAreaLeft" fmla="*/ 0 w 276480"/>
              <a:gd name="textAreaRight" fmla="*/ 276480 w 2764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46037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9" name="ZoneTexte 20"/>
          <p:cNvSpPr/>
          <p:nvPr/>
        </p:nvSpPr>
        <p:spPr>
          <a:xfrm>
            <a:off x="2629080" y="1219320"/>
            <a:ext cx="84924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(Military role in the north)  Lack of civil governance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0" name="ZoneTexte 18"/>
          <p:cNvSpPr/>
          <p:nvPr/>
        </p:nvSpPr>
        <p:spPr>
          <a:xfrm>
            <a:off x="2598840" y="1965240"/>
            <a:ext cx="8618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Low</a:t>
            </a: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devolution</a:t>
            </a: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1" name="Forme libre 42"/>
          <p:cNvSpPr/>
          <p:nvPr/>
        </p:nvSpPr>
        <p:spPr>
          <a:xfrm flipH="1">
            <a:off x="7380360" y="2198520"/>
            <a:ext cx="217440" cy="249480"/>
          </a:xfrm>
          <a:custGeom>
            <a:avLst/>
            <a:gdLst>
              <a:gd name="textAreaLeft" fmla="*/ 360 w 217440"/>
              <a:gd name="textAreaRight" fmla="*/ 218160 w 21744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246888" h="335280">
                <a:moveTo>
                  <a:pt x="0" y="24384"/>
                </a:moveTo>
                <a:cubicBezTo>
                  <a:pt x="48006" y="12192"/>
                  <a:pt x="96012" y="0"/>
                  <a:pt x="137160" y="51816"/>
                </a:cubicBezTo>
                <a:cubicBezTo>
                  <a:pt x="178308" y="103632"/>
                  <a:pt x="212598" y="219456"/>
                  <a:pt x="246888" y="3352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2" name="Forme libre 48"/>
          <p:cNvSpPr/>
          <p:nvPr/>
        </p:nvSpPr>
        <p:spPr>
          <a:xfrm flipV="1" rot="15979800">
            <a:off x="5180400" y="903960"/>
            <a:ext cx="1690920" cy="1457280"/>
          </a:xfrm>
          <a:custGeom>
            <a:avLst/>
            <a:gdLst>
              <a:gd name="textAreaLeft" fmla="*/ 0 w 1690920"/>
              <a:gd name="textAreaRight" fmla="*/ 1691280 w 1690920"/>
              <a:gd name="textAreaTop" fmla="*/ 360 h 1457280"/>
              <a:gd name="textAreaBottom" fmla="*/ 1458000 h 1457280"/>
            </a:gdLst>
            <a:ahLst/>
            <a:rect l="textAreaLeft" t="textAreaTop" r="textAreaRight" b="textAreaBottom"/>
            <a:pathLst>
              <a:path w="1662684" h="618744">
                <a:moveTo>
                  <a:pt x="0" y="88392"/>
                </a:moveTo>
                <a:cubicBezTo>
                  <a:pt x="558546" y="44196"/>
                  <a:pt x="1117092" y="0"/>
                  <a:pt x="1389888" y="88392"/>
                </a:cubicBezTo>
                <a:cubicBezTo>
                  <a:pt x="1662684" y="176784"/>
                  <a:pt x="1649730" y="397764"/>
                  <a:pt x="1636776" y="6187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3" name="Forme libre 49"/>
          <p:cNvSpPr/>
          <p:nvPr/>
        </p:nvSpPr>
        <p:spPr>
          <a:xfrm rot="17461200">
            <a:off x="6057000" y="3999240"/>
            <a:ext cx="749160" cy="87120"/>
          </a:xfrm>
          <a:custGeom>
            <a:avLst/>
            <a:gdLst>
              <a:gd name="textAreaLeft" fmla="*/ 0 w 749160"/>
              <a:gd name="textAreaRight" fmla="*/ 749520 w 74916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060704" h="85344">
                <a:moveTo>
                  <a:pt x="0" y="0"/>
                </a:moveTo>
                <a:lnTo>
                  <a:pt x="813816" y="73152"/>
                </a:lnTo>
                <a:cubicBezTo>
                  <a:pt x="990600" y="85344"/>
                  <a:pt x="1025652" y="79248"/>
                  <a:pt x="1060704" y="73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4" name="ZoneTexte 50"/>
          <p:cNvSpPr/>
          <p:nvPr/>
        </p:nvSpPr>
        <p:spPr>
          <a:xfrm>
            <a:off x="6489720" y="5141880"/>
            <a:ext cx="646200" cy="50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Few male income earner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5" name="Forme libre 51"/>
          <p:cNvSpPr/>
          <p:nvPr/>
        </p:nvSpPr>
        <p:spPr>
          <a:xfrm rot="21108600">
            <a:off x="5211720" y="3876480"/>
            <a:ext cx="2440080" cy="276120"/>
          </a:xfrm>
          <a:custGeom>
            <a:avLst/>
            <a:gdLst>
              <a:gd name="textAreaLeft" fmla="*/ 0 w 2440080"/>
              <a:gd name="textAreaRight" fmla="*/ 2440440 w 244008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621792" h="310896">
                <a:moveTo>
                  <a:pt x="0" y="274320"/>
                </a:moveTo>
                <a:cubicBezTo>
                  <a:pt x="190500" y="292608"/>
                  <a:pt x="381000" y="310896"/>
                  <a:pt x="484632" y="265176"/>
                </a:cubicBezTo>
                <a:cubicBezTo>
                  <a:pt x="588264" y="219456"/>
                  <a:pt x="605028" y="109728"/>
                  <a:pt x="6217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6" name="ZoneTexte 59"/>
          <p:cNvSpPr/>
          <p:nvPr/>
        </p:nvSpPr>
        <p:spPr>
          <a:xfrm>
            <a:off x="7620120" y="2479680"/>
            <a:ext cx="863640" cy="642600"/>
          </a:xfrm>
          <a:prstGeom prst="rect">
            <a:avLst/>
          </a:prstGeom>
          <a:solidFill>
            <a:srgbClr val="b3a2c7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Food distribution &amp; Malnutrition care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7" name="ZoneTexte 68"/>
          <p:cNvSpPr/>
          <p:nvPr/>
        </p:nvSpPr>
        <p:spPr>
          <a:xfrm>
            <a:off x="5472000" y="4394160"/>
            <a:ext cx="1538280" cy="36828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No access to 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Land (mines &amp; Rights)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8" name="Forme libre 69"/>
          <p:cNvSpPr/>
          <p:nvPr/>
        </p:nvSpPr>
        <p:spPr>
          <a:xfrm rot="17103000">
            <a:off x="5210280" y="2991600"/>
            <a:ext cx="2392200" cy="1970280"/>
          </a:xfrm>
          <a:custGeom>
            <a:avLst/>
            <a:gdLst>
              <a:gd name="textAreaLeft" fmla="*/ 0 w 2392200"/>
              <a:gd name="textAreaRight" fmla="*/ 2392560 w 2392200"/>
              <a:gd name="textAreaTop" fmla="*/ 0 h 1970280"/>
              <a:gd name="textAreaBottom" fmla="*/ 1970640 h 1970280"/>
            </a:gdLst>
            <a:ahLst/>
            <a:rect l="textAreaLeft" t="textAreaTop" r="textAreaRight" b="textAreaBottom"/>
            <a:pathLst>
              <a:path w="475488" h="1107948">
                <a:moveTo>
                  <a:pt x="0" y="73152"/>
                </a:moveTo>
                <a:cubicBezTo>
                  <a:pt x="54864" y="36576"/>
                  <a:pt x="109728" y="0"/>
                  <a:pt x="164592" y="146304"/>
                </a:cubicBezTo>
                <a:cubicBezTo>
                  <a:pt x="219456" y="292608"/>
                  <a:pt x="277368" y="794004"/>
                  <a:pt x="329184" y="950976"/>
                </a:cubicBezTo>
                <a:cubicBezTo>
                  <a:pt x="381000" y="1107948"/>
                  <a:pt x="428244" y="1098042"/>
                  <a:pt x="475488" y="10881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9" name="Forme libre 72"/>
          <p:cNvSpPr/>
          <p:nvPr/>
        </p:nvSpPr>
        <p:spPr>
          <a:xfrm>
            <a:off x="7500960" y="920880"/>
            <a:ext cx="1170000" cy="191880"/>
          </a:xfrm>
          <a:custGeom>
            <a:avLst/>
            <a:gdLst/>
            <a:ahLst/>
            <a:rect l="l" t="t" r="r" b="b"/>
            <a:pathLst>
              <a:path w="466344" h="120396">
                <a:moveTo>
                  <a:pt x="0" y="1524"/>
                </a:moveTo>
                <a:cubicBezTo>
                  <a:pt x="84582" y="762"/>
                  <a:pt x="169164" y="0"/>
                  <a:pt x="246888" y="19812"/>
                </a:cubicBezTo>
                <a:cubicBezTo>
                  <a:pt x="324612" y="39624"/>
                  <a:pt x="395478" y="80010"/>
                  <a:pt x="466344" y="1203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340" name="Connecteur droit avec flèche 73"/>
          <p:cNvCxnSpPr/>
          <p:nvPr/>
        </p:nvCxnSpPr>
        <p:spPr>
          <a:xfrm>
            <a:off x="2771280" y="3154320"/>
            <a:ext cx="1080" cy="1837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41" name="ZoneTexte 74"/>
          <p:cNvSpPr/>
          <p:nvPr/>
        </p:nvSpPr>
        <p:spPr>
          <a:xfrm>
            <a:off x="7591320" y="1228680"/>
            <a:ext cx="865440" cy="505440"/>
          </a:xfrm>
          <a:prstGeom prst="rect">
            <a:avLst/>
          </a:prstGeom>
          <a:solidFill>
            <a:srgbClr val="b3a2c7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Hand pump, wells &amp; water supply system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ZoneTexte 83"/>
          <p:cNvSpPr/>
          <p:nvPr/>
        </p:nvSpPr>
        <p:spPr>
          <a:xfrm>
            <a:off x="2604960" y="4991040"/>
            <a:ext cx="863640" cy="505440"/>
          </a:xfrm>
          <a:prstGeom prst="rect">
            <a:avLst/>
          </a:prstGeom>
          <a:solidFill>
            <a:srgbClr val="d7e4bd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Insecurity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(Gangs, ex-militias 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3" name="ZoneTexte 85"/>
          <p:cNvSpPr/>
          <p:nvPr/>
        </p:nvSpPr>
        <p:spPr>
          <a:xfrm>
            <a:off x="7597800" y="2013120"/>
            <a:ext cx="863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Poor access to Educa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4" name="Forme libre 86"/>
          <p:cNvSpPr/>
          <p:nvPr/>
        </p:nvSpPr>
        <p:spPr>
          <a:xfrm flipV="1">
            <a:off x="1092240" y="1441440"/>
            <a:ext cx="347760" cy="44640"/>
          </a:xfrm>
          <a:custGeom>
            <a:avLst/>
            <a:gdLst/>
            <a:ahLst/>
            <a:rect l="l" t="t" r="r" b="b"/>
            <a:pathLst>
              <a:path w="118872" h="44450">
                <a:moveTo>
                  <a:pt x="0" y="0"/>
                </a:moveTo>
                <a:lnTo>
                  <a:pt x="118872" y="0"/>
                </a:lnTo>
                <a:lnTo>
                  <a:pt x="11887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5" name="Forme libre 88"/>
          <p:cNvSpPr/>
          <p:nvPr/>
        </p:nvSpPr>
        <p:spPr>
          <a:xfrm rot="18577200">
            <a:off x="2364120" y="1054800"/>
            <a:ext cx="246240" cy="44640"/>
          </a:xfrm>
          <a:custGeom>
            <a:avLst/>
            <a:gdLst/>
            <a:ahLst/>
            <a:rect l="l" t="t" r="r" b="b"/>
            <a:pathLst>
              <a:path w="118872" h="44450">
                <a:moveTo>
                  <a:pt x="0" y="0"/>
                </a:moveTo>
                <a:lnTo>
                  <a:pt x="118872" y="0"/>
                </a:lnTo>
                <a:lnTo>
                  <a:pt x="11887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346" name="Group 165"/>
          <p:cNvGrpSpPr/>
          <p:nvPr/>
        </p:nvGrpSpPr>
        <p:grpSpPr>
          <a:xfrm>
            <a:off x="1091880" y="1482840"/>
            <a:ext cx="238320" cy="2485800"/>
            <a:chOff x="1091880" y="1482840"/>
            <a:chExt cx="238320" cy="2485800"/>
          </a:xfrm>
        </p:grpSpPr>
        <p:sp>
          <p:nvSpPr>
            <p:cNvPr id="347" name="Line 160"/>
            <p:cNvSpPr/>
            <p:nvPr/>
          </p:nvSpPr>
          <p:spPr>
            <a:xfrm>
              <a:off x="1091880" y="1482840"/>
              <a:ext cx="0" cy="24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48" name="Line 164"/>
            <p:cNvSpPr/>
            <p:nvPr/>
          </p:nvSpPr>
          <p:spPr>
            <a:xfrm>
              <a:off x="1092240" y="3968640"/>
              <a:ext cx="237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cxnSp>
        <p:nvCxnSpPr>
          <p:cNvPr id="349" name="Connecteur droit avec flèche 91"/>
          <p:cNvCxnSpPr/>
          <p:nvPr/>
        </p:nvCxnSpPr>
        <p:spPr>
          <a:xfrm>
            <a:off x="4709880" y="1020600"/>
            <a:ext cx="97560" cy="388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0" name="Connecteur droit avec flèche 96"/>
          <p:cNvCxnSpPr>
            <a:stCxn id="351" idx="0"/>
          </p:cNvCxnSpPr>
          <p:nvPr/>
        </p:nvCxnSpPr>
        <p:spPr>
          <a:xfrm flipV="1">
            <a:off x="3432240" y="3733560"/>
            <a:ext cx="165600" cy="167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2" name="Connecteur droit avec flèche 101"/>
          <p:cNvCxnSpPr>
            <a:stCxn id="353" idx="2"/>
            <a:endCxn id="354" idx="0"/>
          </p:cNvCxnSpPr>
          <p:nvPr/>
        </p:nvCxnSpPr>
        <p:spPr>
          <a:xfrm flipH="1">
            <a:off x="1834920" y="1541160"/>
            <a:ext cx="48240" cy="384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5" name="Connecteur droit avec flèche 97"/>
          <p:cNvCxnSpPr/>
          <p:nvPr/>
        </p:nvCxnSpPr>
        <p:spPr>
          <a:xfrm>
            <a:off x="8501040" y="1437840"/>
            <a:ext cx="187920" cy="73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56" name="ZoneTexte 102"/>
          <p:cNvSpPr/>
          <p:nvPr/>
        </p:nvSpPr>
        <p:spPr>
          <a:xfrm>
            <a:off x="0" y="768240"/>
            <a:ext cx="9288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Lack of response from GoSL to UN report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7" name="ZoneTexte 104"/>
          <p:cNvSpPr/>
          <p:nvPr/>
        </p:nvSpPr>
        <p:spPr>
          <a:xfrm>
            <a:off x="55440" y="4727520"/>
            <a:ext cx="9003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High Global food price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8" name="Forme libre 54"/>
          <p:cNvSpPr/>
          <p:nvPr/>
        </p:nvSpPr>
        <p:spPr>
          <a:xfrm flipH="1" rot="16200000">
            <a:off x="1425600" y="460440"/>
            <a:ext cx="187200" cy="1041120"/>
          </a:xfrm>
          <a:custGeom>
            <a:avLst/>
            <a:gdLst>
              <a:gd name="textAreaLeft" fmla="*/ 360 w 187200"/>
              <a:gd name="textAreaRight" fmla="*/ 187920 w 187200"/>
              <a:gd name="textAreaTop" fmla="*/ 0 h 1041120"/>
              <a:gd name="textAreaBottom" fmla="*/ 1041480 h 1041120"/>
            </a:gdLst>
            <a:ahLst/>
            <a:rect l="textAreaLeft" t="textAreaTop" r="textAreaRight" b="textAreaBottom"/>
            <a:pathLst>
              <a:path w="46043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9" name="ZoneTexte 109"/>
          <p:cNvSpPr/>
          <p:nvPr/>
        </p:nvSpPr>
        <p:spPr>
          <a:xfrm>
            <a:off x="1330200" y="3637080"/>
            <a:ext cx="1009800" cy="50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Lack of GoSL commitment to Reconcilia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0" name="ZoneTexte 110"/>
          <p:cNvSpPr/>
          <p:nvPr/>
        </p:nvSpPr>
        <p:spPr>
          <a:xfrm>
            <a:off x="4111560" y="4897440"/>
            <a:ext cx="1152720" cy="23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High food price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1" name="Forme libre 111"/>
          <p:cNvSpPr/>
          <p:nvPr/>
        </p:nvSpPr>
        <p:spPr>
          <a:xfrm rot="17308800">
            <a:off x="6308640" y="528480"/>
            <a:ext cx="363600" cy="2421000"/>
          </a:xfrm>
          <a:custGeom>
            <a:avLst/>
            <a:gdLst/>
            <a:ahLst/>
            <a:rect l="l" t="t" r="r" b="b"/>
            <a:pathLst>
              <a:path w="108204" h="1316736">
                <a:moveTo>
                  <a:pt x="0" y="0"/>
                </a:moveTo>
                <a:cubicBezTo>
                  <a:pt x="46482" y="150876"/>
                  <a:pt x="92964" y="301752"/>
                  <a:pt x="100584" y="521208"/>
                </a:cubicBezTo>
                <a:cubicBezTo>
                  <a:pt x="108204" y="740664"/>
                  <a:pt x="76962" y="1028700"/>
                  <a:pt x="45720" y="13167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2" name="ZoneTexte 112"/>
          <p:cNvSpPr/>
          <p:nvPr/>
        </p:nvSpPr>
        <p:spPr>
          <a:xfrm>
            <a:off x="3173400" y="3309840"/>
            <a:ext cx="21178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Lack of business opportunities and entrepreneurship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3" name="Line 111"/>
          <p:cNvSpPr/>
          <p:nvPr/>
        </p:nvSpPr>
        <p:spPr>
          <a:xfrm>
            <a:off x="4687920" y="2844720"/>
            <a:ext cx="0" cy="465120"/>
          </a:xfrm>
          <a:prstGeom prst="line">
            <a:avLst/>
          </a:prstGeom>
          <a:ln w="28440">
            <a:solidFill>
              <a:srgbClr val="4a452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3" name="Text Box 92"/>
          <p:cNvSpPr/>
          <p:nvPr/>
        </p:nvSpPr>
        <p:spPr>
          <a:xfrm>
            <a:off x="1414440" y="1171440"/>
            <a:ext cx="936720" cy="36828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Centralised Control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364" name="Group 165"/>
          <p:cNvGrpSpPr/>
          <p:nvPr/>
        </p:nvGrpSpPr>
        <p:grpSpPr>
          <a:xfrm>
            <a:off x="4224240" y="981000"/>
            <a:ext cx="270000" cy="1656000"/>
            <a:chOff x="4224240" y="981000"/>
            <a:chExt cx="270000" cy="1656000"/>
          </a:xfrm>
        </p:grpSpPr>
        <p:sp>
          <p:nvSpPr>
            <p:cNvPr id="365" name="Line 160"/>
            <p:cNvSpPr/>
            <p:nvPr/>
          </p:nvSpPr>
          <p:spPr>
            <a:xfrm>
              <a:off x="4224240" y="981000"/>
              <a:ext cx="0" cy="165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66" name="Line 164"/>
            <p:cNvSpPr/>
            <p:nvPr/>
          </p:nvSpPr>
          <p:spPr>
            <a:xfrm>
              <a:off x="4224240" y="2637000"/>
              <a:ext cx="270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367" name="ZoneTexte 68"/>
          <p:cNvSpPr/>
          <p:nvPr/>
        </p:nvSpPr>
        <p:spPr>
          <a:xfrm rot="5400000">
            <a:off x="7073280" y="2581920"/>
            <a:ext cx="3600360" cy="398520"/>
          </a:xfrm>
          <a:prstGeom prst="rect">
            <a:avLst/>
          </a:prstGeom>
          <a:solidFill>
            <a:srgbClr val="bfbfb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Deteriorating living conditions of displaced population (willing to go back) and  War affected population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8" name="ZoneTexte 99"/>
          <p:cNvSpPr/>
          <p:nvPr/>
        </p:nvSpPr>
        <p:spPr>
          <a:xfrm>
            <a:off x="2122560" y="746280"/>
            <a:ext cx="3168720" cy="23112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Capacity building &amp; Good governance at all level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9" name="Forme libre 103"/>
          <p:cNvSpPr/>
          <p:nvPr/>
        </p:nvSpPr>
        <p:spPr>
          <a:xfrm flipV="1">
            <a:off x="971640" y="4911120"/>
            <a:ext cx="3252600" cy="817560"/>
          </a:xfrm>
          <a:custGeom>
            <a:avLst/>
            <a:gdLst/>
            <a:ahLst/>
            <a:rect l="l" t="t" r="r" b="b"/>
            <a:pathLst>
              <a:path w="2880360" h="220980">
                <a:moveTo>
                  <a:pt x="0" y="220980"/>
                </a:moveTo>
                <a:cubicBezTo>
                  <a:pt x="550926" y="121158"/>
                  <a:pt x="1101852" y="21336"/>
                  <a:pt x="1581912" y="10668"/>
                </a:cubicBezTo>
                <a:cubicBezTo>
                  <a:pt x="2061972" y="0"/>
                  <a:pt x="2471166" y="78486"/>
                  <a:pt x="2880360" y="15697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0" name="ZoneTexte 106"/>
          <p:cNvSpPr/>
          <p:nvPr/>
        </p:nvSpPr>
        <p:spPr>
          <a:xfrm>
            <a:off x="6453360" y="2060640"/>
            <a:ext cx="17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00"/>
                </a:solidFill>
                <a:latin typeface="Calibri"/>
              </a:rPr>
              <a:t>LIVELIHOODS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4" name="ZoneTexte 85"/>
          <p:cNvSpPr/>
          <p:nvPr/>
        </p:nvSpPr>
        <p:spPr>
          <a:xfrm>
            <a:off x="1403280" y="1925640"/>
            <a:ext cx="863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Deteriorating Governance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1" name="ZoneTexte 85"/>
          <p:cNvSpPr/>
          <p:nvPr/>
        </p:nvSpPr>
        <p:spPr>
          <a:xfrm>
            <a:off x="4429080" y="5586480"/>
            <a:ext cx="863640" cy="50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Community network broke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2" name="ZoneTexte 24"/>
          <p:cNvSpPr/>
          <p:nvPr/>
        </p:nvSpPr>
        <p:spPr>
          <a:xfrm>
            <a:off x="4429080" y="1395360"/>
            <a:ext cx="855720" cy="36828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of school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3" name="ZoneTexte 24"/>
          <p:cNvSpPr/>
          <p:nvPr/>
        </p:nvSpPr>
        <p:spPr>
          <a:xfrm>
            <a:off x="4487760" y="2060640"/>
            <a:ext cx="1020960" cy="64260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Rehabilitation of Water tanks, Feeder roads &amp; irriga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4" name="ZoneTexte 24"/>
          <p:cNvSpPr/>
          <p:nvPr/>
        </p:nvSpPr>
        <p:spPr>
          <a:xfrm>
            <a:off x="4289400" y="4254480"/>
            <a:ext cx="928800" cy="50544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Rebuilding community health centre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5" name="ZoneTexte 24"/>
          <p:cNvSpPr/>
          <p:nvPr/>
        </p:nvSpPr>
        <p:spPr>
          <a:xfrm>
            <a:off x="5565600" y="1603440"/>
            <a:ext cx="951120" cy="50544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Support to  livelihoods – fisheries &amp; ag.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1" name="ZoneTexte 24"/>
          <p:cNvSpPr/>
          <p:nvPr/>
        </p:nvSpPr>
        <p:spPr>
          <a:xfrm>
            <a:off x="2906640" y="3900600"/>
            <a:ext cx="10508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Lack of Access to  finance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6" name="ZoneTexte 24"/>
          <p:cNvSpPr/>
          <p:nvPr/>
        </p:nvSpPr>
        <p:spPr>
          <a:xfrm>
            <a:off x="7620120" y="3278160"/>
            <a:ext cx="863640" cy="505440"/>
          </a:xfrm>
          <a:prstGeom prst="rect">
            <a:avLst/>
          </a:prstGeom>
          <a:solidFill>
            <a:srgbClr val="b3a2c7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Emergency Health service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7" name="ZoneTexte 24"/>
          <p:cNvSpPr/>
          <p:nvPr/>
        </p:nvSpPr>
        <p:spPr>
          <a:xfrm>
            <a:off x="7637400" y="3887640"/>
            <a:ext cx="863640" cy="50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Lack of physical protec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8" name="ZoneTexte 24"/>
          <p:cNvSpPr/>
          <p:nvPr/>
        </p:nvSpPr>
        <p:spPr>
          <a:xfrm>
            <a:off x="7645320" y="4508640"/>
            <a:ext cx="86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ack of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social protec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9" name="ZoneTexte 24"/>
          <p:cNvSpPr/>
          <p:nvPr/>
        </p:nvSpPr>
        <p:spPr>
          <a:xfrm>
            <a:off x="6326280" y="6080040"/>
            <a:ext cx="2442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0000"/>
                </a:solidFill>
                <a:latin typeface="Verdana"/>
              </a:rPr>
              <a:t>Post-Conflict Situation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380" name="Connecteur droit avec flèche 97"/>
          <p:cNvCxnSpPr>
            <a:stCxn id="343" idx="3"/>
          </p:cNvCxnSpPr>
          <p:nvPr/>
        </p:nvCxnSpPr>
        <p:spPr>
          <a:xfrm>
            <a:off x="8461440" y="2198160"/>
            <a:ext cx="21024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1" name="Connecteur droit avec flèche 97"/>
          <p:cNvCxnSpPr>
            <a:endCxn id="367" idx="2"/>
          </p:cNvCxnSpPr>
          <p:nvPr/>
        </p:nvCxnSpPr>
        <p:spPr>
          <a:xfrm flipV="1">
            <a:off x="8488080" y="2780640"/>
            <a:ext cx="183240" cy="6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2" name="Connecteur droit avec flèche 97"/>
          <p:cNvCxnSpPr/>
          <p:nvPr/>
        </p:nvCxnSpPr>
        <p:spPr>
          <a:xfrm flipV="1">
            <a:off x="8508960" y="3546000"/>
            <a:ext cx="162720" cy="16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3" name="Connecteur droit avec flèche 97"/>
          <p:cNvCxnSpPr>
            <a:stCxn id="377" idx="3"/>
          </p:cNvCxnSpPr>
          <p:nvPr/>
        </p:nvCxnSpPr>
        <p:spPr>
          <a:xfrm flipV="1">
            <a:off x="8501040" y="4141080"/>
            <a:ext cx="1706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4" name="Connecteur droit avec flèche 97"/>
          <p:cNvCxnSpPr/>
          <p:nvPr/>
        </p:nvCxnSpPr>
        <p:spPr>
          <a:xfrm flipV="1">
            <a:off x="8526240" y="4581000"/>
            <a:ext cx="221400" cy="146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85" name="Forme libre 53"/>
          <p:cNvSpPr/>
          <p:nvPr/>
        </p:nvSpPr>
        <p:spPr>
          <a:xfrm rot="16200000">
            <a:off x="3452040" y="1415160"/>
            <a:ext cx="458640" cy="339840"/>
          </a:xfrm>
          <a:custGeom>
            <a:avLst/>
            <a:gdLst/>
            <a:ahLst/>
            <a:rect l="l" t="t" r="r" b="b"/>
            <a:pathLst>
              <a:path w="368580" h="725189">
                <a:moveTo>
                  <a:pt x="11964" y="0"/>
                </a:moveTo>
                <a:cubicBezTo>
                  <a:pt x="8916" y="57912"/>
                  <a:pt x="2820" y="115744"/>
                  <a:pt x="2820" y="173736"/>
                </a:cubicBezTo>
                <a:cubicBezTo>
                  <a:pt x="2820" y="353594"/>
                  <a:pt x="0" y="533773"/>
                  <a:pt x="11964" y="713232"/>
                </a:cubicBezTo>
                <a:cubicBezTo>
                  <a:pt x="12605" y="722849"/>
                  <a:pt x="29761" y="722129"/>
                  <a:pt x="39396" y="722376"/>
                </a:cubicBezTo>
                <a:cubicBezTo>
                  <a:pt x="149088" y="725189"/>
                  <a:pt x="258852" y="722376"/>
                  <a:pt x="368580" y="72237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386" name="Straight Arrow Connector 19495"/>
          <p:cNvCxnSpPr/>
          <p:nvPr/>
        </p:nvCxnSpPr>
        <p:spPr>
          <a:xfrm>
            <a:off x="1834920" y="2295000"/>
            <a:ext cx="1080" cy="122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387" name="Forme libre 53"/>
          <p:cNvSpPr/>
          <p:nvPr/>
        </p:nvSpPr>
        <p:spPr>
          <a:xfrm rot="16200000">
            <a:off x="2983680" y="4207320"/>
            <a:ext cx="1562040" cy="506520"/>
          </a:xfrm>
          <a:custGeom>
            <a:avLst/>
            <a:gdLst/>
            <a:ahLst/>
            <a:rect l="l" t="t" r="r" b="b"/>
            <a:pathLst>
              <a:path w="368580" h="725189">
                <a:moveTo>
                  <a:pt x="11964" y="0"/>
                </a:moveTo>
                <a:cubicBezTo>
                  <a:pt x="8916" y="57912"/>
                  <a:pt x="2820" y="115744"/>
                  <a:pt x="2820" y="173736"/>
                </a:cubicBezTo>
                <a:cubicBezTo>
                  <a:pt x="2820" y="353594"/>
                  <a:pt x="0" y="533773"/>
                  <a:pt x="11964" y="713232"/>
                </a:cubicBezTo>
                <a:cubicBezTo>
                  <a:pt x="12605" y="722849"/>
                  <a:pt x="29761" y="722129"/>
                  <a:pt x="39396" y="722376"/>
                </a:cubicBezTo>
                <a:cubicBezTo>
                  <a:pt x="149088" y="725189"/>
                  <a:pt x="258852" y="722376"/>
                  <a:pt x="368580" y="72237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8" name="Forme libre 42"/>
          <p:cNvSpPr/>
          <p:nvPr/>
        </p:nvSpPr>
        <p:spPr>
          <a:xfrm flipH="1">
            <a:off x="6058080" y="2678040"/>
            <a:ext cx="217440" cy="290520"/>
          </a:xfrm>
          <a:custGeom>
            <a:avLst/>
            <a:gdLst>
              <a:gd name="textAreaLeft" fmla="*/ 360 w 217440"/>
              <a:gd name="textAreaRight" fmla="*/ 218160 w 2174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46888" h="335280">
                <a:moveTo>
                  <a:pt x="0" y="24384"/>
                </a:moveTo>
                <a:cubicBezTo>
                  <a:pt x="48006" y="12192"/>
                  <a:pt x="96012" y="0"/>
                  <a:pt x="137160" y="51816"/>
                </a:cubicBezTo>
                <a:cubicBezTo>
                  <a:pt x="178308" y="103632"/>
                  <a:pt x="212598" y="219456"/>
                  <a:pt x="246888" y="3352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9" name="Forme libre 42"/>
          <p:cNvSpPr/>
          <p:nvPr/>
        </p:nvSpPr>
        <p:spPr>
          <a:xfrm flipH="1">
            <a:off x="5363280" y="1720800"/>
            <a:ext cx="217800" cy="360360"/>
          </a:xfrm>
          <a:custGeom>
            <a:avLst/>
            <a:gdLst>
              <a:gd name="textAreaLeft" fmla="*/ -360 w 217800"/>
              <a:gd name="textAreaRight" fmla="*/ 217800 w 217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46888" h="335280">
                <a:moveTo>
                  <a:pt x="0" y="24384"/>
                </a:moveTo>
                <a:cubicBezTo>
                  <a:pt x="48006" y="12192"/>
                  <a:pt x="96012" y="0"/>
                  <a:pt x="137160" y="51816"/>
                </a:cubicBezTo>
                <a:cubicBezTo>
                  <a:pt x="178308" y="103632"/>
                  <a:pt x="212598" y="219456"/>
                  <a:pt x="246888" y="33528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0" name="Forme libre 54"/>
          <p:cNvSpPr/>
          <p:nvPr/>
        </p:nvSpPr>
        <p:spPr>
          <a:xfrm flipH="1" rot="2872200">
            <a:off x="7250760" y="2718360"/>
            <a:ext cx="160200" cy="650520"/>
          </a:xfrm>
          <a:custGeom>
            <a:avLst/>
            <a:gdLst/>
            <a:ahLst/>
            <a:rect l="l" t="t" r="r" b="b"/>
            <a:pathLst>
              <a:path w="160337" h="219456">
                <a:moveTo>
                  <a:pt x="0" y="219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1" name="Forme libre 62"/>
          <p:cNvSpPr/>
          <p:nvPr/>
        </p:nvSpPr>
        <p:spPr>
          <a:xfrm rot="18041400">
            <a:off x="5264640" y="3404520"/>
            <a:ext cx="462240" cy="196920"/>
          </a:xfrm>
          <a:custGeom>
            <a:avLst/>
            <a:gdLst/>
            <a:ahLst/>
            <a:rect l="l" t="t" r="r" b="b"/>
            <a:pathLst>
              <a:path w="365760" h="201168">
                <a:moveTo>
                  <a:pt x="0" y="0"/>
                </a:moveTo>
                <a:cubicBezTo>
                  <a:pt x="33528" y="65532"/>
                  <a:pt x="67056" y="131064"/>
                  <a:pt x="128016" y="164592"/>
                </a:cubicBezTo>
                <a:cubicBezTo>
                  <a:pt x="188976" y="198120"/>
                  <a:pt x="365760" y="201168"/>
                  <a:pt x="365760" y="201168"/>
                </a:cubicBezTo>
                <a:lnTo>
                  <a:pt x="365760" y="201168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2" name="Forme libre 60"/>
          <p:cNvSpPr/>
          <p:nvPr/>
        </p:nvSpPr>
        <p:spPr>
          <a:xfrm rot="2311800">
            <a:off x="5979600" y="4106520"/>
            <a:ext cx="1468440" cy="2743200"/>
          </a:xfrm>
          <a:custGeom>
            <a:avLst/>
            <a:gdLst/>
            <a:ahLst/>
            <a:rect l="l" t="t" r="r" b="b"/>
            <a:pathLst>
              <a:path w="1133856" h="1892808">
                <a:moveTo>
                  <a:pt x="0" y="1892808"/>
                </a:moveTo>
                <a:cubicBezTo>
                  <a:pt x="326136" y="1629918"/>
                  <a:pt x="652272" y="1367028"/>
                  <a:pt x="841248" y="1051560"/>
                </a:cubicBezTo>
                <a:cubicBezTo>
                  <a:pt x="1030224" y="736092"/>
                  <a:pt x="1133856" y="0"/>
                  <a:pt x="1133856" y="0"/>
                </a:cubicBezTo>
                <a:lnTo>
                  <a:pt x="113385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3" name="ZoneTexte 104"/>
          <p:cNvSpPr/>
          <p:nvPr/>
        </p:nvSpPr>
        <p:spPr>
          <a:xfrm>
            <a:off x="65160" y="6199200"/>
            <a:ext cx="4159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Calibri"/>
              </a:rPr>
              <a:t>Step 4: Who is doing wha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4" name="ZoneTexte 104"/>
          <p:cNvSpPr/>
          <p:nvPr/>
        </p:nvSpPr>
        <p:spPr>
          <a:xfrm>
            <a:off x="4257720" y="6164280"/>
            <a:ext cx="900000" cy="246240"/>
          </a:xfrm>
          <a:prstGeom prst="rect">
            <a:avLst/>
          </a:prstGeom>
          <a:solidFill>
            <a:srgbClr val="b3a2c7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CHO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5" name="ZoneTexte 104"/>
          <p:cNvSpPr/>
          <p:nvPr/>
        </p:nvSpPr>
        <p:spPr>
          <a:xfrm>
            <a:off x="4259160" y="6504120"/>
            <a:ext cx="900360" cy="246240"/>
          </a:xfrm>
          <a:prstGeom prst="rect">
            <a:avLst/>
          </a:prstGeom>
          <a:solidFill>
            <a:srgbClr val="f79646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DEVCO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6" name="ZoneTexte 67"/>
          <p:cNvSpPr/>
          <p:nvPr/>
        </p:nvSpPr>
        <p:spPr>
          <a:xfrm>
            <a:off x="5398920" y="2968560"/>
            <a:ext cx="7938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Lack of employment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7" name="ZoneTexte 67"/>
          <p:cNvSpPr/>
          <p:nvPr/>
        </p:nvSpPr>
        <p:spPr>
          <a:xfrm>
            <a:off x="5398920" y="3130560"/>
            <a:ext cx="793800" cy="64260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Cash for work – Road building &amp; Housing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8" name="ZoneTexte 68"/>
          <p:cNvSpPr/>
          <p:nvPr/>
        </p:nvSpPr>
        <p:spPr>
          <a:xfrm>
            <a:off x="5475240" y="4614840"/>
            <a:ext cx="1538280" cy="231120"/>
          </a:xfrm>
          <a:prstGeom prst="rect">
            <a:avLst/>
          </a:prstGeom>
          <a:solidFill>
            <a:srgbClr val="b3a2c7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Demining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9" name="ZoneTexte 68"/>
          <p:cNvSpPr/>
          <p:nvPr/>
        </p:nvSpPr>
        <p:spPr>
          <a:xfrm>
            <a:off x="5479920" y="4848120"/>
            <a:ext cx="1538280" cy="23112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mine educa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0" name="ZoneTexte 68"/>
          <p:cNvSpPr/>
          <p:nvPr/>
        </p:nvSpPr>
        <p:spPr>
          <a:xfrm>
            <a:off x="6719760" y="771480"/>
            <a:ext cx="768600" cy="231120"/>
          </a:xfrm>
          <a:prstGeom prst="rect">
            <a:avLst/>
          </a:prstGeom>
          <a:solidFill>
            <a:srgbClr val="b3a2c7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Shelter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1" name="ZoneTexte 68"/>
          <p:cNvSpPr/>
          <p:nvPr/>
        </p:nvSpPr>
        <p:spPr>
          <a:xfrm>
            <a:off x="6713640" y="1023840"/>
            <a:ext cx="768240" cy="23112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Housing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2" name="ZoneTexte 104"/>
          <p:cNvSpPr/>
          <p:nvPr/>
        </p:nvSpPr>
        <p:spPr>
          <a:xfrm>
            <a:off x="5218200" y="6346800"/>
            <a:ext cx="898560" cy="246240"/>
          </a:xfrm>
          <a:prstGeom prst="rect">
            <a:avLst/>
          </a:prstGeom>
          <a:solidFill>
            <a:srgbClr val="9bbb59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EAS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3" name="ZoneTexte 68"/>
          <p:cNvSpPr/>
          <p:nvPr/>
        </p:nvSpPr>
        <p:spPr>
          <a:xfrm>
            <a:off x="7620120" y="4179960"/>
            <a:ext cx="833400" cy="368280"/>
          </a:xfrm>
          <a:prstGeom prst="rect">
            <a:avLst/>
          </a:prstGeom>
          <a:solidFill>
            <a:srgbClr val="b3a2c7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Child reunification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4" name="ZoneTexte 68"/>
          <p:cNvSpPr/>
          <p:nvPr/>
        </p:nvSpPr>
        <p:spPr>
          <a:xfrm>
            <a:off x="7620120" y="4549680"/>
            <a:ext cx="833400" cy="23112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SGBV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5" name="ZoneTexte 24"/>
          <p:cNvSpPr/>
          <p:nvPr/>
        </p:nvSpPr>
        <p:spPr>
          <a:xfrm>
            <a:off x="4175280" y="3321000"/>
            <a:ext cx="1050840" cy="36828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Support to SMEs &amp; Private Sector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6" name="ZoneTexte 24"/>
          <p:cNvSpPr/>
          <p:nvPr/>
        </p:nvSpPr>
        <p:spPr>
          <a:xfrm>
            <a:off x="3735360" y="2801880"/>
            <a:ext cx="1262160" cy="231120"/>
          </a:xfrm>
          <a:prstGeom prst="rect">
            <a:avLst/>
          </a:prstGeom>
          <a:solidFill>
            <a:srgbClr val="f79646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  <a:ea typeface="Calibri"/>
              </a:rPr>
              <a:t>Reconciliation at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735360" y="2990880"/>
            <a:ext cx="1262160" cy="231120"/>
          </a:xfrm>
          <a:prstGeom prst="rect">
            <a:avLst/>
          </a:prstGeom>
          <a:solidFill>
            <a:srgbClr val="9bbb59"/>
          </a:solidFill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2060"/>
                </a:solidFill>
                <a:latin typeface="Calibri"/>
                <a:ea typeface="Calibri"/>
              </a:rPr>
              <a:t>grass roots level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8" name="ZoneTexte 50"/>
          <p:cNvSpPr/>
          <p:nvPr/>
        </p:nvSpPr>
        <p:spPr>
          <a:xfrm>
            <a:off x="7559640" y="5486400"/>
            <a:ext cx="1052640" cy="36828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Disproportionate male deaths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409" name="Connecteur droit avec flèche 97"/>
          <p:cNvCxnSpPr/>
          <p:nvPr/>
        </p:nvCxnSpPr>
        <p:spPr>
          <a:xfrm flipH="1" flipV="1">
            <a:off x="7144920" y="5459040"/>
            <a:ext cx="386640" cy="254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0" name="Connecteur droit avec flèche 97"/>
          <p:cNvCxnSpPr>
            <a:stCxn id="408" idx="0"/>
          </p:cNvCxnSpPr>
          <p:nvPr/>
        </p:nvCxnSpPr>
        <p:spPr>
          <a:xfrm flipH="1" flipV="1">
            <a:off x="7009920" y="4578120"/>
            <a:ext cx="1075680" cy="908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11" name="Forme libre 49"/>
          <p:cNvSpPr/>
          <p:nvPr/>
        </p:nvSpPr>
        <p:spPr>
          <a:xfrm rot="383400">
            <a:off x="6805080" y="3730320"/>
            <a:ext cx="471600" cy="1404720"/>
          </a:xfrm>
          <a:custGeom>
            <a:avLst/>
            <a:gdLst>
              <a:gd name="textAreaLeft" fmla="*/ 0 w 471600"/>
              <a:gd name="textAreaRight" fmla="*/ 2149638840 w 471600"/>
              <a:gd name="textAreaTop" fmla="*/ 0 h 1404720"/>
              <a:gd name="textAreaBottom" fmla="*/ 85046040 h 1404720"/>
            </a:gdLst>
            <a:ahLst/>
            <a:rect l="textAreaLeft" t="textAreaTop" r="textAreaRight" b="textAreaBottom"/>
            <a:pathLst>
              <a:path w="221" h="1410">
                <a:moveTo>
                  <a:pt x="204" y="1410"/>
                </a:moveTo>
                <a:lnTo>
                  <a:pt x="221" y="1094"/>
                </a:lnTo>
                <a:cubicBezTo>
                  <a:pt x="187" y="859"/>
                  <a:pt x="46" y="22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2" name="TextBox 134"/>
          <p:cNvSpPr/>
          <p:nvPr/>
        </p:nvSpPr>
        <p:spPr>
          <a:xfrm>
            <a:off x="6275520" y="6021360"/>
            <a:ext cx="2493720" cy="733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3" name="ZoneTexte 50"/>
          <p:cNvSpPr/>
          <p:nvPr/>
        </p:nvSpPr>
        <p:spPr>
          <a:xfrm>
            <a:off x="7075440" y="6361200"/>
            <a:ext cx="909720" cy="368280"/>
          </a:xfrm>
          <a:prstGeom prst="rect">
            <a:avLst/>
          </a:prstGeom>
          <a:solidFill>
            <a:srgbClr val="d7e4b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b050"/>
                </a:solidFill>
                <a:latin typeface="Calibri"/>
              </a:rPr>
              <a:t>Direct result of war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108000" y="1192320"/>
          <a:ext cx="8820000" cy="4846680"/>
        </p:xfrm>
        <a:graphic>
          <a:graphicData uri="http://schemas.openxmlformats.org/drawingml/2006/table">
            <a:tbl>
              <a:tblPr/>
              <a:tblGrid>
                <a:gridCol w="1368360"/>
                <a:gridCol w="1224000"/>
                <a:gridCol w="1511280"/>
                <a:gridCol w="1440000"/>
                <a:gridCol w="1224000"/>
                <a:gridCol w="1152360"/>
                <a:gridCol w="900000"/>
              </a:tblGrid>
              <a:tr h="63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unch phase and levels of intervention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se 0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se 1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se 2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se 3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se 4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se 5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68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als 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ect action: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Food assistance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Health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Cash for Work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CfW</a:t>
                      </a:r>
                      <a:endParaRPr b="0" lang="en-US" sz="1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CfW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CfW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Food Security 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400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s 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Shelter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Water Supply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Hand pumps/wells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Housing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llages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Demining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Capacity building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cils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Capacity building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------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nce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 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ra National (Regional)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Calibri"/>
                <a:ea typeface="Calibri"/>
              </a:rPr>
              <a:t>Step 5: Simplified Action Plan and timetable</a:t>
            </a:r>
            <a:endParaRPr b="1" lang="en-US" sz="32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6" name="AutoShape 1138"/>
          <p:cNvSpPr/>
          <p:nvPr/>
        </p:nvSpPr>
        <p:spPr>
          <a:xfrm rot="1666800">
            <a:off x="1069560" y="3773160"/>
            <a:ext cx="8307360" cy="431640"/>
          </a:xfrm>
          <a:prstGeom prst="rightArrow">
            <a:avLst>
              <a:gd name="adj1" fmla="val 50000"/>
              <a:gd name="adj2" fmla="val 493803"/>
            </a:avLst>
          </a:prstGeom>
          <a:solidFill>
            <a:srgbClr val="0000ff">
              <a:alpha val="15000"/>
            </a:srgbClr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7" name="TextBox 2"/>
          <p:cNvSpPr/>
          <p:nvPr/>
        </p:nvSpPr>
        <p:spPr>
          <a:xfrm>
            <a:off x="2411280" y="6095880"/>
            <a:ext cx="911520" cy="3682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ECHO</a:t>
            </a:r>
            <a:r>
              <a:rPr b="0" lang="en-GB" sz="1800" spc="-1" strike="noStrike">
                <a:solidFill>
                  <a:srgbClr val="80808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8" name="TextBox 6"/>
          <p:cNvSpPr/>
          <p:nvPr/>
        </p:nvSpPr>
        <p:spPr>
          <a:xfrm>
            <a:off x="3495960" y="6095880"/>
            <a:ext cx="834480" cy="3682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DEVC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9" name="TextBox 7"/>
          <p:cNvSpPr/>
          <p:nvPr/>
        </p:nvSpPr>
        <p:spPr>
          <a:xfrm>
            <a:off x="689040" y="608796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Calibri"/>
              </a:rPr>
              <a:t>Responsibility: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lbyflores_v</cp:lastModifiedBy>
  <dcterms:modified xsi:type="dcterms:W3CDTF">2011-10-27T12:59:34Z</dcterms:modified>
  <cp:revision>14</cp:revision>
  <dc:subject/>
  <dc:title>Slide 1</dc:title>
</cp:coreProperties>
</file>