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22.wmf" ContentType="image/x-wmf"/>
  <Override PartName="/ppt/media/image10.wmf" ContentType="image/x-wmf"/>
  <Override PartName="/ppt/media/image11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2.jpeg" ContentType="image/jpe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3D3-536F-4F0D-9102-C566DE5C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6743-FDCD-4078-A97D-1F821389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us avez  ici les résultats de la catégorisation des différents groupes socio-économiques. Il est intéressant de notre a la fois en zone agricole, agropastorale te pastorale une forte proportion (60%0 des ménages qui sont considères comme pauvres a tres pauvres. Une extrême pauvreté de plus de 40% particulièrement en Maurit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E856-AC2D-42E5-B2A3-D1BEF9D1ED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FED-848C-4F9C-A15D-E2CBBE33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441-3BBC-49FB-86BC-768E9870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D71-0FB5-4E15-A734-A6510AE7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C71-22AD-412F-8C9C-62E2A2A4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23C-5929-4EB3-B85D-B365C159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48F-4D35-462D-963F-BF726635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FA9-3949-4B50-B763-464662E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D01-3EFD-4FB5-ADF9-98AAB3D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98A7-8B9A-410B-AEC3-4C502B2A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343-E909-489E-BCC1-92AFE8B1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959-E5B0-4444-AA74-823FBCF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3E46-94A9-432C-AEB7-A4328E9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DC02-D562-492B-A248-0FF12277A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6477120" y="0"/>
            <a:ext cx="2666880" cy="6858000"/>
          </a:xfrm>
          <a:prstGeom prst="rect">
            <a:avLst/>
          </a:prstGeom>
          <a:solidFill>
            <a:srgbClr val="b7b5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6477120" y="1600200"/>
            <a:ext cx="2666880" cy="380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28600" y="2057400"/>
            <a:ext cx="609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62626"/>
                </a:solidFill>
                <a:latin typeface="Candara"/>
              </a:rPr>
              <a:t>Les transferts sociaux pour la sécurité alimentaire et nutritionnelle dans le sah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62626"/>
                </a:solidFill>
                <a:latin typeface="Candara"/>
              </a:rPr>
              <a:t> </a:t>
            </a:r>
            <a:r>
              <a:rPr b="0" lang="fr-FR" sz="2800" spc="-1" strike="noStrike">
                <a:solidFill>
                  <a:srgbClr val="262626"/>
                </a:solidFill>
                <a:latin typeface="Candara"/>
              </a:rPr>
              <a:t>Burkina Faso,   Avril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3" descr="logo_ECHO.png"/>
          <p:cNvPicPr/>
          <p:nvPr/>
        </p:nvPicPr>
        <p:blipFill>
          <a:blip r:embed="rId1"/>
          <a:stretch/>
        </p:blipFill>
        <p:spPr>
          <a:xfrm>
            <a:off x="5181480" y="5562720"/>
            <a:ext cx="1243080" cy="110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logos"/>
          <p:cNvPicPr/>
          <p:nvPr/>
        </p:nvPicPr>
        <p:blipFill>
          <a:blip r:embed="rId2"/>
          <a:srcRect l="2045" t="16987" r="65977" b="13703"/>
          <a:stretch/>
        </p:blipFill>
        <p:spPr>
          <a:xfrm>
            <a:off x="380880" y="5867280"/>
            <a:ext cx="2016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Zone de cultures pluv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250920" y="1052640"/>
          <a:ext cx="4465440" cy="273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465440" cy="27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3924360" y="3849840"/>
          <a:ext cx="5040360" cy="2579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849840"/>
                    <a:ext cx="504036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5"/>
          <p:cNvSpPr/>
          <p:nvPr/>
        </p:nvSpPr>
        <p:spPr>
          <a:xfrm flipV="1" rot="10800000">
            <a:off x="456840" y="4530600"/>
            <a:ext cx="335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ans une même ZME, un même village,  les ménages riches/moyens se nourrissent de leur propre production et les pauvres des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Zone de cultures pluv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324000" y="771480"/>
          <a:ext cx="4968720" cy="30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71480"/>
                    <a:ext cx="496872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3"/>
          <p:cNvGraphicFramePr/>
          <p:nvPr/>
        </p:nvGraphicFramePr>
        <p:xfrm>
          <a:off x="4211640" y="3786120"/>
          <a:ext cx="4932360" cy="298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3786120"/>
                    <a:ext cx="4932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4"/>
          <p:cNvSpPr/>
          <p:nvPr/>
        </p:nvSpPr>
        <p:spPr>
          <a:xfrm>
            <a:off x="533520" y="434340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ménages riches vivent de leur production et les ménages pauvres de la vente de leur force de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‘agriculture sahélienne n‘est plus une agriculture de subsista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76040" y="112680"/>
          <a:ext cx="5259600" cy="322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12680"/>
                    <a:ext cx="525960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3809880" y="3414600"/>
          <a:ext cx="5334120" cy="328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414600"/>
                    <a:ext cx="5334120" cy="32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3"/>
          <p:cNvSpPr/>
          <p:nvPr/>
        </p:nvSpPr>
        <p:spPr>
          <a:xfrm flipV="1" rot="10800000">
            <a:off x="457200" y="397008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 les 2 Zones de moyen d'existence, les ménages pauvres sont pratiquement exclus du système de production      ( agricole et animali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3276720" y="3376440"/>
          <a:ext cx="5621040" cy="338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376440"/>
                    <a:ext cx="5621040" cy="33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324000" y="189000"/>
          <a:ext cx="5327640" cy="325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9000"/>
                    <a:ext cx="53276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3"/>
          <p:cNvSpPr/>
          <p:nvPr/>
        </p:nvSpPr>
        <p:spPr>
          <a:xfrm>
            <a:off x="304920" y="3962520"/>
            <a:ext cx="2819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ès forte dépendance de tous les ménages du marché,  plus particulièrement des Très Pauvres et Pauvres  pour les al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e qui  rend les menages pauvres très vulnérables face à une hausse des prix des denrées aliment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même dans les zones agricoles,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'ambition des ménages est de posséder les animaux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457200" y="2895480"/>
          <a:ext cx="82296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2296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Oval 3"/>
          <p:cNvSpPr/>
          <p:nvPr/>
        </p:nvSpPr>
        <p:spPr>
          <a:xfrm>
            <a:off x="6324480" y="3962520"/>
            <a:ext cx="1143000" cy="12189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4343400" y="3962520"/>
            <a:ext cx="1143000" cy="12189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es ménages pauvres n‘arrivent pas à protéger leur capital minimum, ni à investir dans leur futu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298440" y="404640"/>
          <a:ext cx="8845560" cy="630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404640"/>
                    <a:ext cx="8845560" cy="63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Straight Connector 3"/>
          <p:cNvSpPr/>
          <p:nvPr/>
        </p:nvSpPr>
        <p:spPr>
          <a:xfrm flipH="1">
            <a:off x="609480" y="2819520"/>
            <a:ext cx="822960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eft-Right Arrow 4"/>
          <p:cNvSpPr/>
          <p:nvPr/>
        </p:nvSpPr>
        <p:spPr>
          <a:xfrm>
            <a:off x="762120" y="2819520"/>
            <a:ext cx="8381880" cy="7596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eft-Right Arrow 6"/>
          <p:cNvSpPr/>
          <p:nvPr/>
        </p:nvSpPr>
        <p:spPr>
          <a:xfrm>
            <a:off x="762120" y="3733920"/>
            <a:ext cx="8229600" cy="152280"/>
          </a:xfrm>
          <a:prstGeom prst="leftRigh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es enfants issus des ménages les plus pauvres sont à risque de malnutri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caractéristiques de la pauvreté rurale au Sahel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br>
              <a:rPr sz="24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enseignements des études « Analyse Economie des Ménages » réalisées dans 6 pays du Sahel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115920" y="635040"/>
            <a:ext cx="8956800" cy="561636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6"/>
          <p:cNvCxnSpPr/>
          <p:nvPr/>
        </p:nvCxnSpPr>
        <p:spPr>
          <a:xfrm>
            <a:off x="762120" y="2133360"/>
            <a:ext cx="815400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182" name="Left-Right Arrow 12"/>
          <p:cNvSpPr/>
          <p:nvPr/>
        </p:nvSpPr>
        <p:spPr>
          <a:xfrm>
            <a:off x="685800" y="2133720"/>
            <a:ext cx="8229600" cy="46080"/>
          </a:xfrm>
          <a:prstGeom prst="leftRightArrow">
            <a:avLst>
              <a:gd name="adj1" fmla="val 50000"/>
              <a:gd name="adj2" fmla="val 4960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2"/>
          <p:cNvGraphicFramePr/>
          <p:nvPr/>
        </p:nvGraphicFramePr>
        <p:xfrm>
          <a:off x="395280" y="1557360"/>
          <a:ext cx="4537080" cy="388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45370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2"/>
          <p:cNvSpPr/>
          <p:nvPr/>
        </p:nvSpPr>
        <p:spPr>
          <a:xfrm>
            <a:off x="5410080" y="175248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85% des foyers o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ù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les enfants souffrent de la malnutrition aigue proviennent des groupes des pauvres et de très pau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80880" y="376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rofil  de la malnutrition (cas de Tessaou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457200" y="2136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a malnutrition au sahel est elle une malnutrition de la pauvreté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2"/>
          <p:cNvSpPr/>
          <p:nvPr/>
        </p:nvSpPr>
        <p:spPr>
          <a:xfrm>
            <a:off x="609480" y="27432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64d68"/>
                </a:solidFill>
                <a:latin typeface="Century Gothic"/>
              </a:rPr>
              <a:t>MERC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4d68"/>
                </a:solidFill>
                <a:latin typeface="Century Gothic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0120" y="17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4600080"/>
            <a:ext cx="91440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01" descr="delme"/>
          <p:cNvPicPr/>
          <p:nvPr/>
        </p:nvPicPr>
        <p:blipFill>
          <a:blip r:embed="rId1"/>
          <a:stretch/>
        </p:blipFill>
        <p:spPr>
          <a:xfrm>
            <a:off x="0" y="-1440"/>
            <a:ext cx="9144000" cy="4601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943560" y="21924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046160" y="260676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183240" y="194148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1559520" y="243828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4398120" y="331776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2547360" y="3238560"/>
            <a:ext cx="25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3444480" y="2300400"/>
            <a:ext cx="307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2278080" y="3651120"/>
            <a:ext cx="2235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156920" y="287172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5190120" y="254484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5474520" y="29448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8"/>
          <p:cNvSpPr/>
          <p:nvPr/>
        </p:nvSpPr>
        <p:spPr>
          <a:xfrm>
            <a:off x="3673800" y="212868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5195160" y="282240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761400" y="236520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5483880" y="2668680"/>
            <a:ext cx="3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226920" y="3009960"/>
            <a:ext cx="313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4"/>
          <p:cNvSpPr/>
          <p:nvPr/>
        </p:nvSpPr>
        <p:spPr>
          <a:xfrm>
            <a:off x="3434040" y="320508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2835000" y="250524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6"/>
          <p:cNvSpPr/>
          <p:nvPr/>
        </p:nvSpPr>
        <p:spPr>
          <a:xfrm>
            <a:off x="3122280" y="2708280"/>
            <a:ext cx="26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3572640" y="296064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8"/>
          <p:cNvSpPr/>
          <p:nvPr/>
        </p:nvSpPr>
        <p:spPr>
          <a:xfrm>
            <a:off x="1986840" y="2960640"/>
            <a:ext cx="290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0"/>
          <p:cNvSpPr/>
          <p:nvPr/>
        </p:nvSpPr>
        <p:spPr>
          <a:xfrm>
            <a:off x="715320" y="298116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1"/>
          <p:cNvSpPr/>
          <p:nvPr/>
        </p:nvSpPr>
        <p:spPr>
          <a:xfrm>
            <a:off x="656280" y="260676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2"/>
          <p:cNvSpPr/>
          <p:nvPr/>
        </p:nvSpPr>
        <p:spPr>
          <a:xfrm>
            <a:off x="5282280" y="31194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3"/>
          <p:cNvSpPr/>
          <p:nvPr/>
        </p:nvSpPr>
        <p:spPr>
          <a:xfrm>
            <a:off x="5763960" y="318132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4"/>
          <p:cNvSpPr/>
          <p:nvPr/>
        </p:nvSpPr>
        <p:spPr>
          <a:xfrm>
            <a:off x="5766480" y="2903400"/>
            <a:ext cx="282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3812040" y="312408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0" y="4572000"/>
            <a:ext cx="9144000" cy="27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uritanie                  Mali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Burkina Faso                                                                                     Niger cont.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– Nouakchott           H – Kita                                        O – Sanmemtenga                                                                             V – Madarounf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i-urbain              I - Kolondieba                              P – Sen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W – Tessaoua Nord sédentai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 – Monguel              J - Yorosso                                   Q - Gnagna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X – Tessaoua Sud-Cent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 – Gorgol                  K – Niono (Office du Niger)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Y – Magaria -Kantch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 – Guidimaka           L - Bandiagara                     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g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Z – Magaria Cent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 – Aioun                    M – Témér                                    R – Ouallam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Ω – Maïné Soro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énégal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 – Tarkint                                   S - Dosso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 - Matam                                                                         T – Dakoro - Boro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 – Tambacounda                                                           U – Dakoro - katsin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"/>
          <p:cNvPicPr/>
          <p:nvPr/>
        </p:nvPicPr>
        <p:blipFill>
          <a:blip r:embed="rId2"/>
          <a:stretch/>
        </p:blipFill>
        <p:spPr>
          <a:xfrm>
            <a:off x="3807000" y="17640"/>
            <a:ext cx="1884240" cy="1409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8"/>
          <p:cNvSpPr/>
          <p:nvPr/>
        </p:nvSpPr>
        <p:spPr>
          <a:xfrm>
            <a:off x="4842360" y="701640"/>
            <a:ext cx="299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9"/>
          <p:cNvSpPr/>
          <p:nvPr/>
        </p:nvSpPr>
        <p:spPr>
          <a:xfrm>
            <a:off x="4737600" y="28440"/>
            <a:ext cx="273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7"/>
          <p:cNvSpPr/>
          <p:nvPr/>
        </p:nvSpPr>
        <p:spPr>
          <a:xfrm>
            <a:off x="380880" y="16002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ns la pratique ce processus est décliné en six ét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/>
          <p:cNvSpPr/>
          <p:nvPr/>
        </p:nvSpPr>
        <p:spPr>
          <a:xfrm>
            <a:off x="154080" y="3581280"/>
            <a:ext cx="8920080" cy="26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179280" y="3103560"/>
            <a:ext cx="8856720" cy="477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914400" y="3214800"/>
            <a:ext cx="1523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211640" y="3198960"/>
            <a:ext cx="1295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LE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2438280" y="321948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435640" y="3206880"/>
            <a:ext cx="1584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7296120" y="3201840"/>
            <a:ext cx="1523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ESULT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5148360" y="3213000"/>
            <a:ext cx="30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7018200" y="3213000"/>
            <a:ext cx="304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380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Vue Globale du cadre de l’AEM: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54080" y="3581280"/>
            <a:ext cx="8920080" cy="26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7"/>
          <p:cNvGrpSpPr/>
          <p:nvPr/>
        </p:nvGrpSpPr>
        <p:grpSpPr>
          <a:xfrm>
            <a:off x="3786120" y="3705120"/>
            <a:ext cx="5214960" cy="2295720"/>
            <a:chOff x="3786120" y="3705120"/>
            <a:chExt cx="5214960" cy="2295720"/>
          </a:xfrm>
        </p:grpSpPr>
        <p:sp>
          <p:nvSpPr>
            <p:cNvPr id="101" name="Rectangle 3"/>
            <p:cNvSpPr/>
            <p:nvPr/>
          </p:nvSpPr>
          <p:spPr>
            <a:xfrm>
              <a:off x="4976640" y="3705120"/>
              <a:ext cx="29574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800000"/>
                  </a:solidFill>
                  <a:latin typeface="Arial"/>
                </a:rPr>
                <a:t>OUTCOME ANALYS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4271760" y="4186080"/>
              <a:ext cx="45799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333399"/>
                  </a:solidFill>
                  <a:latin typeface="Arial"/>
                </a:rPr>
                <a:t>Step  4                          Step 5                             Step 6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 rot="16200000">
              <a:off x="6364440" y="2169000"/>
              <a:ext cx="259200" cy="3849840"/>
            </a:xfrm>
            <a:custGeom>
              <a:avLst/>
              <a:gdLst>
                <a:gd name="textAreaLeft" fmla="*/ 0 w 259200"/>
                <a:gd name="textAreaRight" fmla="*/ 93600 w 259200"/>
                <a:gd name="textAreaTop" fmla="*/ 100080 h 3849840"/>
                <a:gd name="textAreaBottom" fmla="*/ 3749760 h 38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6" descr=""/>
            <p:cNvPicPr/>
            <p:nvPr/>
          </p:nvPicPr>
          <p:blipFill>
            <a:blip r:embed="rId1"/>
            <a:srcRect l="46736" t="39681" r="35222" b="17431"/>
            <a:stretch/>
          </p:blipFill>
          <p:spPr>
            <a:xfrm>
              <a:off x="5802120" y="4482720"/>
              <a:ext cx="1217880" cy="1518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5" name="Picture 12" descr=""/>
            <p:cNvPicPr/>
            <p:nvPr/>
          </p:nvPicPr>
          <p:blipFill>
            <a:blip r:embed="rId2"/>
            <a:stretch/>
          </p:blipFill>
          <p:spPr>
            <a:xfrm>
              <a:off x="7272000" y="4482720"/>
              <a:ext cx="1729080" cy="149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106" name="Object 8"/>
            <p:cNvGraphicFramePr/>
            <p:nvPr/>
          </p:nvGraphicFramePr>
          <p:xfrm>
            <a:off x="4050720" y="4482720"/>
            <a:ext cx="1522080" cy="14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50720" y="4482720"/>
                      <a:ext cx="1522080" cy="148104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8" name="Rectangle 11"/>
            <p:cNvSpPr/>
            <p:nvPr/>
          </p:nvSpPr>
          <p:spPr>
            <a:xfrm>
              <a:off x="4198680" y="4792680"/>
              <a:ext cx="1190520" cy="26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Arial"/>
                </a:rPr>
                <a:t>Compiled from data collected during seasonal assessments or monitorin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5816520" y="4816440"/>
              <a:ext cx="1190520" cy="118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Data collected during baselin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3786120" y="5038920"/>
              <a:ext cx="315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5545080" y="5038920"/>
              <a:ext cx="314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6962760" y="5038920"/>
              <a:ext cx="315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8" descr="C:\Users\Alexandra King\Documents\Work\Ethiopia LIU\Outcome Analysis TOT June 2008\Baseline.png"/>
          <p:cNvPicPr/>
          <p:nvPr/>
        </p:nvPicPr>
        <p:blipFill>
          <a:blip r:embed="rId5"/>
          <a:stretch/>
        </p:blipFill>
        <p:spPr>
          <a:xfrm>
            <a:off x="214200" y="3697200"/>
            <a:ext cx="3657600" cy="2374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1"/>
          <p:cNvSpPr/>
          <p:nvPr/>
        </p:nvSpPr>
        <p:spPr>
          <a:xfrm>
            <a:off x="0" y="990720"/>
            <a:ext cx="9144000" cy="152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es ménages pauvres sont de petite taille et ont peu d‘actifs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 Bandiagara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457200" y="2133720"/>
          <a:ext cx="82296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8229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Oval 4"/>
          <p:cNvSpPr/>
          <p:nvPr/>
        </p:nvSpPr>
        <p:spPr>
          <a:xfrm>
            <a:off x="3886200" y="4343400"/>
            <a:ext cx="609480" cy="13716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809880" y="2743200"/>
            <a:ext cx="609840" cy="12193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y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 des fortes inégalités dans le monde rural sahélien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 d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nages pauvres dans la population totale selon les z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"/>
          <p:cNvGraphicFramePr/>
          <p:nvPr/>
        </p:nvGraphicFramePr>
        <p:xfrm>
          <a:off x="609480" y="1371600"/>
          <a:ext cx="7683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83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itle 2"/>
          <p:cNvSpPr/>
          <p:nvPr/>
        </p:nvSpPr>
        <p:spPr>
          <a:xfrm>
            <a:off x="38088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yenne plus de la moitie de la population totale est considéré comme pauvre et très pauv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Block Arc 7"/>
          <p:cNvSpPr/>
          <p:nvPr/>
        </p:nvSpPr>
        <p:spPr>
          <a:xfrm>
            <a:off x="2895480" y="2666880"/>
            <a:ext cx="1524240" cy="1526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52640"/>
              <a:gd name="textAreaBottom" fmla="*/ 76320 h 152640"/>
            </a:gdLst>
            <a:ahLst/>
            <a:rect l="textAreaLeft" t="textAreaTop" r="textAreaRight" b="textAreaBottom"/>
            <a:pathLst>
              <a:path w="1524000" h="152400">
                <a:moveTo>
                  <a:pt x="0" y="76199"/>
                </a:moveTo>
                <a:lnTo>
                  <a:pt x="0" y="76199"/>
                </a:lnTo>
                <a:arcTo wR="762000" hR="76200" stAng="-10799995" swAng="10800005"/>
                <a:lnTo>
                  <a:pt x="1485900" y="76200"/>
                </a:lnTo>
                <a:lnTo>
                  <a:pt x="1485900" y="76200"/>
                </a:lnTo>
                <a:arcTo wR="723900" hR="38100" stAng="0" swAng="-1080000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2590920" y="2743200"/>
            <a:ext cx="45720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4267080" y="2819520"/>
            <a:ext cx="457200" cy="2286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019920" y="2666880"/>
            <a:ext cx="380880" cy="38124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7772400" y="2743200"/>
            <a:ext cx="380880" cy="3808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Block Arc 14"/>
          <p:cNvSpPr/>
          <p:nvPr/>
        </p:nvSpPr>
        <p:spPr>
          <a:xfrm>
            <a:off x="6324480" y="2590920"/>
            <a:ext cx="1676520" cy="759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75960"/>
              <a:gd name="textAreaBottom" fmla="*/ 38160 h 75960"/>
            </a:gdLst>
            <a:ahLst/>
            <a:rect l="textAreaLeft" t="textAreaTop" r="textAreaRight" b="textAreaBottom"/>
            <a:pathLst>
              <a:path w="1676400" h="76200">
                <a:moveTo>
                  <a:pt x="0" y="38099"/>
                </a:moveTo>
                <a:lnTo>
                  <a:pt x="0" y="38099"/>
                </a:lnTo>
                <a:arcTo wR="838200" hR="38100" stAng="-10799996" swAng="10800004"/>
                <a:lnTo>
                  <a:pt x="1657350" y="38100"/>
                </a:lnTo>
                <a:lnTo>
                  <a:pt x="1657350" y="38100"/>
                </a:lnTo>
                <a:arcTo wR="819150" hR="19050" stAng="0" swAng="-1080000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actérisation des groupes socio-économiques des zones des moyens d’existence étudi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Espace réservé du contenu 8" descr=""/>
          <p:cNvPicPr/>
          <p:nvPr/>
        </p:nvPicPr>
        <p:blipFill>
          <a:blip r:embed="rId1"/>
          <a:stretch/>
        </p:blipFill>
        <p:spPr>
          <a:xfrm>
            <a:off x="390600" y="1407960"/>
            <a:ext cx="8240760" cy="5278680"/>
          </a:xfrm>
          <a:prstGeom prst="rect">
            <a:avLst/>
          </a:prstGeom>
          <a:ln w="0">
            <a:noFill/>
          </a:ln>
        </p:spPr>
      </p:pic>
      <p:sp>
        <p:nvSpPr>
          <p:cNvPr id="134" name="Flèche droite 3"/>
          <p:cNvSpPr/>
          <p:nvPr/>
        </p:nvSpPr>
        <p:spPr>
          <a:xfrm>
            <a:off x="3348000" y="4149720"/>
            <a:ext cx="647640" cy="287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lèche droite 4"/>
          <p:cNvSpPr/>
          <p:nvPr/>
        </p:nvSpPr>
        <p:spPr>
          <a:xfrm>
            <a:off x="5435640" y="4005360"/>
            <a:ext cx="504720" cy="3394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0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lèche droite 5"/>
          <p:cNvSpPr/>
          <p:nvPr/>
        </p:nvSpPr>
        <p:spPr>
          <a:xfrm>
            <a:off x="7020000" y="4221000"/>
            <a:ext cx="576360" cy="26856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00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ssession des moyens d existence par les groupes les plus pauvres et les plus ri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143000"/>
          <a:ext cx="8229600" cy="4389480"/>
        </p:xfrm>
        <a:graphic>
          <a:graphicData uri="http://schemas.openxmlformats.org/drawingml/2006/table">
            <a:tbl>
              <a:tblPr/>
              <a:tblGrid>
                <a:gridCol w="822600"/>
                <a:gridCol w="823680"/>
                <a:gridCol w="822240"/>
                <a:gridCol w="824040"/>
                <a:gridCol w="822240"/>
                <a:gridCol w="822600"/>
                <a:gridCol w="823680"/>
                <a:gridCol w="822240"/>
                <a:gridCol w="824040"/>
                <a:gridCol w="822240"/>
              </a:tblGrid>
              <a:tr h="1097640"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Z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ter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Ter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bovins 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bovi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et.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TP &amp;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% pet.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MS Mincho"/>
                        </a:rPr>
                        <a:t>M &amp;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TA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O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M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A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72000" rIns="72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S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MS Mincho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3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MS Mincho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MS Mincho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5760" rIns="957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760" marR="9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457200" y="5943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 flipV="1" rot="10800000">
            <a:off x="456840" y="5723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nantis qui représentent 15 % des ménages (23% de la population totale) possèdent a eux seuls environ  54% du cheptel petit ruminant et 70% du gros chep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1371600" y="3505320"/>
            <a:ext cx="13716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3048120" y="3505320"/>
            <a:ext cx="13716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4648320" y="3505320"/>
            <a:ext cx="1371600" cy="7617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4:00:28Z</dcterms:created>
  <dc:creator>Tanya Boudreau</dc:creator>
  <dc:description/>
  <dc:language>en-US</dc:language>
  <cp:lastModifiedBy>Utilisateur</cp:lastModifiedBy>
  <dcterms:modified xsi:type="dcterms:W3CDTF">2012-04-17T10:32:09Z</dcterms:modified>
  <cp:revision>957</cp:revision>
  <dc:subject/>
  <dc:title>Slide 1</dc:title>
</cp:coreProperties>
</file>