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2.wmf" ContentType="image/x-wmf"/>
  <Override PartName="/ppt/media/image10.wmf" ContentType="image/x-wmf"/>
  <Override PartName="/ppt/media/image11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7552-21C6-4B16-991B-49CE37F1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644-27B5-432F-859C-0882E656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us avez  ici les résultats de la catégorisation des différents groupes socio-économiques. Il est intéressant de notre a la fois en zone agricole, agropastorale te pastorale une forte proportion (60%0 des ménages qui sont considères comme pauvres a tres pauvres. Une extrême pauvreté de plus de 40% particulièrement en Maurit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C0ED-0252-42EE-B891-232C184D66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06A-A808-4B58-A6A4-C354E8DC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146-7DA0-4250-9235-8C2A47D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27D-99CA-4609-A7AE-DA508C38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292-1FD6-4E98-A2E1-6ED28AC1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E3F-C19D-4F73-A05D-184F1597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9A3-C584-4106-990A-2CC2365B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886-6DEA-4A0B-9E2B-AD816E38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282-41EB-42C7-A737-C62EB8A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A4B-1469-4A65-A8AA-DBE2F6F2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9D8-0B1C-40FC-A170-CD1E88D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84D-6E32-48D9-AA5F-8CFE10E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018-F8B4-4A77-8ABB-981A879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274-EBB8-4D53-A342-91B2CDC7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6477120" y="0"/>
            <a:ext cx="2666880" cy="6858000"/>
          </a:xfrm>
          <a:prstGeom prst="rect">
            <a:avLst/>
          </a:prstGeom>
          <a:solidFill>
            <a:srgbClr val="b7b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477120" y="1600200"/>
            <a:ext cx="2666880" cy="380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28600" y="2057400"/>
            <a:ext cx="609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62626"/>
                </a:solidFill>
                <a:latin typeface="Candara"/>
              </a:rPr>
              <a:t>Les transferts sociaux pour la sécurité alimentaire et nutritionnelle dans le sah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62626"/>
                </a:solidFill>
                <a:latin typeface="Candara"/>
              </a:rPr>
              <a:t> </a:t>
            </a:r>
            <a:r>
              <a:rPr b="0" lang="fr-FR" sz="2800" spc="-1" strike="noStrike">
                <a:solidFill>
                  <a:srgbClr val="262626"/>
                </a:solidFill>
                <a:latin typeface="Candara"/>
              </a:rPr>
              <a:t>Burkina Faso,   Av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3" descr="logo_ECHO.png"/>
          <p:cNvPicPr/>
          <p:nvPr/>
        </p:nvPicPr>
        <p:blipFill>
          <a:blip r:embed="rId1"/>
          <a:stretch/>
        </p:blipFill>
        <p:spPr>
          <a:xfrm>
            <a:off x="5181480" y="5562720"/>
            <a:ext cx="1243080" cy="110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logos"/>
          <p:cNvPicPr/>
          <p:nvPr/>
        </p:nvPicPr>
        <p:blipFill>
          <a:blip r:embed="rId2"/>
          <a:srcRect l="2045" t="16987" r="65977" b="13703"/>
          <a:stretch/>
        </p:blipFill>
        <p:spPr>
          <a:xfrm>
            <a:off x="380880" y="5867280"/>
            <a:ext cx="2016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Zone de cultures pluv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250920" y="1052640"/>
          <a:ext cx="4465440" cy="27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46544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3924360" y="3849840"/>
          <a:ext cx="5040360" cy="2579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849840"/>
                    <a:ext cx="504036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5"/>
          <p:cNvSpPr/>
          <p:nvPr/>
        </p:nvSpPr>
        <p:spPr>
          <a:xfrm flipV="1" rot="10800000">
            <a:off x="456840" y="4530600"/>
            <a:ext cx="335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ans une même ZME, un même village,  les ménages riches/moyens se nourrissent de leur propre production et les pauvres des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Zone de cultures pluv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324000" y="771480"/>
          <a:ext cx="4968720" cy="30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71480"/>
                    <a:ext cx="496872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4211640" y="3786120"/>
          <a:ext cx="4932360" cy="298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6120"/>
                    <a:ext cx="4932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4"/>
          <p:cNvSpPr/>
          <p:nvPr/>
        </p:nvSpPr>
        <p:spPr>
          <a:xfrm>
            <a:off x="533520" y="434340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ménages riches vivent de leur production et les ménages pauvres de la vente de leur force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‘agriculture sahélienne n‘est plus une agriculture de subsista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76040" y="112680"/>
          <a:ext cx="5259600" cy="32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12680"/>
                    <a:ext cx="525960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3809880" y="3414600"/>
          <a:ext cx="5334120" cy="32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414600"/>
                    <a:ext cx="533412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3"/>
          <p:cNvSpPr/>
          <p:nvPr/>
        </p:nvSpPr>
        <p:spPr>
          <a:xfrm flipV="1" rot="10800000">
            <a:off x="457200" y="39700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 les 2 Zones de moyen d'existence, les ménages pauvres sont pratiquement exclus du système de production      ( agricole et animali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3276720" y="3376440"/>
          <a:ext cx="5621040" cy="33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376440"/>
                    <a:ext cx="5621040" cy="33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324000" y="189000"/>
          <a:ext cx="5327640" cy="325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9000"/>
                    <a:ext cx="53276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3"/>
          <p:cNvSpPr/>
          <p:nvPr/>
        </p:nvSpPr>
        <p:spPr>
          <a:xfrm>
            <a:off x="304920" y="3962520"/>
            <a:ext cx="281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ès forte dépendance de tous les ménages du marché,  plus particulièrement des Très Pauvres et Pauvres  pour les al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e qui  rend les menages pauvres très vulnérables face à une hausse des prix des denrées ali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ême dans les zones agricoles,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'ambition des ménages est de posséder les animaux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457200" y="2895480"/>
          <a:ext cx="82296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229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Oval 3"/>
          <p:cNvSpPr/>
          <p:nvPr/>
        </p:nvSpPr>
        <p:spPr>
          <a:xfrm>
            <a:off x="6324480" y="3962520"/>
            <a:ext cx="1143000" cy="12189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4343400" y="3962520"/>
            <a:ext cx="1143000" cy="12189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es ménages pauvres n‘arrivent pas à protéger leur capital minimum, ni à investir dans leur futu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298440" y="404640"/>
          <a:ext cx="8845560" cy="63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404640"/>
                    <a:ext cx="8845560" cy="63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Straight Connector 3"/>
          <p:cNvSpPr/>
          <p:nvPr/>
        </p:nvSpPr>
        <p:spPr>
          <a:xfrm flipH="1">
            <a:off x="609480" y="2819520"/>
            <a:ext cx="82296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eft-Right Arrow 4"/>
          <p:cNvSpPr/>
          <p:nvPr/>
        </p:nvSpPr>
        <p:spPr>
          <a:xfrm>
            <a:off x="762120" y="2819520"/>
            <a:ext cx="8381880" cy="7596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eft-Right Arrow 6"/>
          <p:cNvSpPr/>
          <p:nvPr/>
        </p:nvSpPr>
        <p:spPr>
          <a:xfrm>
            <a:off x="762120" y="3733920"/>
            <a:ext cx="8229600" cy="15228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es enfants issus des ménages les plus pauvres sont à risque de malnutri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caractéristiques de la pauvreté rurale au Sahel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br>
              <a:rPr sz="24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enseignements des études « Analyse Economie des Ménages » réalisées dans 6 pays du Sahel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115920" y="635040"/>
            <a:ext cx="8956800" cy="561636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6"/>
          <p:cNvCxnSpPr/>
          <p:nvPr/>
        </p:nvCxnSpPr>
        <p:spPr>
          <a:xfrm>
            <a:off x="762120" y="2133360"/>
            <a:ext cx="815400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182" name="Left-Right Arrow 12"/>
          <p:cNvSpPr/>
          <p:nvPr/>
        </p:nvSpPr>
        <p:spPr>
          <a:xfrm>
            <a:off x="685800" y="2133720"/>
            <a:ext cx="8229600" cy="46080"/>
          </a:xfrm>
          <a:prstGeom prst="leftRightArrow">
            <a:avLst>
              <a:gd name="adj1" fmla="val 50000"/>
              <a:gd name="adj2" fmla="val 4960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395280" y="1557360"/>
          <a:ext cx="453708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45370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"/>
          <p:cNvSpPr/>
          <p:nvPr/>
        </p:nvSpPr>
        <p:spPr>
          <a:xfrm>
            <a:off x="5410080" y="175248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85% des foyers o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les enfants souffrent de la malnutrition aigue proviennent des groupes des pauvres et de très pau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80880" y="376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rofil  de la malnutrition (cas de Tessaou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457200" y="2136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a malnutrition au sahel est elle une malnutrition de la pauvreté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2"/>
          <p:cNvSpPr/>
          <p:nvPr/>
        </p:nvSpPr>
        <p:spPr>
          <a:xfrm>
            <a:off x="609480" y="27432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64d68"/>
                </a:solidFill>
                <a:latin typeface="Century Gothic"/>
              </a:rPr>
              <a:t>MERC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4d68"/>
                </a:solidFill>
                <a:latin typeface="Century Gothic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0120" y="17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4600080"/>
            <a:ext cx="91440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1" descr="delme"/>
          <p:cNvPicPr/>
          <p:nvPr/>
        </p:nvPicPr>
        <p:blipFill>
          <a:blip r:embed="rId1"/>
          <a:stretch/>
        </p:blipFill>
        <p:spPr>
          <a:xfrm>
            <a:off x="0" y="-1440"/>
            <a:ext cx="9144000" cy="4601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943560" y="21924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046160" y="260676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83240" y="194148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559520" y="243828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4398120" y="331776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2547360" y="3238560"/>
            <a:ext cx="25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3444480" y="2300400"/>
            <a:ext cx="307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2278080" y="3651120"/>
            <a:ext cx="223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156920" y="287172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5190120" y="254484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5474520" y="29448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3673800" y="212868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5195160" y="282240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761400" y="236520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5483880" y="2668680"/>
            <a:ext cx="3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226920" y="3009960"/>
            <a:ext cx="313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3434040" y="320508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2835000" y="250524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3122280" y="2708280"/>
            <a:ext cx="26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3572640" y="296064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8"/>
          <p:cNvSpPr/>
          <p:nvPr/>
        </p:nvSpPr>
        <p:spPr>
          <a:xfrm>
            <a:off x="1986840" y="296064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0"/>
          <p:cNvSpPr/>
          <p:nvPr/>
        </p:nvSpPr>
        <p:spPr>
          <a:xfrm>
            <a:off x="715320" y="298116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1"/>
          <p:cNvSpPr/>
          <p:nvPr/>
        </p:nvSpPr>
        <p:spPr>
          <a:xfrm>
            <a:off x="656280" y="260676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2"/>
          <p:cNvSpPr/>
          <p:nvPr/>
        </p:nvSpPr>
        <p:spPr>
          <a:xfrm>
            <a:off x="5282280" y="31194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5763960" y="318132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4"/>
          <p:cNvSpPr/>
          <p:nvPr/>
        </p:nvSpPr>
        <p:spPr>
          <a:xfrm>
            <a:off x="5766480" y="29034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3812040" y="312408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4572000"/>
            <a:ext cx="9144000" cy="27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uritanie                  Mali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Burkina Faso                                                                                     Niger cont.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– Nouakchott           H – Kita                                        O – Sanmemtenga                                                                             V – Madarounf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i-urbain              I - Kolondieba                              P – Sen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W – Tessaoua Nord sédenta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 – Monguel              J - Yorosso                                   Q - Gnagna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X – Tessaoua Sud-Cent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 – Gorgol                  K – Niono (Office du Niger)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Y – Magaria -Kantch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 – Guidimaka           L - Bandiagara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g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Z – Magaria Cent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 – Aioun                    M – Témér                                    R – Ouallam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Ω – Maïné Soro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énégal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 – Tarkint                                   S - Doss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 - Matam                                                                         T – Dakoro - Bor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 – Tambacounda                                                           U – Dakoro - katsin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"/>
          <p:cNvPicPr/>
          <p:nvPr/>
        </p:nvPicPr>
        <p:blipFill>
          <a:blip r:embed="rId2"/>
          <a:stretch/>
        </p:blipFill>
        <p:spPr>
          <a:xfrm>
            <a:off x="3807000" y="17640"/>
            <a:ext cx="1884240" cy="1409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8"/>
          <p:cNvSpPr/>
          <p:nvPr/>
        </p:nvSpPr>
        <p:spPr>
          <a:xfrm>
            <a:off x="4842360" y="70164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9"/>
          <p:cNvSpPr/>
          <p:nvPr/>
        </p:nvSpPr>
        <p:spPr>
          <a:xfrm>
            <a:off x="4737600" y="2844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7"/>
          <p:cNvSpPr/>
          <p:nvPr/>
        </p:nvSpPr>
        <p:spPr>
          <a:xfrm>
            <a:off x="380880" y="16002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ns la pratique ce processus est décliné en six ét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154080" y="3581280"/>
            <a:ext cx="8920080" cy="26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179280" y="3103560"/>
            <a:ext cx="8856720" cy="47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914400" y="3214800"/>
            <a:ext cx="1523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211640" y="3198960"/>
            <a:ext cx="1295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L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2438280" y="321948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435640" y="3206880"/>
            <a:ext cx="1584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7296120" y="3201840"/>
            <a:ext cx="1523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SULT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5148360" y="3213000"/>
            <a:ext cx="30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7018200" y="321300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380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Vue Globale du cadre de l’AEM: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54080" y="3581280"/>
            <a:ext cx="8920080" cy="26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7"/>
          <p:cNvGrpSpPr/>
          <p:nvPr/>
        </p:nvGrpSpPr>
        <p:grpSpPr>
          <a:xfrm>
            <a:off x="3786120" y="3705120"/>
            <a:ext cx="5214960" cy="2295720"/>
            <a:chOff x="3786120" y="3705120"/>
            <a:chExt cx="5214960" cy="2295720"/>
          </a:xfrm>
        </p:grpSpPr>
        <p:sp>
          <p:nvSpPr>
            <p:cNvPr id="101" name="Rectangle 3"/>
            <p:cNvSpPr/>
            <p:nvPr/>
          </p:nvSpPr>
          <p:spPr>
            <a:xfrm>
              <a:off x="4976640" y="3705120"/>
              <a:ext cx="29574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800000"/>
                  </a:solidFill>
                  <a:latin typeface="Arial"/>
                </a:rPr>
                <a:t>OUTCOME ANALYS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4271760" y="4186080"/>
              <a:ext cx="4579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99"/>
                  </a:solidFill>
                  <a:latin typeface="Arial"/>
                </a:rPr>
                <a:t>Step  4                          Step 5                             Step 6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 rot="16200000">
              <a:off x="6364440" y="2169000"/>
              <a:ext cx="259200" cy="3849840"/>
            </a:xfrm>
            <a:custGeom>
              <a:avLst/>
              <a:gdLst>
                <a:gd name="textAreaLeft" fmla="*/ 0 w 259200"/>
                <a:gd name="textAreaRight" fmla="*/ 93600 w 259200"/>
                <a:gd name="textAreaTop" fmla="*/ 100080 h 3849840"/>
                <a:gd name="textAreaBottom" fmla="*/ 3749760 h 38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6" descr=""/>
            <p:cNvPicPr/>
            <p:nvPr/>
          </p:nvPicPr>
          <p:blipFill>
            <a:blip r:embed="rId1"/>
            <a:srcRect l="46736" t="39681" r="35222" b="17431"/>
            <a:stretch/>
          </p:blipFill>
          <p:spPr>
            <a:xfrm>
              <a:off x="5802120" y="4482720"/>
              <a:ext cx="1217880" cy="151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5" name="Picture 12" descr=""/>
            <p:cNvPicPr/>
            <p:nvPr/>
          </p:nvPicPr>
          <p:blipFill>
            <a:blip r:embed="rId2"/>
            <a:stretch/>
          </p:blipFill>
          <p:spPr>
            <a:xfrm>
              <a:off x="7272000" y="4482720"/>
              <a:ext cx="1729080" cy="149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106" name="Object 8"/>
            <p:cNvGraphicFramePr/>
            <p:nvPr/>
          </p:nvGraphicFramePr>
          <p:xfrm>
            <a:off x="4050720" y="4482720"/>
            <a:ext cx="1522080" cy="14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50720" y="4482720"/>
                      <a:ext cx="1522080" cy="14810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8" name="Rectangle 11"/>
            <p:cNvSpPr/>
            <p:nvPr/>
          </p:nvSpPr>
          <p:spPr>
            <a:xfrm>
              <a:off x="4198680" y="4792680"/>
              <a:ext cx="1190520" cy="26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Arial"/>
                </a:rPr>
                <a:t>Compiled from data collected during seasonal assessments or monitorin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5816520" y="4816440"/>
              <a:ext cx="1190520" cy="11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Data collected during baselin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3786120" y="5038920"/>
              <a:ext cx="315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545080" y="5038920"/>
              <a:ext cx="314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6962760" y="5038920"/>
              <a:ext cx="315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8" descr="C:\Users\Alexandra King\Documents\Work\Ethiopia LIU\Outcome Analysis TOT June 2008\Baseline.png"/>
          <p:cNvPicPr/>
          <p:nvPr/>
        </p:nvPicPr>
        <p:blipFill>
          <a:blip r:embed="rId5"/>
          <a:stretch/>
        </p:blipFill>
        <p:spPr>
          <a:xfrm>
            <a:off x="214200" y="3697200"/>
            <a:ext cx="3657600" cy="2374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0" y="990720"/>
            <a:ext cx="9144000" cy="152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es ménages pauvres sont de petite taille et ont peu d‘actifs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 Bandiagara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457200" y="2133720"/>
          <a:ext cx="82296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229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Oval 4"/>
          <p:cNvSpPr/>
          <p:nvPr/>
        </p:nvSpPr>
        <p:spPr>
          <a:xfrm>
            <a:off x="3886200" y="4343400"/>
            <a:ext cx="609480" cy="13716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809880" y="2743200"/>
            <a:ext cx="609840" cy="1219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 des fortes inégalités dans le monde rural sahélie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d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nages pauvres dans la population totale selon les z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609480" y="1371600"/>
          <a:ext cx="7683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83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itle 2"/>
          <p:cNvSpPr/>
          <p:nvPr/>
        </p:nvSpPr>
        <p:spPr>
          <a:xfrm>
            <a:off x="38088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yenne plus de la moitie de la population totale est considéré comme pauvre et très pauv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Block Arc 7"/>
          <p:cNvSpPr/>
          <p:nvPr/>
        </p:nvSpPr>
        <p:spPr>
          <a:xfrm>
            <a:off x="2895480" y="2666880"/>
            <a:ext cx="1524240" cy="1526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52640"/>
              <a:gd name="textAreaBottom" fmla="*/ 76320 h 152640"/>
            </a:gdLst>
            <a:ahLst/>
            <a:rect l="textAreaLeft" t="textAreaTop" r="textAreaRight" b="textAreaBottom"/>
            <a:pathLst>
              <a:path w="1524000" h="152400">
                <a:moveTo>
                  <a:pt x="0" y="76199"/>
                </a:moveTo>
                <a:lnTo>
                  <a:pt x="0" y="76199"/>
                </a:lnTo>
                <a:arcTo wR="762000" hR="76200" stAng="-10799995" swAng="10800005"/>
                <a:lnTo>
                  <a:pt x="1485900" y="76200"/>
                </a:lnTo>
                <a:lnTo>
                  <a:pt x="1485900" y="76200"/>
                </a:lnTo>
                <a:arcTo wR="723900" hR="38100" stAng="0" swAng="-1080000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2590920" y="2743200"/>
            <a:ext cx="45720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4267080" y="2819520"/>
            <a:ext cx="457200" cy="2286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019920" y="2666880"/>
            <a:ext cx="380880" cy="3812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7772400" y="2743200"/>
            <a:ext cx="38088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Block Arc 14"/>
          <p:cNvSpPr/>
          <p:nvPr/>
        </p:nvSpPr>
        <p:spPr>
          <a:xfrm>
            <a:off x="6324480" y="2590920"/>
            <a:ext cx="1676520" cy="75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5960"/>
              <a:gd name="textAreaBottom" fmla="*/ 38160 h 75960"/>
            </a:gdLst>
            <a:ahLst/>
            <a:rect l="textAreaLeft" t="textAreaTop" r="textAreaRight" b="textAreaBottom"/>
            <a:pathLst>
              <a:path w="1676400" h="76200">
                <a:moveTo>
                  <a:pt x="0" y="38099"/>
                </a:moveTo>
                <a:lnTo>
                  <a:pt x="0" y="38099"/>
                </a:lnTo>
                <a:arcTo wR="838200" hR="38100" stAng="-10799996" swAng="10800004"/>
                <a:lnTo>
                  <a:pt x="1657350" y="38100"/>
                </a:lnTo>
                <a:lnTo>
                  <a:pt x="1657350" y="38100"/>
                </a:lnTo>
                <a:arcTo wR="819150" hR="19050" stAng="0" swAng="-1080000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actérisation des groupes socio-économiques des zones des moyens d’existence étud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Espace réservé du contenu 8" descr=""/>
          <p:cNvPicPr/>
          <p:nvPr/>
        </p:nvPicPr>
        <p:blipFill>
          <a:blip r:embed="rId1"/>
          <a:stretch/>
        </p:blipFill>
        <p:spPr>
          <a:xfrm>
            <a:off x="390600" y="1407960"/>
            <a:ext cx="8240760" cy="5278680"/>
          </a:xfrm>
          <a:prstGeom prst="rect">
            <a:avLst/>
          </a:prstGeom>
          <a:ln w="0">
            <a:noFill/>
          </a:ln>
        </p:spPr>
      </p:pic>
      <p:sp>
        <p:nvSpPr>
          <p:cNvPr id="134" name="Flèche droite 3"/>
          <p:cNvSpPr/>
          <p:nvPr/>
        </p:nvSpPr>
        <p:spPr>
          <a:xfrm>
            <a:off x="3348000" y="4149720"/>
            <a:ext cx="647640" cy="287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lèche droite 4"/>
          <p:cNvSpPr/>
          <p:nvPr/>
        </p:nvSpPr>
        <p:spPr>
          <a:xfrm>
            <a:off x="5435640" y="4005360"/>
            <a:ext cx="504720" cy="3394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0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lèche droite 5"/>
          <p:cNvSpPr/>
          <p:nvPr/>
        </p:nvSpPr>
        <p:spPr>
          <a:xfrm>
            <a:off x="7020000" y="4221000"/>
            <a:ext cx="576360" cy="26856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0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ssession des moyens d existence par les groupes les plus pauvres et les plus ri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143000"/>
          <a:ext cx="8229600" cy="438948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4040"/>
                <a:gridCol w="822240"/>
                <a:gridCol w="822600"/>
                <a:gridCol w="823680"/>
                <a:gridCol w="822240"/>
                <a:gridCol w="824040"/>
                <a:gridCol w="822240"/>
              </a:tblGrid>
              <a:tr h="1097640"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ter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Ter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bovins 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bovi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et.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et.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TA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A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457200" y="5943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 flipV="1" rot="10800000">
            <a:off x="456840" y="5723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nantis qui représentent 15 % des ménages (23% de la population totale) possèdent a eux seuls environ  54% du cheptel petit ruminant et 70% du gros chep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1371600" y="3505320"/>
            <a:ext cx="13716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3048120" y="3505320"/>
            <a:ext cx="13716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4648320" y="3505320"/>
            <a:ext cx="13716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4:00:28Z</dcterms:created>
  <dc:creator>Tanya Boudreau</dc:creator>
  <dc:description/>
  <dc:language>en-US</dc:language>
  <cp:lastModifiedBy>Utilisateur</cp:lastModifiedBy>
  <dcterms:modified xsi:type="dcterms:W3CDTF">2012-04-17T10:32:09Z</dcterms:modified>
  <cp:revision>957</cp:revision>
  <dc:subject/>
  <dc:title>Slide 1</dc:title>
</cp:coreProperties>
</file>