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13E7-048D-4C1F-B655-38014FB6FC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79F5-8289-46C5-962F-807D5103B7A7}" type="slidenum">
              <a:rPr b="0" lang="en-GB" sz="1200" spc="-1" strike="noStrike">
                <a:solidFill>
                  <a:srgbClr val="daf7f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7F6-6FF1-428B-B6F0-A4157644BDF8}" type="slidenum">
              <a:rPr b="0" lang="en-GB" sz="1200" spc="-1" strike="noStrike">
                <a:solidFill>
                  <a:srgbClr val="daf7f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7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2" name="Picture 19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3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40" name="Rectangle 1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41" name="Picture 15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avethechildren.org.uk/resources/online-library/the-cost-of-the-diet" TargetMode="External"/><Relationship Id="rId3" Type="http://schemas.openxmlformats.org/officeDocument/2006/relationships/hyperlink" Target="http://www.savethechildren.org.uk/resources/online-library/the-cost-of-the-diet" TargetMode="External"/><Relationship Id="rId4" Type="http://schemas.openxmlformats.org/officeDocument/2006/relationships/hyperlink" Target="http://www.savethechildren.org.uk/resources/online-library/the-cost-of-the-diet" TargetMode="External"/><Relationship Id="rId5" Type="http://schemas.openxmlformats.org/officeDocument/2006/relationships/hyperlink" Target="http://www.savethechildren.org.uk/resources/online-library/the-cost-of-the-diet" TargetMode="External"/><Relationship Id="rId6" Type="http://schemas.openxmlformats.org/officeDocument/2006/relationships/hyperlink" Target="http://www.savethechildren.org.uk/resources/online-library/the-cost-of-the-diet" TargetMode="External"/><Relationship Id="rId7" Type="http://schemas.openxmlformats.org/officeDocument/2006/relationships/hyperlink" Target="http://www.savethechildren.org.uk/resources/online-library/the-cost-of-the-diet" TargetMode="External"/><Relationship Id="rId8" Type="http://schemas.openxmlformats.org/officeDocument/2006/relationships/hyperlink" Target="http://www.savethechildren.org.uk/resources/online-library/the-cost-of-the-diet" TargetMode="External"/><Relationship Id="rId9" Type="http://schemas.openxmlformats.org/officeDocument/2006/relationships/hyperlink" Target="http://www.savethechildren.org.uk/resources/online-library/the-cost-of-the-diet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1557360"/>
            <a:ext cx="561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af7f2"/>
                </a:solidFill>
                <a:latin typeface="Arial"/>
              </a:rPr>
              <a:t>Cost of Diet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daf7f2"/>
                </a:solidFill>
                <a:latin typeface="Arial"/>
              </a:rPr>
              <a:t>Coût du régime alimentaire</a:t>
            </a: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6" name="Picture 20" descr="IMG_0721"/>
          <p:cNvPicPr/>
          <p:nvPr/>
        </p:nvPicPr>
        <p:blipFill>
          <a:blip r:embed="rId1"/>
          <a:stretch/>
        </p:blipFill>
        <p:spPr>
          <a:xfrm>
            <a:off x="611280" y="1844640"/>
            <a:ext cx="266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1061640"/>
            <a:ext cx="8497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Arial"/>
              </a:rPr>
              <a:t>……</a:t>
            </a:r>
            <a:r>
              <a:rPr b="0" lang="en-GB" sz="40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carences en micro nutriments: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187280" y="1701720"/>
            <a:ext cx="691380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Oval 5"/>
          <p:cNvSpPr/>
          <p:nvPr/>
        </p:nvSpPr>
        <p:spPr>
          <a:xfrm rot="2700000">
            <a:off x="1574640" y="5272920"/>
            <a:ext cx="228600" cy="571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6" name="Oval 6"/>
          <p:cNvSpPr/>
          <p:nvPr/>
        </p:nvSpPr>
        <p:spPr>
          <a:xfrm rot="2700000">
            <a:off x="2439720" y="5128560"/>
            <a:ext cx="228600" cy="571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7" name="Oval 7"/>
          <p:cNvSpPr/>
          <p:nvPr/>
        </p:nvSpPr>
        <p:spPr>
          <a:xfrm rot="2700000">
            <a:off x="2871360" y="5202360"/>
            <a:ext cx="228600" cy="571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 rot="2700000">
            <a:off x="5985000" y="5183280"/>
            <a:ext cx="412560" cy="1079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 rot="2700000">
            <a:off x="5464080" y="5272920"/>
            <a:ext cx="228600" cy="571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6649200" y="18900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daf7f2"/>
                </a:solidFill>
                <a:latin typeface="Times New Roman"/>
              </a:rPr>
              <a:t>Zinder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12356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Conclusion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Pas de problème de disponibilité 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(sauf exception) ……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.. mais une barrière économiqu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435360" y="18900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daf7f2"/>
                </a:solidFill>
                <a:latin typeface="Times New Roman"/>
              </a:rPr>
              <a:t>Zinder</a:t>
            </a:r>
            <a:endParaRPr b="1" lang="en-US" sz="4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2349000"/>
            <a:ext cx="80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daf7f2"/>
                </a:solidFill>
                <a:latin typeface="Arial"/>
              </a:rPr>
              <a:t>Modélisation de scénarii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Sc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nario</a:t>
            </a: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 : 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af7f2"/>
                </a:solidFill>
                <a:latin typeface="Arial"/>
              </a:rPr>
              <a:t>Transferts monétaires:</a:t>
            </a:r>
            <a:endParaRPr b="0" lang="en-US" sz="2800" spc="-1" strike="noStrike">
              <a:solidFill>
                <a:srgbClr val="daf7f2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2060640"/>
            <a:ext cx="6394320" cy="4271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402240" y="2492280"/>
            <a:ext cx="2772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af7f2"/>
                </a:solidFill>
                <a:latin typeface="Times New Roman"/>
              </a:rPr>
              <a:t>Revenu de très pauvre:       </a:t>
            </a:r>
            <a:r>
              <a:rPr b="1" lang="en-GB" sz="2000" spc="-1" strike="noStrike">
                <a:solidFill>
                  <a:srgbClr val="daf7f2"/>
                </a:solidFill>
                <a:latin typeface="Times New Roman"/>
              </a:rPr>
              <a:t>252,229 FCFA/ an</a:t>
            </a: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af7f2"/>
                </a:solidFill>
                <a:latin typeface="Times New Roman"/>
              </a:rPr>
              <a:t>Coût de régime: </a:t>
            </a:r>
            <a:r>
              <a:rPr b="1" lang="en-GB" sz="2000" spc="-1" strike="noStrike">
                <a:solidFill>
                  <a:srgbClr val="daf7f2"/>
                </a:solidFill>
                <a:latin typeface="Times New Roman"/>
              </a:rPr>
              <a:t>405,022 FCFA/ an</a:t>
            </a: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5daf"/>
                </a:solidFill>
                <a:latin typeface="Times New Roman"/>
              </a:rPr>
              <a:t>Gap à combler: </a:t>
            </a:r>
            <a:r>
              <a:rPr b="0" lang="en-GB" sz="2400" spc="-1" strike="noStrike">
                <a:solidFill>
                  <a:srgbClr val="ff5daf"/>
                </a:solidFill>
                <a:latin typeface="Times New Roman"/>
              </a:rPr>
              <a:t>152,793FCFA/ an 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Sc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nario</a:t>
            </a: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: 2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Élevage: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79280" y="2492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5daf"/>
                </a:solidFill>
                <a:latin typeface="Arial"/>
              </a:rPr>
              <a:t>En facilitant l’accès au lait, le coût du régime se réduit considérablement   (134.028 F)</a:t>
            </a:r>
            <a:r>
              <a:rPr b="1" lang="en-GB" sz="2400" spc="-1" strike="noStrike">
                <a:solidFill>
                  <a:srgbClr val="daf7f2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Sc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nario: 3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Complément nutritionnel, de type</a:t>
            </a:r>
            <a:r>
              <a:rPr b="0" lang="en-GB" sz="3200" spc="-1" strike="noStrike">
                <a:solidFill>
                  <a:srgbClr val="daf7f2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spirulin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5daf"/>
                </a:solidFill>
                <a:latin typeface="Arial"/>
              </a:rPr>
              <a:t>La réduction du coût de régime serait insignifiante 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5daf"/>
                </a:solidFill>
                <a:latin typeface="Arial"/>
              </a:rPr>
              <a:t>(réduit de 1.8%; coût = 397,825CFA)</a:t>
            </a:r>
            <a:endParaRPr b="0" lang="en-US" sz="2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0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af7f2"/>
                </a:solidFill>
                <a:latin typeface="Arial"/>
              </a:rPr>
              <a:t>Orientation des programme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82e1d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Transferts monétaires</a:t>
            </a:r>
            <a:endParaRPr b="0" lang="en-US" sz="4400" spc="-1" strike="noStrike">
              <a:solidFill>
                <a:srgbClr val="daf7f2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82e1d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Appui à l’élevage pour faciliter l’accès au lait</a:t>
            </a:r>
            <a:endParaRPr b="0" lang="en-US" sz="4400" spc="-1" strike="noStrike">
              <a:solidFill>
                <a:srgbClr val="daf7f2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IMG_0717"/>
          <p:cNvPicPr/>
          <p:nvPr/>
        </p:nvPicPr>
        <p:blipFill>
          <a:blip r:embed="rId1"/>
          <a:stretch/>
        </p:blipFill>
        <p:spPr>
          <a:xfrm>
            <a:off x="1187280" y="1484280"/>
            <a:ext cx="6624720" cy="4032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5765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3"/>
              </a:rPr>
              <a:t>www.savethechildren.org.uk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4"/>
              </a:rPr>
              <a:t>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5"/>
              </a:rPr>
              <a:t>resources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6"/>
              </a:rPr>
              <a:t>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7"/>
              </a:rPr>
              <a:t>online-library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8"/>
              </a:rPr>
              <a:t>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9"/>
              </a:rPr>
              <a:t>the-cost-of-the-diet</a:t>
            </a: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4436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daf7f2"/>
                </a:solidFill>
                <a:latin typeface="Arial"/>
              </a:rPr>
              <a:t>Merci</a:t>
            </a:r>
            <a:endParaRPr b="0" lang="en-US" sz="6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5280" y="198000"/>
            <a:ext cx="50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bjectifs de l’outi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Déterminer si 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  <a:ea typeface="Arial"/>
              </a:rPr>
              <a:t>à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 partir des aliments qui sont disponibles localement, on peut obtenir une alimentation équilibré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Calculer le coût de régime par groupe socio-économiqu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Déterminer si les ménages ont un accès 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  <a:ea typeface="Arial"/>
              </a:rPr>
              <a:t>à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 une alimentation équilibré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31528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Modèle causal de la malnutrition :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332000" y="1844640"/>
            <a:ext cx="6335280" cy="4176720"/>
            <a:chOff x="1332000" y="1844640"/>
            <a:chExt cx="6335280" cy="4176720"/>
          </a:xfrm>
        </p:grpSpPr>
        <p:sp>
          <p:nvSpPr>
            <p:cNvPr id="91" name="Text Box 5"/>
            <p:cNvSpPr/>
            <p:nvPr/>
          </p:nvSpPr>
          <p:spPr>
            <a:xfrm>
              <a:off x="4678920" y="1844640"/>
              <a:ext cx="1553760" cy="34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Malnutrition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3364200" y="2525400"/>
              <a:ext cx="2031840" cy="510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Alimentation </a:t>
              </a: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inappropriée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5635440" y="2525400"/>
              <a:ext cx="1553760" cy="510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Problème de santé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32000" y="2525400"/>
              <a:ext cx="1553760" cy="51048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Causes immédiates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5" name="Line 9"/>
            <p:cNvSpPr/>
            <p:nvPr/>
          </p:nvSpPr>
          <p:spPr>
            <a:xfrm flipV="1">
              <a:off x="4320360" y="2184840"/>
              <a:ext cx="95616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 flipH="1" flipV="1">
              <a:off x="5754960" y="2184840"/>
              <a:ext cx="59760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1332000" y="3376440"/>
              <a:ext cx="1553760" cy="510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Causes sous-jacentes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3123000" y="3297240"/>
              <a:ext cx="1553760" cy="68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Insécurité alimentaire des ménages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113520" y="3297240"/>
              <a:ext cx="1553760" cy="68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Santé publique et hygiène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4559400" y="3808080"/>
              <a:ext cx="1673640" cy="68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Pratiques de soin et environnement social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V="1">
              <a:off x="3842280" y="2956320"/>
              <a:ext cx="47808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 flipV="1">
              <a:off x="6472080" y="2956320"/>
              <a:ext cx="47808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 flipV="1">
              <a:off x="4678920" y="2956680"/>
              <a:ext cx="71712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5396400" y="2956680"/>
              <a:ext cx="95616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>
              <a:off x="1332000" y="5000040"/>
              <a:ext cx="1553760" cy="5104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Causes de base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6" name="Text Box 20"/>
            <p:cNvSpPr/>
            <p:nvPr/>
          </p:nvSpPr>
          <p:spPr>
            <a:xfrm>
              <a:off x="3005280" y="5000040"/>
              <a:ext cx="4662000" cy="102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moyens d’existence,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Priorités locales,  contexte politique, social, culturel et économique,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Institutions, organisations formelles et informelles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Ressources potentielles (humaines, naturelles, structurelles, financières)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>
              <a:off x="4200840" y="4488840"/>
              <a:ext cx="2151360" cy="510840"/>
            </a:xfrm>
            <a:prstGeom prst="upArrow">
              <a:avLst>
                <a:gd name="adj1" fmla="val 50000"/>
                <a:gd name="adj2" fmla="val 44444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</p:grpSp>
      <p:sp>
        <p:nvSpPr>
          <p:cNvPr id="108" name="Oval 23"/>
          <p:cNvSpPr/>
          <p:nvPr/>
        </p:nvSpPr>
        <p:spPr>
          <a:xfrm>
            <a:off x="3203640" y="2276640"/>
            <a:ext cx="1701720" cy="1800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19808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iste des aliments disponibles localement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es prix (100g) des aliments par saison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a composition du ménag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Interprétation et analyse des données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es données sur les revenus des ménages provenant des études HEA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 flipV="1">
            <a:off x="1523880" y="24382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995280" y="198000"/>
            <a:ext cx="50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Méthode de calcu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1557360"/>
            <a:ext cx="8064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daf7f2"/>
                </a:solidFill>
                <a:latin typeface="Arial"/>
              </a:rPr>
              <a:t>Étude de cas: </a:t>
            </a:r>
            <a:br>
              <a:rPr sz="4800"/>
            </a:br>
            <a:r>
              <a:rPr b="1" lang="fr-FR" sz="4800" spc="-1" strike="noStrike">
                <a:solidFill>
                  <a:srgbClr val="daf7f2"/>
                </a:solidFill>
                <a:latin typeface="Arial"/>
              </a:rPr>
              <a:t>Tessaoua et Zinder au Niger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Coût annuel de régime physiol/per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2050920" y="1828800"/>
          <a:ext cx="7093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28800"/>
                    <a:ext cx="7093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9"/>
          <p:cNvSpPr/>
          <p:nvPr/>
        </p:nvSpPr>
        <p:spPr>
          <a:xfrm>
            <a:off x="0" y="3933720"/>
            <a:ext cx="190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Ménages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TP= 47939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P= 47357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M= 31566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N= 18876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Revenu annuel / personn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20" name="Object 10"/>
          <p:cNvGraphicFramePr/>
          <p:nvPr/>
        </p:nvGraphicFramePr>
        <p:xfrm>
          <a:off x="2050920" y="1916280"/>
          <a:ext cx="7093080" cy="44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709308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1"/>
          <p:cNvSpPr/>
          <p:nvPr/>
        </p:nvSpPr>
        <p:spPr>
          <a:xfrm>
            <a:off x="0" y="2924280"/>
            <a:ext cx="19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TP= 32995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P= 44890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M =89084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N= 126484</a:t>
            </a: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0" y="531972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RN= 4RTP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RESULTATS: COMPARAISON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108000" y="1844640"/>
          <a:ext cx="89978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44640"/>
                    <a:ext cx="89978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RESULTATS: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34920" y="1614600"/>
          <a:ext cx="9088560" cy="47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14600"/>
                    <a:ext cx="908856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5:05:56Z</dcterms:created>
  <dc:creator>--</dc:creator>
  <dc:description/>
  <dc:language>en-US</dc:language>
  <cp:lastModifiedBy>same.coord</cp:lastModifiedBy>
  <cp:lastPrinted>2003-02-26T16:36:03Z</cp:lastPrinted>
  <dcterms:modified xsi:type="dcterms:W3CDTF">2012-04-18T08:53:35Z</dcterms:modified>
  <cp:revision>330</cp:revision>
  <dc:subject/>
  <dc:title>Vision</dc:title>
</cp:coreProperties>
</file>