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3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EA8F-EAB1-4AFA-A529-F4DE93808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B6C2-7F8E-4C19-8A61-E2B8859253D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4FA6D-6608-4619-A825-3E7F4A4CB9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61CC9-F7C9-482F-8D81-22E7656614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9986D-CA9F-48C6-BA6B-3A2B56B081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2B71C-EE98-48DC-A7F2-C6627EB75A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15359-CEB6-49DF-BA66-20E305A371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1B2AC-D2BE-46AF-91BB-B50082D25B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CFD09-212F-49D6-B92C-639739CF47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D425F-1A15-450F-9186-06D77B0DE1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10E13-4ADE-415B-B773-2102899F95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E698-93AA-405A-8F87-0B2FC3350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757D-AE54-4078-A479-A20419C0A8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1BCC-4E1E-486F-9848-10FF2CF553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022E-12B6-4371-A826-39229C7610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606D-51D8-4856-AED8-80E362B928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0A83-62E2-47A6-80FF-743D62DAFE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B63E-5E59-416C-B6A4-17AD3BB908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522E-8675-4F32-A1DC-0B590214FD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A14F-A527-47F4-AF20-0D5377F62C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2E7B-23D1-46DF-B114-2568A5ACD8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12D4-94CE-4AEE-8D57-B68C85D905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50BF-DBFF-4970-A296-11A8AC261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7E10-FD5A-4F20-B1A0-90AFA2D120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8CF0-298E-4982-800E-556DFC66E0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5A8F6-4407-423E-8273-2F97CCABEB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F964D-A320-455D-9817-20D591EE1A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E17D52-839A-4234-AF65-FDC05D4507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1A7BD-94D5-41FC-87C1-90F41CC83D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0761D-D525-4F5D-8DAD-21FDA82701C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97C6E-AD96-4E28-9EFF-9FC6F9B42C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F7239-09CE-4B41-9A36-2CED132F2E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95CD0-C558-43D1-9D11-F7B812098D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968C5-BA21-41F3-B128-88781DBE0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7FC7A-EA66-4F16-A579-4CBB3D6CE1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7E5D6-AFEF-46E7-8FBE-E2A799DA19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36B12-9351-495B-92A4-00E16952D8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B930E-70C3-49D8-86D6-F336D61F5F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43D41-44C7-4CFF-9F12-BC8F8F813F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A4A60-4392-40BD-B452-6238365156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37632-5683-4466-B8FC-FA719D72116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4E8BE-9691-4ACC-B1A8-84AB5456C46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C02D5-DE6C-4E05-87F0-28E6BCDF3A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E69EA-3BDD-4C7B-BB52-C4656D30F8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65A25-FFCA-4D4B-9584-609F67C703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24185-881A-414A-902F-B20EBAA4C1E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F50A8-EBBE-458C-A687-B275FBC4B5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B75D0-6A22-4AF1-8BD9-1B7BC0606C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32DF8-1384-46A2-8EC7-6847E14111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CA27-082C-4E41-B522-4634AC42CF7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D55D-BDD2-4556-B72A-50034DF0CC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A2C9-0B89-493B-B842-E707E25F05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0D4E-5F0A-404C-BCC8-AFAA61C8B8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594C-0DC7-43D8-B46F-F8787CC89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060D-9083-42B2-904B-597AE56CB5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9690-D7FE-4F7C-9461-EAC54AB65D1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AACC-5C5C-43DE-B97E-C81C2052E2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1DEF-FC40-4664-87C0-BB73A14362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3331-1DEF-4BFC-B923-1EBD6242827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461B-EC61-4676-B3E4-9EA9F028956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2E2E-B9CB-4F87-A231-37B41B32BF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D26C-A233-469F-A2C3-B003E3680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2C47-AC03-4367-82B6-8218AE7DAF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9AF6-3793-4CAA-9040-FF27059D93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52B-D8BF-4584-87DD-119903A19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F594-049E-42B8-A474-EF4C88D9CD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022E-3CAB-4FE0-B5A1-513093898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514D-7704-4EB5-821D-E554D49B6E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3544-BF73-4DD8-A9BC-D820559939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E18E-3BD1-4D9D-AD13-3259C54011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B827-D7D3-409A-87DC-5D2BF2C5AE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E293-576F-4B4D-A0C8-57B5EC222A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DB9D-E404-48EF-ADDF-14263E6397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EF88-E879-47E4-8FC8-2FBD98D9E2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6394-5688-44E9-AA00-56D5104DFE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F87-0203-4561-B641-C95F8DC260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669-3B1B-4308-A3A8-A06EF2EC27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FF4-8E1B-4151-A8AD-1B7FF094D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7433-84D3-44E2-BB2F-88D39B83DC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F35-2669-4B09-B617-4B0EF86889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CAF-1D61-4E71-9B04-C691F4FC0C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A93-2821-4B71-BBAF-36D33971D2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9B5-4E4A-46E5-8476-A7AC2668A7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63F-ABD6-4F80-A9A9-B4916A98D3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C4F-3807-4E01-9D75-1F070B48B4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6FA-66EB-44AB-BE4D-527E65B6B3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728-E91F-4ADB-B75B-40F2DDB5D8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BE5-7E94-4633-BE42-5B780E5751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E5DC9-8FC7-40CA-B87D-252974832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D82B-D1E5-4B70-BBCC-A0EC517B3E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12F92-2D92-4712-827D-EC1909B025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647F6-EB63-46A5-AFF0-CA4E0BE4C0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46445-6D55-445C-8B7D-7AC593F9FF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359FA-8DD4-487F-A075-A768946191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7512-726A-42B7-8325-21C5966A24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82933-40A5-4D97-8A71-D91A9CBE7A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067EA-3DE7-4B92-A630-CA83BBDF07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C159D-5623-4F5E-82A4-B7ADD5537D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D166-A893-4659-ADA0-9EE66D5471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C90FC-A9D3-4F4D-9B14-41CB5773F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DB6B-C255-4B57-9B6B-438CA1A6BA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D7582-E2C6-43E0-BA34-5919A0BE8A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7AE90-AD81-4342-91A6-C8DF4CA480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64EA0-2771-470E-8C9E-B0E55DD26A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8734-459C-4A68-AFF4-B9DE086DF8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081D7-0F7E-450A-9CA6-A41A464AE1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DD17-6C84-4E16-9A78-AE121BC600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28FD8-4BDD-4816-98F2-6B4B76E163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09E88-4A0A-4BC6-AF49-8DAF4958FB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C126A-CB04-49EE-B3FB-CF68DCF703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9C9A2-53C7-4EEC-AF45-ECE6DAC71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A43F-B59E-4BC8-B008-1CE6DB7468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A04C4-1A8A-4B28-B4FD-313D269B81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30403-17AF-4E00-B8F4-9B2EFE2667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C6DE0-720F-4785-8DD7-B22DC0D6D9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9591-5FE2-4255-BDEE-AC0E001A33B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DB5-2668-47E0-B604-5E4EEC122D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983-A95C-43C9-92EB-50C353F91C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1ABE-7843-46A9-BAF6-1AA827CCD9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F0B-32E6-427E-99A5-0749968E0A4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6E12-F986-495F-B894-32BDBBAA27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478E-6761-4397-9D21-8089484A6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6518-EE3B-47D2-87B0-187773B803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ACA-8976-43F2-BC75-0E429F14A4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3A3A-6D1F-4FCA-8E9C-27074E11DB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B49-4B34-452D-8AF8-14BD9B9657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311-BC78-4B1E-8782-1824313DC8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113-BE81-4B7D-9F9B-BEFB054781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7F5D7-8896-478E-AF86-F78B99FA476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77F5A-854A-4504-8F6B-31048AEC7F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0E8C0-175D-4E6B-9195-F98AEAA92F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30F37-8588-4CDF-AE3C-09A5D2A28B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58CB7-5620-4809-8D65-6EA24C2E5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BCC8-E810-44F4-A2C5-B58CC3D877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C4277-A806-4EC8-98CB-E6A749C16F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B1AF9-4278-4C6A-A4A2-C4138DE702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90A60-7D0E-4A45-B1FB-729EEA45FB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CBAB6-82B2-4223-B86D-598B311924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54F6F-57E2-483E-9C0B-D3F994225A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88A0A-C115-4A6D-9B04-758E581F90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D3A56-3C98-422B-B3C3-94D963DC9D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7B871-4466-4C87-A73F-890CC8D5F0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78638-6C7E-4FF3-BF6F-1CF3F03B60A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A85DB-7C65-4C8A-A4C5-B10547EBD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F0EC-EF2F-4AAA-8B58-F24D3FC17A5B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9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FA0-9EF0-40E5-BAFB-4C7B03807B55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0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F71-E549-415C-AFFE-0ECAC8D2E12E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93B0-5DA8-4AED-89D5-D383C9B2CE27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47B-665E-416B-9324-C255E6860AAC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harry_yellow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SC-logo_w"/>
          <p:cNvPicPr/>
          <p:nvPr/>
        </p:nvPicPr>
        <p:blipFill>
          <a:blip r:embed="rId3"/>
          <a:stretch/>
        </p:blipFill>
        <p:spPr>
          <a:xfrm>
            <a:off x="5105520" y="548640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CDB-6475-4097-BCE6-11DC31B0BE82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3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1CC-BD0E-4BC1-BF78-0F0346B93880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566-A186-415B-9893-6F6F42911E08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5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C221-8CE7-4D06-8D9E-F057C61865A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05E8-808D-4F87-91FF-96D2B1D43F3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8FD-2CCE-4085-9A5E-1A1E8CBD3F55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8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9FC4-F414-409C-A183-ECED7D4A930D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6929280" cy="36241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SC Alex Bold"/>
              </a:rPr>
              <a:t>Filets sociaux pour les ménages plus pauvres </a:t>
            </a:r>
            <a:endParaRPr b="1" lang="en-US" sz="43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jet pilote de transfert de cash à Tessaoua/région de Maradi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592200" y="575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548" name="Picture 10" descr="ECHO Logo"/>
          <p:cNvPicPr/>
          <p:nvPr/>
        </p:nvPicPr>
        <p:blipFill>
          <a:blip r:embed="rId2"/>
          <a:stretch/>
        </p:blipFill>
        <p:spPr>
          <a:xfrm>
            <a:off x="611280" y="4797360"/>
            <a:ext cx="1800000" cy="1582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2411280" y="6093000"/>
            <a:ext cx="1828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909e7"/>
                </a:solidFill>
                <a:latin typeface="Arial"/>
              </a:rPr>
              <a:t>Financé par ECHO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36abb"/>
                </a:solidFill>
                <a:latin typeface="SC Alex Bold"/>
              </a:rPr>
              <a:t>Changement dans les moyens d’existence et impact à plus long terme</a:t>
            </a:r>
            <a:endParaRPr b="1" lang="en-US" sz="24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9680" y="150012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rrêt des ventes et hypothèques de terres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Diminution du nombre de ménages endettés et du niveau d’endettemen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duction agricole attendue bonne grâce a l’investissement en main d’œuvre dans les champ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Le taux de renumérotation de la main d’œuvre s’est amélioré.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69DA-75DF-48D0-B441-D670726F15EF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Situation nutritionnelle des enfants des ménages ciblés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F9E-565A-4F9E-A2AF-0C6A24592B3F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20" name="Picture 9" descr=""/>
          <p:cNvPicPr/>
          <p:nvPr/>
        </p:nvPicPr>
        <p:blipFill>
          <a:blip r:embed="rId1"/>
          <a:stretch/>
        </p:blipFill>
        <p:spPr>
          <a:xfrm>
            <a:off x="0" y="1484280"/>
            <a:ext cx="6531120" cy="5084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6588000" y="1413000"/>
            <a:ext cx="273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transferts de cash doivent s’accompagner d’interventions telles que la prévention des maladies et l’apport de suppléments en micronutriments afin de mieux protéger l’état nutritionnel des enfan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ifficulté d’un bon ciblage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critères de ciblage ont été identifiés et facilement accepté par la communauté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Difficile pour les dirigeants d’accepter et de faire accepter que seuls les ménages remplissant les critères pourraient bénéficier de l’aide en cash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Au moment des distributions, certaines personnes ont eu du mal à accepter qu’elles ne recevraient rien mais que leurs voisins seraient bénéficiai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Pendant l’exécution du projet plusieurs contrôle ont été nécessaires pour vérifier que les listes de bénéficiaires ciblaient bien les ménages le plus pauv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Ceci a créer des tensions dans certains villages et des efforts importants des négociations ont été déployés. 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0">
              <a:lnSpc>
                <a:spcPct val="100000"/>
              </a:lnSpc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a36abb"/>
                </a:solidFill>
                <a:latin typeface="SC Alex Bold"/>
              </a:rPr>
              <a:t>Merci</a:t>
            </a:r>
            <a:endParaRPr b="1" lang="en-US" sz="60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25" name="Image 4" descr="cash_dubai.jpg"/>
          <p:cNvPicPr/>
          <p:nvPr/>
        </p:nvPicPr>
        <p:blipFill>
          <a:blip r:embed="rId1"/>
          <a:stretch/>
        </p:blipFill>
        <p:spPr>
          <a:xfrm>
            <a:off x="2771640" y="1052640"/>
            <a:ext cx="33292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Matt_purple_morehiwte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000000"/>
                </a:solidFill>
                <a:latin typeface="SC Alex Bold"/>
              </a:rPr>
              <a:t>Pourquoi ce projet pilote?</a:t>
            </a:r>
            <a:r>
              <a:rPr b="0" lang="en-GB" sz="39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39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0004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Un travail d’analyse sur les causes de la </a:t>
            </a:r>
            <a:r>
              <a:rPr b="1" lang="fr-FR" sz="2000" spc="-1" strike="noStrike">
                <a:solidFill>
                  <a:srgbClr val="ffc000"/>
                </a:solidFill>
                <a:latin typeface="SC Morgan"/>
              </a:rPr>
              <a:t>malnutrition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 mené à Tessaoua démontre qu’il parait difficile de prévenir la malnutrition sans </a:t>
            </a:r>
            <a:r>
              <a:rPr b="0" lang="fr-FR" sz="2000" spc="-1" strike="noStrike">
                <a:solidFill>
                  <a:srgbClr val="ffc000"/>
                </a:solidFill>
                <a:latin typeface="SC Morgan"/>
              </a:rPr>
              <a:t>s’attaquer a ses déterminants économiqu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ar :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couvrir leur besoins alimentaires de base (couverture énergétique) pendant la période de soudur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s’offrir une alimentation équilibrée tout au long de l’anné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53" name="Picture 13" descr="SC-logo_w"/>
          <p:cNvPicPr/>
          <p:nvPr/>
        </p:nvPicPr>
        <p:blipFill>
          <a:blip r:embed="rId3"/>
          <a:stretch/>
        </p:blipFill>
        <p:spPr>
          <a:xfrm>
            <a:off x="5072040" y="578628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0"/>
          <p:cNvSpPr/>
          <p:nvPr/>
        </p:nvSpPr>
        <p:spPr>
          <a:xfrm>
            <a:off x="1071720" y="4581360"/>
            <a:ext cx="7129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SC Morgan"/>
              </a:rPr>
              <a:t>Si l’on donne les moyens économiques aux ménages les plus pauvres, est-ce que ceux-ci vont investir dans l’alimentation et le soin de leurs enfants ? Est-ce que des transferts direct de cash peuvent contribuer a réduire la malnutrition ?  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55" name="Flèche droite 6"/>
          <p:cNvSpPr/>
          <p:nvPr/>
        </p:nvSpPr>
        <p:spPr>
          <a:xfrm>
            <a:off x="428760" y="450072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escrip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42960" y="157140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Collaboration avec le CSR-PGCA de Tessaoua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choix  zones d’intervention, contrepartie, validation critères de ciblage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Bénéficiaires: </a:t>
            </a: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1500 ménages très pauvr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ans les zones déclarées à forte insécurité alimentaire (priorité aux mères d’enfants de moins de 5 an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3 transferts de 20,000 F chacun pendant la période de soudure (transfert avec les commerçant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ntrepartie : 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Participation à des sessions de sensibilisation sur la prévention de la malnutrition (traitement et prévention de la diarrhée et du paludisme, allaitement, sevrage et diversité alimentair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Amélioration des conditions d’hygiène dans le village (comite de salubrité publiqu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874E-1531-49A6-85BA-C9993FBA96B9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Monitoring et évalua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428760" y="61437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5D0-17D7-4C2D-8648-5DB6A4C62302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539640" y="4437000"/>
            <a:ext cx="7858080" cy="500040"/>
          </a:xfrm>
          <a:prstGeom prst="rect">
            <a:avLst/>
          </a:prstGeom>
          <a:solidFill>
            <a:srgbClr val="92d05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2" name="Connecteur droit 6"/>
          <p:cNvSpPr/>
          <p:nvPr/>
        </p:nvSpPr>
        <p:spPr>
          <a:xfrm flipH="1">
            <a:off x="285768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3" name="Connecteur droit 7"/>
          <p:cNvSpPr/>
          <p:nvPr/>
        </p:nvSpPr>
        <p:spPr>
          <a:xfrm flipH="1">
            <a:off x="407196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4" name="Connecteur droit 8"/>
          <p:cNvSpPr/>
          <p:nvPr/>
        </p:nvSpPr>
        <p:spPr>
          <a:xfrm flipH="1">
            <a:off x="5285880" y="4071960"/>
            <a:ext cx="180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111600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226836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lle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7" name="Espace réservé du numéro de diapositive 3"/>
          <p:cNvSpPr/>
          <p:nvPr/>
        </p:nvSpPr>
        <p:spPr>
          <a:xfrm>
            <a:off x="327672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ou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4357800" y="4572000"/>
            <a:ext cx="928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pt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5643720" y="4572000"/>
            <a:ext cx="6429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cto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0" name="Espace réservé du numéro de diapositive 3"/>
          <p:cNvSpPr/>
          <p:nvPr/>
        </p:nvSpPr>
        <p:spPr>
          <a:xfrm>
            <a:off x="6786720" y="4572000"/>
            <a:ext cx="857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v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1" name="Connecteur droit 18"/>
          <p:cNvSpPr/>
          <p:nvPr/>
        </p:nvSpPr>
        <p:spPr>
          <a:xfrm flipH="1">
            <a:off x="1855800" y="4430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2" name="Connecteur droit 19"/>
          <p:cNvSpPr/>
          <p:nvPr/>
        </p:nvSpPr>
        <p:spPr>
          <a:xfrm flipH="1">
            <a:off x="292896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3" name="Connecteur droit 20"/>
          <p:cNvSpPr/>
          <p:nvPr/>
        </p:nvSpPr>
        <p:spPr>
          <a:xfrm flipH="1">
            <a:off x="414288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4" name="Connecteur droit 21"/>
          <p:cNvSpPr/>
          <p:nvPr/>
        </p:nvSpPr>
        <p:spPr>
          <a:xfrm flipH="1">
            <a:off x="5357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5" name="Connecteur droit 22"/>
          <p:cNvSpPr/>
          <p:nvPr/>
        </p:nvSpPr>
        <p:spPr>
          <a:xfrm flipH="1">
            <a:off x="6500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6" name="Connecteur droit 23"/>
          <p:cNvSpPr/>
          <p:nvPr/>
        </p:nvSpPr>
        <p:spPr>
          <a:xfrm flipH="1">
            <a:off x="771480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2071800" y="3714840"/>
            <a:ext cx="1585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1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57192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2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9" name="Espace réservé du numéro de diapositive 3"/>
          <p:cNvSpPr/>
          <p:nvPr/>
        </p:nvSpPr>
        <p:spPr>
          <a:xfrm>
            <a:off x="507204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3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1214280" y="528624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357720" y="507204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 mi-parcours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2" name="Espace réservé du numéro de diapositive 3"/>
          <p:cNvSpPr/>
          <p:nvPr/>
        </p:nvSpPr>
        <p:spPr>
          <a:xfrm>
            <a:off x="6000840" y="5143680"/>
            <a:ext cx="1500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valuation final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3" name="Flèche vers le haut 33"/>
          <p:cNvSpPr/>
          <p:nvPr/>
        </p:nvSpPr>
        <p:spPr>
          <a:xfrm>
            <a:off x="15717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4" name="Flèche vers le haut 34"/>
          <p:cNvSpPr/>
          <p:nvPr/>
        </p:nvSpPr>
        <p:spPr>
          <a:xfrm>
            <a:off x="40719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5" name="Flèche vers le haut 35"/>
          <p:cNvSpPr/>
          <p:nvPr/>
        </p:nvSpPr>
        <p:spPr>
          <a:xfrm>
            <a:off x="6500880" y="4929120"/>
            <a:ext cx="133200" cy="35712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6" name="Étoile à 5 branches 36"/>
          <p:cNvSpPr/>
          <p:nvPr/>
        </p:nvSpPr>
        <p:spPr>
          <a:xfrm>
            <a:off x="157176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7" name="Étoile à 5 branches 37"/>
          <p:cNvSpPr/>
          <p:nvPr/>
        </p:nvSpPr>
        <p:spPr>
          <a:xfrm>
            <a:off x="4000680" y="5643720"/>
            <a:ext cx="214200" cy="142560"/>
          </a:xfrm>
          <a:custGeom>
            <a:avLst/>
            <a:gdLst>
              <a:gd name="textAreaLeft" fmla="*/ 66240 w 214200"/>
              <a:gd name="textAreaRight" fmla="*/ 147960 w 21420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8" name="Étoile à 5 branches 38"/>
          <p:cNvSpPr/>
          <p:nvPr/>
        </p:nvSpPr>
        <p:spPr>
          <a:xfrm>
            <a:off x="5143680" y="500076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9" name="Étoile à 5 branches 39"/>
          <p:cNvSpPr/>
          <p:nvPr/>
        </p:nvSpPr>
        <p:spPr>
          <a:xfrm>
            <a:off x="650088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2" h="142875">
                <a:moveTo>
                  <a:pt x="0" y="54573"/>
                </a:moveTo>
                <a:lnTo>
                  <a:pt x="81860" y="54574"/>
                </a:lnTo>
                <a:lnTo>
                  <a:pt x="107156" y="0"/>
                </a:lnTo>
                <a:lnTo>
                  <a:pt x="132452" y="54574"/>
                </a:lnTo>
                <a:lnTo>
                  <a:pt x="214312" y="54573"/>
                </a:lnTo>
                <a:lnTo>
                  <a:pt x="148085" y="88301"/>
                </a:lnTo>
                <a:lnTo>
                  <a:pt x="173382" y="142875"/>
                </a:lnTo>
                <a:lnTo>
                  <a:pt x="107156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0" name="Étoile à 5 branches 40"/>
          <p:cNvSpPr/>
          <p:nvPr/>
        </p:nvSpPr>
        <p:spPr>
          <a:xfrm>
            <a:off x="1143000" y="621504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1428840" y="6072120"/>
            <a:ext cx="2357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nthropometriqu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79280" y="1413000"/>
            <a:ext cx="9144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100 ménages bénéficiaires suivis (IHEA – diversité alimentaire, soin, santé aux enfants, facteurs socio-économique,appréciation du programme)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Suivi anthropométrique des enfants &lt;5 des 100 ménages suivis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Focus group avec ménages non bénéficiaires, entretiens autorités locales…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Matt_purple_morehiwt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5232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SC Alex Bold"/>
              </a:rPr>
              <a:t>Résultats de l’évaluation finale</a:t>
            </a:r>
            <a:r>
              <a:rPr b="0" lang="fr-FR" sz="47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47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500040" y="1773360"/>
            <a:ext cx="29289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mment l’argent a t’il été investi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e ce type d’intervention peut prévenir la malnutrition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Y a-t-il des impacts a long- terme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96" name="Picture 13" descr="SC-logo_w"/>
          <p:cNvPicPr/>
          <p:nvPr/>
        </p:nvPicPr>
        <p:blipFill>
          <a:blip r:embed="rId2"/>
          <a:stretch/>
        </p:blipFill>
        <p:spPr>
          <a:xfrm>
            <a:off x="5076720" y="5516640"/>
            <a:ext cx="3429000" cy="69696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phon 479.JPG"/>
          <p:cNvPicPr/>
          <p:nvPr/>
        </p:nvPicPr>
        <p:blipFill>
          <a:blip r:embed="rId3"/>
          <a:stretch/>
        </p:blipFill>
        <p:spPr>
          <a:xfrm>
            <a:off x="3564000" y="1700280"/>
            <a:ext cx="5000400" cy="33354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0"/>
          <p:cNvSpPr/>
          <p:nvPr/>
        </p:nvSpPr>
        <p:spPr>
          <a:xfrm>
            <a:off x="324000" y="5373720"/>
            <a:ext cx="4576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’il est facile de faire un bon ciblage avec ce type de projet ?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36abb"/>
                </a:solidFill>
                <a:latin typeface="SC Alex Bold"/>
              </a:rPr>
              <a:t>Revenus mensuels des ménages avant et après les distributions</a:t>
            </a:r>
            <a:endParaRPr b="1" lang="en-US" sz="32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63A-54C3-4EE6-8FA1-9C35641F8404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1" name="Espace réservé du contenu 2"/>
          <p:cNvSpPr/>
          <p:nvPr/>
        </p:nvSpPr>
        <p:spPr>
          <a:xfrm>
            <a:off x="5796000" y="1557360"/>
            <a:ext cx="3348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dépendance des ménages vis-à-vis de certaines sources de revenus au profit des activités agrico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participation des femmes et des enfants dans le revenu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u recours au crédit et des tâches diffici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2" name="Picture 12" descr=""/>
          <p:cNvPicPr/>
          <p:nvPr/>
        </p:nvPicPr>
        <p:blipFill>
          <a:blip r:embed="rId1"/>
          <a:stretch/>
        </p:blipFill>
        <p:spPr>
          <a:xfrm>
            <a:off x="179280" y="1566720"/>
            <a:ext cx="5977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mment les ménages bénéficiaires ont-ils utilisé l’argent distribué?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90C-BC8D-4ED8-A3C4-42B5454A5A70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5" name="Espace réservé du contenu 2"/>
          <p:cNvSpPr/>
          <p:nvPr/>
        </p:nvSpPr>
        <p:spPr>
          <a:xfrm>
            <a:off x="5364000" y="1413000"/>
            <a:ext cx="40752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’argent additionnel a été investi en priorité dans l’alimentation(en quantité et qualité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es autres postes de dépenses sont quasi inchangé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n période de récolte l’argent est investi dans les produits non alimentaire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e nombreux ménages ont été taxés(500 à 1000F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0"/>
          <p:cNvSpPr/>
          <p:nvPr/>
        </p:nvSpPr>
        <p:spPr>
          <a:xfrm>
            <a:off x="473760" y="158112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36abb"/>
                </a:solidFill>
                <a:latin typeface="Arial"/>
              </a:rPr>
              <a:t>Dépenses mensuel du ménage</a:t>
            </a:r>
            <a:endParaRPr b="0" lang="en-US" sz="16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uverture des besoins alimentaires de base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19C0-0DDF-484F-95C6-D92F8E2E2660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10" name="Espace réservé du contenu 2"/>
          <p:cNvSpPr/>
          <p:nvPr/>
        </p:nvSpPr>
        <p:spPr>
          <a:xfrm>
            <a:off x="5580000" y="1413000"/>
            <a:ext cx="371016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Les transfer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d’argent ciblés sont un moyen efficaces pour permettre aux ménages pauvres d’accéder à la nourriture et de couvrir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certaines carences nutritionnelles</a:t>
            </a:r>
            <a:r>
              <a:rPr b="1" lang="fr-FR" sz="2400" spc="-1" strike="noStrike">
                <a:solidFill>
                  <a:srgbClr val="000000"/>
                </a:solidFill>
                <a:latin typeface="SC Morgan"/>
              </a:rPr>
              <a:t>.</a:t>
            </a:r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179280" y="1487520"/>
            <a:ext cx="532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Amélioration de la qualité de l’alimentation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413840" cy="43434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27640" y="1484280"/>
            <a:ext cx="3097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u cours du projet, la qualité de leur alimentation s’est largement améliorée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achat des légumineuses, huile,viande, lait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04:11Z</dcterms:created>
  <dc:creator>rwalton</dc:creator>
  <dc:description/>
  <dc:language>en-US</dc:language>
  <cp:lastModifiedBy>same.coord</cp:lastModifiedBy>
  <dcterms:modified xsi:type="dcterms:W3CDTF">2012-04-18T11:10:04Z</dcterms:modified>
  <cp:revision>67</cp:revision>
  <dc:subject/>
  <dc:title>Presentation title goes here  in up to 2 lines of text</dc:title>
</cp:coreProperties>
</file>