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5.jpeg" ContentType="image/jpeg"/>
  <Override PartName="/ppt/media/image14.wmf" ContentType="image/x-wmf"/>
  <Override PartName="/ppt/media/image1.jpeg" ContentType="image/jpeg"/>
  <Override PartName="/ppt/media/image13.wmf" ContentType="image/x-wmf"/>
  <Override PartName="/ppt/media/image8.jpeg" ContentType="image/jpeg"/>
  <Override PartName="/ppt/media/image5.png" ContentType="image/png"/>
  <Override PartName="/ppt/media/image2.jpeg" ContentType="image/jpeg"/>
  <Override PartName="/ppt/media/image6.jpeg" ContentType="image/jpeg"/>
  <Override PartName="/ppt/media/image12.wmf" ContentType="image/x-wmf"/>
  <Override PartName="/ppt/media/image7.jpeg" ContentType="image/jpeg"/>
  <Override PartName="/ppt/media/image10.wmf" ContentType="image/x-wmf"/>
  <Override PartName="/ppt/media/image4.jpeg" ContentType="image/jpeg"/>
  <Override PartName="/ppt/media/image9.jpeg" ContentType="image/jpeg"/>
  <Override PartName="/ppt/media/image3.png" ContentType="image/png"/>
  <Override PartName="/ppt/media/image11.wmf" ContentType="image/x-wmf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</p:sldIdLst>
  <p:sldSz cx="9144000" cy="6858000"/>
  <p:notesSz cx="6670675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25A95-3F26-4C5D-AB3C-5921F499BA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BFFE5-AFB5-4E77-B0F3-99DF81E5D1D0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F46441C-79A4-4B2A-815B-4C9932CBCCF6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9FC7A5-E8E1-4058-9DA5-4849A8C87CEC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E747EC5-E4FE-4A77-8374-BBF9D9EB611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1D2789-EB0E-4FCE-A25B-5731302839D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EE8309-39C3-4DDA-9E87-440A9791F0E8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D8DBE6-F0BC-4CA8-AA6F-1DB0467E81E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5983AE-A6BA-45D3-8EC5-E1B05F25BE7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156EC43-9F19-4819-B17C-E127E0E8AD7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74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75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2B1D99-90EE-4D56-93A5-1870E07C69C9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12E39-8F48-4B25-B6FD-9A09CC23D2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FEB80E-CC26-4E80-BE5A-B408044F2861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906511-2066-4B90-861A-15C397B77F0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16C7D2-DC8B-474E-AE6D-8A159A5CF6E2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039D84-CCEB-49D4-A848-24DF29CAD748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03FB61-2BC7-442F-9AF6-3FDC8234731F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56C2F6-F1E5-493D-B6DF-E0E0FD6E4C12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8AF22-9537-4E2A-AF29-CC8E8497C705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8C3279-9779-4291-8BF8-433D2490FBDE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D06DD-7698-4CEC-8C24-CFA05797A30E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E2FD4F-DF60-4446-8C9B-FE36B88F32DF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1E336-2DD0-44B8-9BBA-F9491E015A0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16776-41A7-4A74-89FB-FF071645433F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16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17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7274D8-8439-410A-9A57-632F5C180534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6AD724-70F4-4D68-AD17-474E4ABB32D1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155E16-A55E-4F62-A29C-41584E10D97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567207-9E0F-4FD9-B7A6-7C7DFB8983C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0FD752C-71CC-42EE-A262-05D434D5F26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1062A43-A58C-4DC1-B17A-A9F38C7087EA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43BEBC3-9D8B-40FF-AF6E-A6DC8D88867A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DA364D7-5B05-48EE-9188-57737C87C291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8F580B-64E7-4E5D-8935-DA6376C98AE7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EEC2DF7-3D4C-410D-BFB1-D8B772E28C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0F91C30-B867-4351-A9E2-6D6A1D69D1A4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C63B09-58C9-47FC-8B7E-B6B82FA6A5C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57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58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59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135989B-8783-44BC-BF0D-3BA23E855C0F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E511A38-0AE2-4E08-8713-092BECBA81E2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4E50982-5FF3-4A23-A2CB-AF39C12BC21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4AF625C-E982-4BA7-BB5A-8871B144D912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D2CD331-FF27-4808-8273-38FFBA4FFB7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CE0BFAC-9878-4357-8FD6-072029F93318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2AED4FF-D188-43E3-B163-3D3822083829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4C9464-9796-4918-AB3C-69C0AB19851E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67E09D8-B08D-4136-9B66-2234E94F5FDA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D6A7D6-59CC-403A-A514-1D6F6763B38F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C55518-DC97-4D5D-A868-D88610D0A286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4666A15-7D6C-4412-83D4-2600F9E243D0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00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01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64C7AD-BA13-4A1B-BCF6-A446CF2EFBC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596F9-ACE8-44EE-A65E-67CF14D2E13C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4A387D-7146-41A4-9005-8AB60B4CC7D9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0CE220-D523-425E-BB9B-A5C67D5E87B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4C34AE-496F-4CB3-A08B-1A08EBBA6DEA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2F3C27-EE77-4E66-AB1E-18FBC87CAC0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42CB4-A109-4C32-92AE-966CA425452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118928-90B9-4BB6-99AB-CB2EE44843D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EFEBC6-46BA-4378-8AC3-71AF7C36D7D3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83EA02-C163-4980-92A2-6A42DD46F8BF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AF5300-95B6-4E71-B75C-A3D8864DAC2F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36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37F6B7-E10C-47D7-847F-006924777B15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42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43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D25F46-A658-4D2C-A068-67BD42D94D3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7743B-DA68-4391-8353-48F65742CE0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4726CA-9BA4-4783-A3E9-27DD0FDA90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A5891-4723-4659-9295-FA4E497ECCA6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43CDC4-FFDE-4C42-BE0E-707F739388FD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7D8C38-A607-4F2F-9195-9BB1F7B10251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193335-2902-4D2A-8CA0-55D59872936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34AE31-2F19-4763-961C-20578FFEEA7B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74AF7-00FD-40BA-BEA4-386C3224C5CA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D5ED7A-BFFC-4A8F-9FD1-20047DC1504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AA2D82-C5CC-428B-8B4F-46DD7F0E43C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9B4A8-3541-4FEE-ABDC-2827332AE6C0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7C1CBB-564F-4DDF-9F24-EA9120C8F6CC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58BFD9-8B0E-4BB5-9582-305CFA01CB0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A19C1-B702-48F1-8E6D-C84663E4491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4D2C-6A42-4861-AAA7-F835B6ACD05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6E82-4DEC-4FA9-B298-A72D650A503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074E-FD9E-4346-828D-79CB9419EA7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D2FBA-176E-4FD9-8BD9-6AE4BDFAC1CD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38496-85D2-4EA4-942E-574426974640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8CB8-0B89-458A-B52C-FF52B57C5F75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70574-87DA-48EE-A5EE-6F4869FB42FC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D962D-7CA7-4DAF-835C-469CCFEE683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2A62-B41C-474A-8BEA-59BF6707B403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C49A2-C4AD-4B4B-8B39-1B7B808CCCB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E33F1-9CA6-41F8-A3A3-8CE2C868D876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E0D7-F331-4027-A1D9-E0938CAAB28F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E47D-1350-4EA1-B528-9B6AFAF07088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E3A9B60-5038-4C1D-BBF3-E2EC6CDA92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2CD84-717C-424B-9845-112D56D2FBA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C4B996-7532-4A9D-9571-82002FD6AE4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D80FB99-C94B-45E5-BFD3-91EF847799A0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82CB4E-A999-4725-BB35-8E533B9776AB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18BD71-E9D6-4B9B-857C-42178B528998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3CF083B-9298-4BE7-ACBB-86D7E19DA02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A8D31-30FA-45E8-874E-86721FA1FA3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5CEF01E-6B31-4A30-9E69-0CB72566CDC1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56149C-79B8-48D3-900A-DDF7A7CF8292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E486F19-261E-4E9E-9FB5-423476066581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DC55DB9-873E-4EE4-982F-071F57A44E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8969B-FB81-420B-A7CC-A739CB70FFA5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39B69E-A338-4E29-97FB-C676C5F227FB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225592-B823-4FBE-8AF5-B3D3BFD7AFCD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07612E-302F-4D67-80E0-6A056E10EFEC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93127E-6F0D-4976-ADA0-34A62B9097AD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02DA5D-23FC-4099-9C43-EFC4F4766EDA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47BE1A-B03B-4C7D-8FB6-7AAC0D5C835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5383E4-C4E5-4501-8880-6B70FC1BCCEA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4EE4E0A-4D61-4812-9AC4-E5B682A5EB0C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708F82A-3E8D-4970-818E-3AFF7C94459D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CAC980-AD4F-4079-A2A2-5F9839EAFA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F9D82E-EC8F-4EB3-B25F-43CC2AE3E75D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295FD1-2572-4FB5-A66E-C55C4BE785D2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84A319-4F7F-46B1-A44D-CF1A26BB2F7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D27523-CEC4-448F-AFE4-4244CEC4AEE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E4254-610D-4A30-9709-EB2F84A99C4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D02E-AA69-4CF3-8CE6-0BDF1A848E1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D5FA1-6A02-4F06-80EA-E0492BCF4539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A4725-2BE8-45F7-8123-7D4BE4A2A848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1757C-99F0-48D1-A435-641B4AADD7F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F3BF6-9438-4470-B1B6-00AF57E383E9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250E15-312F-4A77-A8D2-23FD27908E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E36EF1-9415-4545-8A54-35AA09D4A1C8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DABB-949C-4E9E-BA7F-0670677AC121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C1A7-3F99-47E0-8005-91C4F260EC88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F1E35-41FF-43B7-ABD3-28FAA9ED7A05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261E4-D042-46DD-8ECD-300C809B880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DB10A-1226-41E5-8143-E306090FC8FE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377B4F-F6D0-4220-82D7-D415F1D9D8A5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2E851AA-4942-4627-A4EA-3ADCA798F8F0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1E0CF93-597D-4AC8-8031-658E1C0A10C1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BC3976-EF8B-44C5-B942-BD202F19C6E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8314AA4-8BE9-419E-B7DB-35A7426E3D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260B19-BD7A-4FE7-A718-29B1A91DCDE2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subTitle"/>
          </p:nvPr>
        </p:nvSpPr>
        <p:spPr>
          <a:xfrm>
            <a:off x="685800" y="685440"/>
            <a:ext cx="78487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4B0BDC6-F0FB-4EF9-B142-321062DBCDF8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D54918-5A60-4EF5-B111-C7B5298F9AD5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5CEB019-E031-4604-9EE0-0A4E1096C31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575B3D-A465-46F9-B84E-29CDB67B94B0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685800" y="3944880"/>
            <a:ext cx="784872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D5BF62-DFEA-4206-B0A3-496FD51B4B08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707720" y="167616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8580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707720" y="3944880"/>
            <a:ext cx="383004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28B006-40DF-40B0-80D0-7DD5F8031DD4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333972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993640" y="167616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31" name="PlaceHolder 5"/>
          <p:cNvSpPr>
            <a:spLocks noGrp="1"/>
          </p:cNvSpPr>
          <p:nvPr>
            <p:ph/>
          </p:nvPr>
        </p:nvSpPr>
        <p:spPr>
          <a:xfrm>
            <a:off x="68580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32" name="PlaceHolder 6"/>
          <p:cNvSpPr>
            <a:spLocks noGrp="1"/>
          </p:cNvSpPr>
          <p:nvPr>
            <p:ph/>
          </p:nvPr>
        </p:nvSpPr>
        <p:spPr>
          <a:xfrm>
            <a:off x="333972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33" name="PlaceHolder 7"/>
          <p:cNvSpPr>
            <a:spLocks noGrp="1"/>
          </p:cNvSpPr>
          <p:nvPr>
            <p:ph/>
          </p:nvPr>
        </p:nvSpPr>
        <p:spPr>
          <a:xfrm>
            <a:off x="5993640" y="3944880"/>
            <a:ext cx="2527200" cy="207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54138AF-5B4A-4AAD-9A48-B6983B51F635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124DE3F-45AE-4773-AE1F-79D3C5F4D76F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 type="subTitle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96253FA-F695-463B-A374-39B5EE0F526A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639B2E3-C16A-4B8C-9370-D99F21EFF1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21.xml"/><Relationship Id="rId6" Type="http://schemas.openxmlformats.org/officeDocument/2006/relationships/slideLayout" Target="../slideLayouts/slideLayout122.xml"/><Relationship Id="rId7" Type="http://schemas.openxmlformats.org/officeDocument/2006/relationships/slideLayout" Target="../slideLayouts/slideLayout123.xml"/><Relationship Id="rId8" Type="http://schemas.openxmlformats.org/officeDocument/2006/relationships/slideLayout" Target="../slideLayouts/slideLayout124.xml"/><Relationship Id="rId9" Type="http://schemas.openxmlformats.org/officeDocument/2006/relationships/slideLayout" Target="../slideLayouts/slideLayout125.xml"/><Relationship Id="rId10" Type="http://schemas.openxmlformats.org/officeDocument/2006/relationships/slideLayout" Target="../slideLayouts/slideLayout126.xml"/><Relationship Id="rId11" Type="http://schemas.openxmlformats.org/officeDocument/2006/relationships/slideLayout" Target="../slideLayouts/slideLayout127.xml"/><Relationship Id="rId12" Type="http://schemas.openxmlformats.org/officeDocument/2006/relationships/slideLayout" Target="../slideLayouts/slideLayout128.xml"/><Relationship Id="rId13" Type="http://schemas.openxmlformats.org/officeDocument/2006/relationships/slideLayout" Target="../slideLayouts/slideLayout129.xml"/><Relationship Id="rId14" Type="http://schemas.openxmlformats.org/officeDocument/2006/relationships/slideLayout" Target="../slideLayouts/slideLayout130.xml"/><Relationship Id="rId15" Type="http://schemas.openxmlformats.org/officeDocument/2006/relationships/slideLayout" Target="../slideLayouts/slideLayout131.xml"/><Relationship Id="rId16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pic>
        <p:nvPicPr>
          <p:cNvPr id="3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D864E-5839-4DC1-AFBD-CC8A3C8FB674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6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 type="sldNum" idx="9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0CFA-60E9-48BB-85D3-42837116B39F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8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420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 type="sldNum" idx="10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15156-ED97-48A3-B013-2C5A5CB3F478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5"/>
    <p:sldLayoutId id="2147483780" r:id="rId6"/>
    <p:sldLayoutId id="2147483781" r:id="rId7"/>
    <p:sldLayoutId id="2147483782" r:id="rId8"/>
    <p:sldLayoutId id="2147483783" r:id="rId9"/>
    <p:sldLayoutId id="2147483784" r:id="rId10"/>
    <p:sldLayoutId id="2147483785" r:id="rId11"/>
    <p:sldLayoutId id="2147483786" r:id="rId12"/>
    <p:sldLayoutId id="2147483787" r:id="rId13"/>
    <p:sldLayoutId id="2147483788" r:id="rId14"/>
    <p:sldLayoutId id="2147483789" r:id="rId15"/>
    <p:sldLayoutId id="2147483790" r:id="rId16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0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462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 type="sldNum" idx="11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D5A83-B714-4184-8A8B-0E20A80E2CC0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503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504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 type="sldNum" idx="12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7925A-037D-4E96-B052-E03C1B55638F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0" descr="harry_yellow"/>
          <p:cNvPicPr/>
          <p:nvPr/>
        </p:nvPicPr>
        <p:blipFill>
          <a:blip r:embed="rId2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5" descr="SC-logo_w"/>
          <p:cNvPicPr/>
          <p:nvPr/>
        </p:nvPicPr>
        <p:blipFill>
          <a:blip r:embed="rId3"/>
          <a:stretch/>
        </p:blipFill>
        <p:spPr>
          <a:xfrm>
            <a:off x="5105520" y="5486400"/>
            <a:ext cx="3429000" cy="6969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07A0E-DC77-4EA0-BF65-B2C405104E28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sldNum" idx="3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85543-E31E-4C30-8828-30A4C3BEB0D2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sldNum" idx="4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F3946-F960-4C12-A7F5-AF541FF5BA1E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 type="sldNum" idx="5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04F56-06B0-47C5-A951-7CE2A677E8A4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 type="sldNum" idx="6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2EE0C-6AE4-4E3F-A8A1-1E5E1EB0AFF4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 type="sldNum" idx="7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4292-DAA6-4A06-8DFE-EBD159053DA3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Picture 33" descr="james_yell_edge"/>
          <p:cNvPicPr/>
          <p:nvPr/>
        </p:nvPicPr>
        <p:blipFill>
          <a:blip r:embed="rId2"/>
          <a:stretch/>
        </p:blipFill>
        <p:spPr>
          <a:xfrm>
            <a:off x="0" y="0"/>
            <a:ext cx="9144000" cy="687384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38" descr="purple_rule"/>
          <p:cNvPicPr/>
          <p:nvPr/>
        </p:nvPicPr>
        <p:blipFill>
          <a:blip r:embed="rId3"/>
          <a:stretch/>
        </p:blipFill>
        <p:spPr>
          <a:xfrm>
            <a:off x="685800" y="1371600"/>
            <a:ext cx="7848720" cy="84240"/>
          </a:xfrm>
          <a:prstGeom prst="rect">
            <a:avLst/>
          </a:prstGeom>
          <a:ln w="0">
            <a:noFill/>
          </a:ln>
        </p:spPr>
      </p:pic>
      <p:pic>
        <p:nvPicPr>
          <p:cNvPr id="336" name="Picture 43" descr="SC-logo_r&amp;k"/>
          <p:cNvPicPr/>
          <p:nvPr/>
        </p:nvPicPr>
        <p:blipFill>
          <a:blip r:embed="rId4"/>
          <a:stretch/>
        </p:blipFill>
        <p:spPr>
          <a:xfrm>
            <a:off x="6629400" y="5929200"/>
            <a:ext cx="1905120" cy="387360"/>
          </a:xfrm>
          <a:prstGeom prst="rect">
            <a:avLst/>
          </a:prstGeom>
          <a:ln w="0">
            <a:noFill/>
          </a:ln>
        </p:spPr>
      </p:pic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a36abb"/>
                </a:solidFill>
                <a:latin typeface="SC Alex Bold"/>
              </a:rPr>
              <a:t>Click to edit the title text forma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5800" y="1676160"/>
            <a:ext cx="78487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1" marL="743040" indent="-28584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2" marL="11430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3" marL="16002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4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5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lvl="6" marL="2057400" indent="-22860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C Morgan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sldNum" idx="8"/>
          </p:nvPr>
        </p:nvSpPr>
        <p:spPr>
          <a:xfrm>
            <a:off x="685800" y="6095520"/>
            <a:ext cx="1371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36ab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6ADDF-FC64-461F-9987-4B3F3E5DDA55}" type="slidenum">
              <a:rPr b="1" lang="en-US" sz="1200" spc="-1" strike="noStrike">
                <a:solidFill>
                  <a:srgbClr val="a36ab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4" name="Picture 5" descr=""/>
          <p:cNvPicPr/>
          <p:nvPr/>
        </p:nvPicPr>
        <p:blipFill>
          <a:blip r:embed="rId1"/>
          <a:stretch/>
        </p:blipFill>
        <p:spPr>
          <a:xfrm>
            <a:off x="611280" y="1844640"/>
            <a:ext cx="6929280" cy="3624120"/>
          </a:xfrm>
          <a:prstGeom prst="rect">
            <a:avLst/>
          </a:prstGeom>
          <a:ln w="0">
            <a:noFill/>
          </a:ln>
        </p:spPr>
      </p:pic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84360" y="6919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300" spc="-1" strike="noStrike">
                <a:solidFill>
                  <a:srgbClr val="000000"/>
                </a:solidFill>
                <a:latin typeface="SC Alex Bold"/>
              </a:rPr>
              <a:t>Filets sociaux pour les ménages plus pauvres </a:t>
            </a:r>
            <a:endParaRPr b="1" lang="en-US" sz="43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subTitle"/>
          </p:nvPr>
        </p:nvSpPr>
        <p:spPr>
          <a:xfrm>
            <a:off x="611280" y="2205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Projet pilote de transfert de cash à Tessaoua/région de Maradi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47" name="Text Box 6"/>
          <p:cNvSpPr/>
          <p:nvPr/>
        </p:nvSpPr>
        <p:spPr>
          <a:xfrm>
            <a:off x="592200" y="5751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pic>
        <p:nvPicPr>
          <p:cNvPr id="548" name="Picture 10" descr="ECHO Logo"/>
          <p:cNvPicPr/>
          <p:nvPr/>
        </p:nvPicPr>
        <p:blipFill>
          <a:blip r:embed="rId2"/>
          <a:stretch/>
        </p:blipFill>
        <p:spPr>
          <a:xfrm>
            <a:off x="611280" y="4797360"/>
            <a:ext cx="1800000" cy="1582920"/>
          </a:xfrm>
          <a:prstGeom prst="rect">
            <a:avLst/>
          </a:prstGeom>
          <a:ln w="0">
            <a:noFill/>
          </a:ln>
        </p:spPr>
      </p:pic>
      <p:sp>
        <p:nvSpPr>
          <p:cNvPr id="549" name="Text Box 9"/>
          <p:cNvSpPr/>
          <p:nvPr/>
        </p:nvSpPr>
        <p:spPr>
          <a:xfrm>
            <a:off x="2411280" y="6093000"/>
            <a:ext cx="1828800" cy="28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3909e7"/>
                </a:solidFill>
                <a:latin typeface="Arial"/>
              </a:rPr>
              <a:t>Financé par ECHO</a:t>
            </a:r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7848720" cy="86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a36abb"/>
                </a:solidFill>
                <a:latin typeface="SC Alex Bold"/>
              </a:rPr>
              <a:t>Changement dans les moyens d’existence et impact à plus long terme</a:t>
            </a:r>
            <a:endParaRPr b="1" lang="en-US" sz="24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499680" y="1500120"/>
            <a:ext cx="8101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Arrêt des ventes et hypothèques de terres 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Diminution du nombre de ménages endettés et du niveau d’endettement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Production agricole attendue bonne grâce a l’investissement en main d’œuvre dans les champs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Le taux de renumérotation de la main d’œuvre s’est amélioré.</a:t>
            </a: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60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617" name="Espace réservé du numéro de diapositive 3"/>
          <p:cNvSpPr/>
          <p:nvPr/>
        </p:nvSpPr>
        <p:spPr>
          <a:xfrm>
            <a:off x="685800" y="60958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584D1-32AD-42CB-B91D-03109FBA8DFE}" type="slidenum">
              <a:rPr b="1" lang="en-US" sz="1200" spc="-1" strike="noStrike">
                <a:solidFill>
                  <a:srgbClr val="a36ab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23640" y="475920"/>
            <a:ext cx="8569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a36abb"/>
                </a:solidFill>
                <a:latin typeface="SC Alex Bold"/>
              </a:rPr>
              <a:t>Situation nutritionnelle des enfants des ménages ciblés</a:t>
            </a:r>
            <a:endParaRPr b="1" lang="en-US" sz="26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19" name="Espace réservé du numéro de diapositive 3"/>
          <p:cNvSpPr/>
          <p:nvPr/>
        </p:nvSpPr>
        <p:spPr>
          <a:xfrm>
            <a:off x="685800" y="60958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9AB75-1ECC-4A3E-9CC7-738768B0DED3}" type="slidenum">
              <a:rPr b="1" lang="en-US" sz="1200" spc="-1" strike="noStrike">
                <a:solidFill>
                  <a:srgbClr val="a36ab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pic>
        <p:nvPicPr>
          <p:cNvPr id="620" name="Picture 9" descr=""/>
          <p:cNvPicPr/>
          <p:nvPr/>
        </p:nvPicPr>
        <p:blipFill>
          <a:blip r:embed="rId1"/>
          <a:stretch/>
        </p:blipFill>
        <p:spPr>
          <a:xfrm>
            <a:off x="0" y="1484280"/>
            <a:ext cx="6531120" cy="5084640"/>
          </a:xfrm>
          <a:prstGeom prst="rect">
            <a:avLst/>
          </a:prstGeom>
          <a:ln w="0">
            <a:noFill/>
          </a:ln>
        </p:spPr>
      </p:pic>
      <p:sp>
        <p:nvSpPr>
          <p:cNvPr id="621" name="Text Box 10"/>
          <p:cNvSpPr/>
          <p:nvPr/>
        </p:nvSpPr>
        <p:spPr>
          <a:xfrm>
            <a:off x="6588000" y="1413000"/>
            <a:ext cx="273708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C Morgan"/>
              </a:rPr>
              <a:t>Les transferts de cash doivent s’accompagner d’interventions telles que la prévention des maladies et l’apport de suppléments en micronutriments afin de mieux protéger l’état nutritionnel des enfants</a:t>
            </a:r>
            <a:endParaRPr b="0" lang="en-US" sz="2200" spc="-1" strike="noStrike">
              <a:solidFill>
                <a:srgbClr val="a36a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a36abb"/>
                </a:solidFill>
                <a:latin typeface="SC Alex Bold"/>
              </a:rPr>
              <a:t>Difficulté d’un bon ciblage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0" y="1483920"/>
            <a:ext cx="9144000" cy="453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335880" indent="-335880">
              <a:lnSpc>
                <a:spcPct val="10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C Morgan"/>
              </a:rPr>
              <a:t>Les critères de ciblage ont été identifiés et facilement accepté par la communauté.</a:t>
            </a:r>
            <a:endParaRPr b="0" lang="en-US" sz="2200" spc="-1" strike="noStrike">
              <a:solidFill>
                <a:srgbClr val="000000"/>
              </a:solidFill>
              <a:latin typeface="SC Morgan"/>
            </a:endParaRPr>
          </a:p>
          <a:p>
            <a:pPr marL="335880" indent="-335880">
              <a:lnSpc>
                <a:spcPct val="10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C Morgan"/>
              </a:rPr>
              <a:t>Difficile pour les dirigeants d’accepter et de faire accepter que seuls les ménages remplissant les critères pourraient bénéficier de l’aide en cash.</a:t>
            </a:r>
            <a:endParaRPr b="0" lang="en-US" sz="2200" spc="-1" strike="noStrike">
              <a:solidFill>
                <a:srgbClr val="000000"/>
              </a:solidFill>
              <a:latin typeface="SC Morgan"/>
            </a:endParaRPr>
          </a:p>
          <a:p>
            <a:pPr marL="335880" indent="-335880">
              <a:lnSpc>
                <a:spcPct val="10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C Morgan"/>
              </a:rPr>
              <a:t>Au moment des distributions, certaines personnes ont eu du mal à accepter qu’elles ne recevraient rien mais que leurs voisins seraient bénéficiaires.</a:t>
            </a:r>
            <a:endParaRPr b="0" lang="en-US" sz="2200" spc="-1" strike="noStrike">
              <a:solidFill>
                <a:srgbClr val="000000"/>
              </a:solidFill>
              <a:latin typeface="SC Morgan"/>
            </a:endParaRPr>
          </a:p>
          <a:p>
            <a:pPr marL="335880" indent="-335880">
              <a:lnSpc>
                <a:spcPct val="10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C Morgan"/>
              </a:rPr>
              <a:t>Pendant l’exécution du projet plusieurs contrôle ont été nécessaires pour vérifier que les listes de bénéficiaires ciblaient bien les ménages le plus pauvres.</a:t>
            </a:r>
            <a:endParaRPr b="0" lang="en-US" sz="2200" spc="-1" strike="noStrike">
              <a:solidFill>
                <a:srgbClr val="000000"/>
              </a:solidFill>
              <a:latin typeface="SC Morgan"/>
            </a:endParaRPr>
          </a:p>
          <a:p>
            <a:pPr marL="335880" indent="-335880">
              <a:lnSpc>
                <a:spcPct val="10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SC Morgan"/>
              </a:rPr>
              <a:t>Ceci a créer des tensions dans certains villages et des efforts importants des négociations ont été déployés. </a:t>
            </a:r>
            <a:endParaRPr b="0" lang="en-US" sz="2200" spc="-1" strike="noStrike">
              <a:solidFill>
                <a:srgbClr val="000000"/>
              </a:solidFill>
              <a:latin typeface="SC Morgan"/>
            </a:endParaRPr>
          </a:p>
          <a:p>
            <a:pPr marL="335880" indent="0">
              <a:lnSpc>
                <a:spcPct val="100000"/>
              </a:lnSpc>
              <a:spcAft>
                <a:spcPts val="5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4360" y="189000"/>
            <a:ext cx="777240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000" spc="-1" strike="noStrike">
                <a:solidFill>
                  <a:srgbClr val="a36abb"/>
                </a:solidFill>
                <a:latin typeface="SC Alex Bold"/>
              </a:rPr>
              <a:t>Merci</a:t>
            </a:r>
            <a:endParaRPr b="1" lang="en-US" sz="6000" spc="-1" strike="noStrike">
              <a:solidFill>
                <a:srgbClr val="a36abb"/>
              </a:solidFill>
              <a:latin typeface="SC Alex Bold"/>
            </a:endParaRPr>
          </a:p>
        </p:txBody>
      </p:sp>
      <p:pic>
        <p:nvPicPr>
          <p:cNvPr id="625" name="Image 4" descr="cash_dubai.jpg"/>
          <p:cNvPicPr/>
          <p:nvPr/>
        </p:nvPicPr>
        <p:blipFill>
          <a:blip r:embed="rId1"/>
          <a:stretch/>
        </p:blipFill>
        <p:spPr>
          <a:xfrm>
            <a:off x="2771640" y="1052640"/>
            <a:ext cx="3329280" cy="44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6" descr="Matt_purple_morehiwte"/>
          <p:cNvPicPr/>
          <p:nvPr/>
        </p:nvPicPr>
        <p:blipFill>
          <a:blip r:embed="rId2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395280" y="33336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900" spc="-1" strike="noStrike">
                <a:solidFill>
                  <a:srgbClr val="000000"/>
                </a:solidFill>
                <a:latin typeface="SC Alex Bold"/>
              </a:rPr>
              <a:t>Pourquoi ce projet pilote?</a:t>
            </a:r>
            <a:r>
              <a:rPr b="0" lang="en-GB" sz="3900" spc="-1" strike="noStrike">
                <a:solidFill>
                  <a:srgbClr val="000000"/>
                </a:solidFill>
                <a:latin typeface="SC Alex Bold"/>
              </a:rPr>
              <a:t> </a:t>
            </a:r>
            <a:endParaRPr b="1" lang="en-US" sz="39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subTitle"/>
          </p:nvPr>
        </p:nvSpPr>
        <p:spPr>
          <a:xfrm>
            <a:off x="500040" y="1052280"/>
            <a:ext cx="7772400" cy="158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Un travail d’analyse sur les causes de la </a:t>
            </a:r>
            <a:r>
              <a:rPr b="1" lang="fr-FR" sz="2000" spc="-1" strike="noStrike">
                <a:solidFill>
                  <a:srgbClr val="ffc000"/>
                </a:solidFill>
                <a:latin typeface="SC Morgan"/>
              </a:rPr>
              <a:t>malnutrition</a:t>
            </a: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 mené à Tessaoua démontre qu’il parait difficile de prévenir la malnutrition sans </a:t>
            </a:r>
            <a:r>
              <a:rPr b="0" lang="fr-FR" sz="2000" spc="-1" strike="noStrike">
                <a:solidFill>
                  <a:srgbClr val="ffc000"/>
                </a:solidFill>
                <a:latin typeface="SC Morgan"/>
              </a:rPr>
              <a:t>s’attaquer a ses déterminants économiques </a:t>
            </a: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car :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- les ménages les plus pauvres ne peuvent souvent pas couvrir leur besoins alimentaires de base (couverture énergétique) pendant la période de soudure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- les ménages les plus pauvres ne peuvent souvent pas s’offrir une alimentation équilibrée tout au long de l’année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</p:txBody>
      </p:sp>
      <p:pic>
        <p:nvPicPr>
          <p:cNvPr id="553" name="Picture 13" descr="SC-logo_w"/>
          <p:cNvPicPr/>
          <p:nvPr/>
        </p:nvPicPr>
        <p:blipFill>
          <a:blip r:embed="rId3"/>
          <a:stretch/>
        </p:blipFill>
        <p:spPr>
          <a:xfrm>
            <a:off x="5072040" y="5786280"/>
            <a:ext cx="3429000" cy="696960"/>
          </a:xfrm>
          <a:prstGeom prst="rect">
            <a:avLst/>
          </a:prstGeom>
          <a:ln w="0">
            <a:noFill/>
          </a:ln>
        </p:spPr>
      </p:pic>
      <p:sp>
        <p:nvSpPr>
          <p:cNvPr id="554" name="Rectangle 10"/>
          <p:cNvSpPr/>
          <p:nvPr/>
        </p:nvSpPr>
        <p:spPr>
          <a:xfrm>
            <a:off x="1071720" y="4581360"/>
            <a:ext cx="7129440" cy="10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c00000"/>
                </a:solidFill>
                <a:latin typeface="SC Morgan"/>
              </a:rPr>
              <a:t>Si l’on donne les moyens économiques aux ménages les plus pauvres, est-ce que ceux-ci vont investir dans l’alimentation et le soin de leurs enfants ? Est-ce que des transferts direct de cash peuvent contribuer a réduire la malnutrition ?  </a:t>
            </a: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55" name="Flèche droite 6"/>
          <p:cNvSpPr/>
          <p:nvPr/>
        </p:nvSpPr>
        <p:spPr>
          <a:xfrm>
            <a:off x="428760" y="4500720"/>
            <a:ext cx="500040" cy="42840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85800" y="62028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a36abb"/>
                </a:solidFill>
                <a:latin typeface="SC Alex Bold"/>
              </a:rPr>
              <a:t>Description du proje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57" name=""/>
          <p:cNvSpPr txBox="1"/>
          <p:nvPr/>
        </p:nvSpPr>
        <p:spPr>
          <a:xfrm>
            <a:off x="642960" y="1571400"/>
            <a:ext cx="814392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marL="332640" indent="-33264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Collaboration avec le CSR-PGCA de Tessaoua </a:t>
            </a: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(choix  zones d’intervention, contrepartie, validation critères de ciblage)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32640" indent="-33264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Bénéficiaires: </a:t>
            </a: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1500 ménages très pauvres </a:t>
            </a: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dans les zones déclarées à forte insécurité alimentaire (priorité aux mères d’enfants de moins de 5 ans)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32640" indent="-33264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3 transferts de 20,000 F chacun pendant la période de soudure (transfert avec les commerçants)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32640" indent="-33264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Contrepartie : 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lvl="1" marL="720720" indent="-277200">
              <a:lnSpc>
                <a:spcPct val="110000"/>
              </a:lnSpc>
              <a:spcAft>
                <a:spcPts val="400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SC Morgan"/>
              </a:rPr>
              <a:t>Participation à des sessions de sensibilisation sur la prévention de la malnutrition (traitement et prévention de la diarrhée et du paludisme, allaitement, sevrage et diversité alimentaire)</a:t>
            </a:r>
            <a:endParaRPr b="0" lang="en-US" sz="1600" spc="-1" strike="noStrike">
              <a:solidFill>
                <a:srgbClr val="000000"/>
              </a:solidFill>
              <a:latin typeface="SC Morgan"/>
            </a:endParaRPr>
          </a:p>
          <a:p>
            <a:pPr lvl="1" marL="720720" indent="-277200">
              <a:lnSpc>
                <a:spcPct val="110000"/>
              </a:lnSpc>
              <a:spcAft>
                <a:spcPts val="400"/>
              </a:spcAft>
              <a:buClr>
                <a:srgbClr val="a36abb"/>
              </a:buClr>
              <a:buFont typeface="SC Morg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SC Morgan"/>
              </a:rPr>
              <a:t>Amélioration des conditions d’hygiène dans le village (comite de salubrité publique)</a:t>
            </a:r>
            <a:endParaRPr b="0" lang="en-US" sz="1600" spc="-1" strike="noStrike">
              <a:solidFill>
                <a:srgbClr val="000000"/>
              </a:solidFill>
              <a:latin typeface="SC Morgan"/>
            </a:endParaRPr>
          </a:p>
          <a:p>
            <a:pPr marL="332640" indent="-33264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32640" indent="-33264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</p:txBody>
      </p:sp>
      <p:sp>
        <p:nvSpPr>
          <p:cNvPr id="558" name="Espace réservé du numéro de diapositive 3"/>
          <p:cNvSpPr/>
          <p:nvPr/>
        </p:nvSpPr>
        <p:spPr>
          <a:xfrm>
            <a:off x="685800" y="60958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758AD-B34A-40D1-A3BD-603CFBC112BE}" type="slidenum">
              <a:rPr b="1" lang="en-US" sz="1200" spc="-1" strike="noStrike">
                <a:solidFill>
                  <a:srgbClr val="a36ab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784836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000" spc="-1" strike="noStrike">
                <a:solidFill>
                  <a:srgbClr val="a36abb"/>
                </a:solidFill>
                <a:latin typeface="SC Alex Bold"/>
              </a:rPr>
              <a:t>Monitoring et évaluation du projet</a:t>
            </a:r>
            <a:endParaRPr b="1" lang="en-US" sz="30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60" name="Espace réservé du numéro de diapositive 3"/>
          <p:cNvSpPr/>
          <p:nvPr/>
        </p:nvSpPr>
        <p:spPr>
          <a:xfrm>
            <a:off x="428760" y="614376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1B771-954C-4FE4-9FA5-03DD60D3D490}" type="slidenum">
              <a:rPr b="1" lang="en-US" sz="1200" spc="-1" strike="noStrike">
                <a:solidFill>
                  <a:srgbClr val="a36ab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1" name="Rectangle 4"/>
          <p:cNvSpPr/>
          <p:nvPr/>
        </p:nvSpPr>
        <p:spPr>
          <a:xfrm>
            <a:off x="539640" y="4437000"/>
            <a:ext cx="7858080" cy="500040"/>
          </a:xfrm>
          <a:prstGeom prst="rect">
            <a:avLst/>
          </a:prstGeom>
          <a:solidFill>
            <a:srgbClr val="92d050"/>
          </a:soli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2" name="Connecteur droit 6"/>
          <p:cNvSpPr/>
          <p:nvPr/>
        </p:nvSpPr>
        <p:spPr>
          <a:xfrm flipH="1">
            <a:off x="2857680" y="4071960"/>
            <a:ext cx="1440" cy="85716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3" name="Connecteur droit 7"/>
          <p:cNvSpPr/>
          <p:nvPr/>
        </p:nvSpPr>
        <p:spPr>
          <a:xfrm flipH="1">
            <a:off x="4071960" y="4071960"/>
            <a:ext cx="1440" cy="85716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4" name="Connecteur droit 8"/>
          <p:cNvSpPr/>
          <p:nvPr/>
        </p:nvSpPr>
        <p:spPr>
          <a:xfrm flipH="1">
            <a:off x="5285880" y="4071960"/>
            <a:ext cx="1800" cy="857160"/>
          </a:xfrm>
          <a:prstGeom prst="line">
            <a:avLst/>
          </a:prstGeom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5" name="Espace réservé du numéro de diapositive 3"/>
          <p:cNvSpPr/>
          <p:nvPr/>
        </p:nvSpPr>
        <p:spPr>
          <a:xfrm>
            <a:off x="1116000" y="4581360"/>
            <a:ext cx="6429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uin</a:t>
            </a:r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6" name="Espace réservé du numéro de diapositive 3"/>
          <p:cNvSpPr/>
          <p:nvPr/>
        </p:nvSpPr>
        <p:spPr>
          <a:xfrm>
            <a:off x="2268360" y="4581360"/>
            <a:ext cx="6429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Juillet</a:t>
            </a:r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7" name="Espace réservé du numéro de diapositive 3"/>
          <p:cNvSpPr/>
          <p:nvPr/>
        </p:nvSpPr>
        <p:spPr>
          <a:xfrm>
            <a:off x="3276720" y="4581360"/>
            <a:ext cx="642960" cy="2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out</a:t>
            </a:r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8" name="Espace réservé du numéro de diapositive 3"/>
          <p:cNvSpPr/>
          <p:nvPr/>
        </p:nvSpPr>
        <p:spPr>
          <a:xfrm>
            <a:off x="4357800" y="4572000"/>
            <a:ext cx="92844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Septembre</a:t>
            </a:r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69" name="Espace réservé du numéro de diapositive 3"/>
          <p:cNvSpPr/>
          <p:nvPr/>
        </p:nvSpPr>
        <p:spPr>
          <a:xfrm>
            <a:off x="5643720" y="4572000"/>
            <a:ext cx="6429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Octobre</a:t>
            </a:r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0" name="Espace réservé du numéro de diapositive 3"/>
          <p:cNvSpPr/>
          <p:nvPr/>
        </p:nvSpPr>
        <p:spPr>
          <a:xfrm>
            <a:off x="6786720" y="4572000"/>
            <a:ext cx="85716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Novembre</a:t>
            </a:r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1" name="Connecteur droit 18"/>
          <p:cNvSpPr/>
          <p:nvPr/>
        </p:nvSpPr>
        <p:spPr>
          <a:xfrm flipH="1">
            <a:off x="1855800" y="443088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2" name="Connecteur droit 19"/>
          <p:cNvSpPr/>
          <p:nvPr/>
        </p:nvSpPr>
        <p:spPr>
          <a:xfrm flipH="1">
            <a:off x="2928960" y="442908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3" name="Connecteur droit 20"/>
          <p:cNvSpPr/>
          <p:nvPr/>
        </p:nvSpPr>
        <p:spPr>
          <a:xfrm flipH="1">
            <a:off x="4142880" y="442908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4" name="Connecteur droit 21"/>
          <p:cNvSpPr/>
          <p:nvPr/>
        </p:nvSpPr>
        <p:spPr>
          <a:xfrm flipH="1">
            <a:off x="5357880" y="442908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5" name="Connecteur droit 22"/>
          <p:cNvSpPr/>
          <p:nvPr/>
        </p:nvSpPr>
        <p:spPr>
          <a:xfrm flipH="1">
            <a:off x="6500880" y="4429080"/>
            <a:ext cx="144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6" name="Connecteur droit 23"/>
          <p:cNvSpPr/>
          <p:nvPr/>
        </p:nvSpPr>
        <p:spPr>
          <a:xfrm flipH="1">
            <a:off x="7714800" y="4429080"/>
            <a:ext cx="1800" cy="500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7" name="Espace réservé du numéro de diapositive 3"/>
          <p:cNvSpPr/>
          <p:nvPr/>
        </p:nvSpPr>
        <p:spPr>
          <a:xfrm>
            <a:off x="2071800" y="3714840"/>
            <a:ext cx="158580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Distribution 1</a:t>
            </a:r>
            <a:endParaRPr b="0" lang="en-US" sz="1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8" name="Espace réservé du numéro de diapositive 3"/>
          <p:cNvSpPr/>
          <p:nvPr/>
        </p:nvSpPr>
        <p:spPr>
          <a:xfrm>
            <a:off x="3571920" y="371484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Distribution</a:t>
            </a:r>
            <a:r>
              <a:rPr b="1" lang="en-US" sz="1200" spc="-1" strike="noStrike">
                <a:solidFill>
                  <a:srgbClr val="0070c0"/>
                </a:solidFill>
                <a:latin typeface="Arial"/>
              </a:rPr>
              <a:t> 2</a:t>
            </a:r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79" name="Espace réservé du numéro de diapositive 3"/>
          <p:cNvSpPr/>
          <p:nvPr/>
        </p:nvSpPr>
        <p:spPr>
          <a:xfrm>
            <a:off x="5072040" y="3714840"/>
            <a:ext cx="1371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70c0"/>
                </a:solidFill>
                <a:latin typeface="Arial"/>
              </a:rPr>
              <a:t>Distribution 3</a:t>
            </a:r>
            <a:endParaRPr b="0" lang="en-US" sz="1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0" name="Espace réservé du numéro de diapositive 3"/>
          <p:cNvSpPr/>
          <p:nvPr/>
        </p:nvSpPr>
        <p:spPr>
          <a:xfrm>
            <a:off x="1214280" y="528624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Baseline</a:t>
            </a:r>
            <a:endParaRPr b="0" lang="en-US" sz="1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1" name="Espace réservé du numéro de diapositive 3"/>
          <p:cNvSpPr/>
          <p:nvPr/>
        </p:nvSpPr>
        <p:spPr>
          <a:xfrm>
            <a:off x="3357720" y="5072040"/>
            <a:ext cx="20714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Suivi a mi-parcours</a:t>
            </a:r>
            <a:endParaRPr b="0" lang="en-US" sz="1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2" name="Espace réservé du numéro de diapositive 3"/>
          <p:cNvSpPr/>
          <p:nvPr/>
        </p:nvSpPr>
        <p:spPr>
          <a:xfrm>
            <a:off x="6000840" y="5143680"/>
            <a:ext cx="150012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0000"/>
                </a:solidFill>
                <a:latin typeface="Arial"/>
              </a:rPr>
              <a:t>Evaluation finale</a:t>
            </a:r>
            <a:endParaRPr b="0" lang="en-US" sz="1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3" name="Flèche vers le haut 33"/>
          <p:cNvSpPr/>
          <p:nvPr/>
        </p:nvSpPr>
        <p:spPr>
          <a:xfrm>
            <a:off x="1571760" y="4929120"/>
            <a:ext cx="14292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4" name="Flèche vers le haut 34"/>
          <p:cNvSpPr/>
          <p:nvPr/>
        </p:nvSpPr>
        <p:spPr>
          <a:xfrm>
            <a:off x="4071960" y="4929120"/>
            <a:ext cx="142920" cy="357120"/>
          </a:xfrm>
          <a:prstGeom prst="upArrow">
            <a:avLst>
              <a:gd name="adj1" fmla="val 50000"/>
              <a:gd name="adj2" fmla="val 49975"/>
            </a:avLst>
          </a:pr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5" name="Flèche vers le haut 35"/>
          <p:cNvSpPr/>
          <p:nvPr/>
        </p:nvSpPr>
        <p:spPr>
          <a:xfrm>
            <a:off x="6500880" y="4929120"/>
            <a:ext cx="133200" cy="357120"/>
          </a:xfrm>
          <a:prstGeom prst="upArrow">
            <a:avLst>
              <a:gd name="adj1" fmla="val 50000"/>
              <a:gd name="adj2" fmla="val 50047"/>
            </a:avLst>
          </a:pr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6" name="Étoile à 5 branches 36"/>
          <p:cNvSpPr/>
          <p:nvPr/>
        </p:nvSpPr>
        <p:spPr>
          <a:xfrm>
            <a:off x="1571760" y="5572080"/>
            <a:ext cx="214200" cy="142920"/>
          </a:xfrm>
          <a:custGeom>
            <a:avLst/>
            <a:gdLst>
              <a:gd name="textAreaLeft" fmla="*/ 66240 w 214200"/>
              <a:gd name="textAreaRight" fmla="*/ 147960 w 21420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214313" h="142875">
                <a:moveTo>
                  <a:pt x="0" y="54573"/>
                </a:moveTo>
                <a:lnTo>
                  <a:pt x="81861" y="54574"/>
                </a:lnTo>
                <a:lnTo>
                  <a:pt x="107157" y="0"/>
                </a:lnTo>
                <a:lnTo>
                  <a:pt x="132452" y="54574"/>
                </a:lnTo>
                <a:lnTo>
                  <a:pt x="214313" y="54573"/>
                </a:lnTo>
                <a:lnTo>
                  <a:pt x="148086" y="88301"/>
                </a:lnTo>
                <a:lnTo>
                  <a:pt x="173383" y="142875"/>
                </a:lnTo>
                <a:lnTo>
                  <a:pt x="107157" y="109146"/>
                </a:lnTo>
                <a:lnTo>
                  <a:pt x="40930" y="142875"/>
                </a:lnTo>
                <a:lnTo>
                  <a:pt x="66227" y="88301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7" name="Étoile à 5 branches 37"/>
          <p:cNvSpPr/>
          <p:nvPr/>
        </p:nvSpPr>
        <p:spPr>
          <a:xfrm>
            <a:off x="4000680" y="5643720"/>
            <a:ext cx="214200" cy="142560"/>
          </a:xfrm>
          <a:custGeom>
            <a:avLst/>
            <a:gdLst>
              <a:gd name="textAreaLeft" fmla="*/ 66240 w 214200"/>
              <a:gd name="textAreaRight" fmla="*/ 147960 w 214200"/>
              <a:gd name="textAreaTop" fmla="*/ 54360 h 142560"/>
              <a:gd name="textAreaBottom" fmla="*/ 109080 h 142560"/>
            </a:gdLst>
            <a:ahLst/>
            <a:rect l="textAreaLeft" t="textAreaTop" r="textAreaRight" b="textAreaBottom"/>
            <a:pathLst>
              <a:path w="214313" h="142875">
                <a:moveTo>
                  <a:pt x="0" y="54573"/>
                </a:moveTo>
                <a:lnTo>
                  <a:pt x="81861" y="54574"/>
                </a:lnTo>
                <a:lnTo>
                  <a:pt x="107157" y="0"/>
                </a:lnTo>
                <a:lnTo>
                  <a:pt x="132452" y="54574"/>
                </a:lnTo>
                <a:lnTo>
                  <a:pt x="214313" y="54573"/>
                </a:lnTo>
                <a:lnTo>
                  <a:pt x="148086" y="88301"/>
                </a:lnTo>
                <a:lnTo>
                  <a:pt x="173383" y="142875"/>
                </a:lnTo>
                <a:lnTo>
                  <a:pt x="107157" y="109146"/>
                </a:lnTo>
                <a:lnTo>
                  <a:pt x="40930" y="142875"/>
                </a:lnTo>
                <a:lnTo>
                  <a:pt x="66227" y="88301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8" name="Étoile à 5 branches 38"/>
          <p:cNvSpPr/>
          <p:nvPr/>
        </p:nvSpPr>
        <p:spPr>
          <a:xfrm>
            <a:off x="5143680" y="5000760"/>
            <a:ext cx="214200" cy="142920"/>
          </a:xfrm>
          <a:custGeom>
            <a:avLst/>
            <a:gdLst>
              <a:gd name="textAreaLeft" fmla="*/ 66240 w 214200"/>
              <a:gd name="textAreaRight" fmla="*/ 147960 w 21420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214313" h="142875">
                <a:moveTo>
                  <a:pt x="0" y="54573"/>
                </a:moveTo>
                <a:lnTo>
                  <a:pt x="81861" y="54574"/>
                </a:lnTo>
                <a:lnTo>
                  <a:pt x="107157" y="0"/>
                </a:lnTo>
                <a:lnTo>
                  <a:pt x="132452" y="54574"/>
                </a:lnTo>
                <a:lnTo>
                  <a:pt x="214313" y="54573"/>
                </a:lnTo>
                <a:lnTo>
                  <a:pt x="148086" y="88301"/>
                </a:lnTo>
                <a:lnTo>
                  <a:pt x="173383" y="142875"/>
                </a:lnTo>
                <a:lnTo>
                  <a:pt x="107157" y="109146"/>
                </a:lnTo>
                <a:lnTo>
                  <a:pt x="40930" y="142875"/>
                </a:lnTo>
                <a:lnTo>
                  <a:pt x="66227" y="88301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89" name="Étoile à 5 branches 39"/>
          <p:cNvSpPr/>
          <p:nvPr/>
        </p:nvSpPr>
        <p:spPr>
          <a:xfrm>
            <a:off x="6500880" y="5572080"/>
            <a:ext cx="214200" cy="142920"/>
          </a:xfrm>
          <a:custGeom>
            <a:avLst/>
            <a:gdLst>
              <a:gd name="textAreaLeft" fmla="*/ 66240 w 214200"/>
              <a:gd name="textAreaRight" fmla="*/ 147960 w 21420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214312" h="142875">
                <a:moveTo>
                  <a:pt x="0" y="54573"/>
                </a:moveTo>
                <a:lnTo>
                  <a:pt x="81860" y="54574"/>
                </a:lnTo>
                <a:lnTo>
                  <a:pt x="107156" y="0"/>
                </a:lnTo>
                <a:lnTo>
                  <a:pt x="132452" y="54574"/>
                </a:lnTo>
                <a:lnTo>
                  <a:pt x="214312" y="54573"/>
                </a:lnTo>
                <a:lnTo>
                  <a:pt x="148085" y="88301"/>
                </a:lnTo>
                <a:lnTo>
                  <a:pt x="173382" y="142875"/>
                </a:lnTo>
                <a:lnTo>
                  <a:pt x="107156" y="109146"/>
                </a:lnTo>
                <a:lnTo>
                  <a:pt x="40930" y="142875"/>
                </a:lnTo>
                <a:lnTo>
                  <a:pt x="66227" y="88301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90" name="Étoile à 5 branches 40"/>
          <p:cNvSpPr/>
          <p:nvPr/>
        </p:nvSpPr>
        <p:spPr>
          <a:xfrm>
            <a:off x="1143000" y="6215040"/>
            <a:ext cx="214200" cy="142920"/>
          </a:xfrm>
          <a:custGeom>
            <a:avLst/>
            <a:gdLst>
              <a:gd name="textAreaLeft" fmla="*/ 66240 w 214200"/>
              <a:gd name="textAreaRight" fmla="*/ 147960 w 214200"/>
              <a:gd name="textAreaTop" fmla="*/ 54720 h 142920"/>
              <a:gd name="textAreaBottom" fmla="*/ 109440 h 142920"/>
            </a:gdLst>
            <a:ahLst/>
            <a:rect l="textAreaLeft" t="textAreaTop" r="textAreaRight" b="textAreaBottom"/>
            <a:pathLst>
              <a:path w="214313" h="142875">
                <a:moveTo>
                  <a:pt x="0" y="54573"/>
                </a:moveTo>
                <a:lnTo>
                  <a:pt x="81861" y="54574"/>
                </a:lnTo>
                <a:lnTo>
                  <a:pt x="107157" y="0"/>
                </a:lnTo>
                <a:lnTo>
                  <a:pt x="132452" y="54574"/>
                </a:lnTo>
                <a:lnTo>
                  <a:pt x="214313" y="54573"/>
                </a:lnTo>
                <a:lnTo>
                  <a:pt x="148086" y="88301"/>
                </a:lnTo>
                <a:lnTo>
                  <a:pt x="173383" y="142875"/>
                </a:lnTo>
                <a:lnTo>
                  <a:pt x="107157" y="109146"/>
                </a:lnTo>
                <a:lnTo>
                  <a:pt x="40930" y="142875"/>
                </a:lnTo>
                <a:lnTo>
                  <a:pt x="66227" y="88301"/>
                </a:lnTo>
                <a:close/>
              </a:path>
            </a:pathLst>
          </a:custGeom>
          <a:solidFill>
            <a:srgbClr val="c00000"/>
          </a:solidFill>
          <a:ln w="9360">
            <a:solidFill>
              <a:srgbClr val="a36a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920" bIns="7920" anchor="t">
            <a:noAutofit/>
          </a:bodyPr>
          <a:p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91" name="Espace réservé du numéro de diapositive 3"/>
          <p:cNvSpPr/>
          <p:nvPr/>
        </p:nvSpPr>
        <p:spPr>
          <a:xfrm>
            <a:off x="1428840" y="6072120"/>
            <a:ext cx="23572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c00000"/>
                </a:solidFill>
                <a:latin typeface="Arial"/>
              </a:rPr>
              <a:t>Suivi anthropometrique</a:t>
            </a:r>
            <a:endParaRPr b="0" lang="en-US" sz="14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592" name=""/>
          <p:cNvSpPr txBox="1"/>
          <p:nvPr/>
        </p:nvSpPr>
        <p:spPr>
          <a:xfrm>
            <a:off x="179280" y="1413000"/>
            <a:ext cx="9144000" cy="221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10000"/>
              </a:lnSpc>
              <a:spcAft>
                <a:spcPts val="45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C Morgan"/>
              </a:rPr>
              <a:t>100 ménages bénéficiaires suivis (IHEA – diversité alimentaire, soin, santé aux enfants, facteurs socio-économique,appréciation du programme)</a:t>
            </a:r>
            <a:endParaRPr b="0" lang="en-US" sz="18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45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C Morgan"/>
              </a:rPr>
              <a:t>Suivi anthropométrique des enfants &lt;5 des 100 ménages suivis</a:t>
            </a:r>
            <a:endParaRPr b="0" lang="en-US" sz="18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45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C Morgan"/>
              </a:rPr>
              <a:t>Focus group avec ménages non bénéficiaires, entretiens autorités locales…</a:t>
            </a:r>
            <a:endParaRPr b="0" lang="en-US" sz="18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45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marL="343080" indent="-34308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3" name="Picture 6" descr="Matt_purple_morehiwte"/>
          <p:cNvPicPr/>
          <p:nvPr/>
        </p:nvPicPr>
        <p:blipFill>
          <a:blip r:embed="rId1"/>
          <a:stretch/>
        </p:blipFill>
        <p:spPr>
          <a:xfrm>
            <a:off x="0" y="0"/>
            <a:ext cx="9144000" cy="7162920"/>
          </a:xfrm>
          <a:prstGeom prst="rect">
            <a:avLst/>
          </a:prstGeom>
          <a:ln w="0">
            <a:noFill/>
          </a:ln>
        </p:spPr>
      </p:pic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52320"/>
            <a:ext cx="777240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000" spc="-1" strike="noStrike">
                <a:solidFill>
                  <a:srgbClr val="000000"/>
                </a:solidFill>
                <a:latin typeface="SC Alex Bold"/>
              </a:rPr>
              <a:t>Résultats de l’évaluation finale</a:t>
            </a:r>
            <a:r>
              <a:rPr b="0" lang="fr-FR" sz="4700" spc="-1" strike="noStrike">
                <a:solidFill>
                  <a:srgbClr val="000000"/>
                </a:solidFill>
                <a:latin typeface="SC Alex Bold"/>
              </a:rPr>
              <a:t> </a:t>
            </a:r>
            <a:endParaRPr b="1" lang="en-US" sz="47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500040" y="1773360"/>
            <a:ext cx="2928960" cy="324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Comment l’argent a t’il été investi ?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Est-ce que ce type d’intervention peut prévenir la malnutrition ?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  <a:p>
            <a:pPr indent="0">
              <a:lnSpc>
                <a:spcPct val="100000"/>
              </a:lnSpc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Y a-t-il des impacts a long- terme ?</a:t>
            </a:r>
            <a:endParaRPr b="0" lang="en-US" sz="2000" spc="-1" strike="noStrike">
              <a:solidFill>
                <a:srgbClr val="000000"/>
              </a:solidFill>
              <a:latin typeface="SC Morgan"/>
            </a:endParaRPr>
          </a:p>
        </p:txBody>
      </p:sp>
      <p:pic>
        <p:nvPicPr>
          <p:cNvPr id="596" name="Picture 13" descr="SC-logo_w"/>
          <p:cNvPicPr/>
          <p:nvPr/>
        </p:nvPicPr>
        <p:blipFill>
          <a:blip r:embed="rId2"/>
          <a:stretch/>
        </p:blipFill>
        <p:spPr>
          <a:xfrm>
            <a:off x="5076720" y="5516640"/>
            <a:ext cx="3429000" cy="696960"/>
          </a:xfrm>
          <a:prstGeom prst="rect">
            <a:avLst/>
          </a:prstGeom>
          <a:ln w="0">
            <a:noFill/>
          </a:ln>
        </p:spPr>
      </p:pic>
      <p:pic>
        <p:nvPicPr>
          <p:cNvPr id="597" name="Image 5" descr="phon 479.JPG"/>
          <p:cNvPicPr/>
          <p:nvPr/>
        </p:nvPicPr>
        <p:blipFill>
          <a:blip r:embed="rId3"/>
          <a:stretch/>
        </p:blipFill>
        <p:spPr>
          <a:xfrm>
            <a:off x="3564000" y="1700280"/>
            <a:ext cx="5000400" cy="3335400"/>
          </a:xfrm>
          <a:prstGeom prst="rect">
            <a:avLst/>
          </a:prstGeom>
          <a:ln w="0">
            <a:noFill/>
          </a:ln>
        </p:spPr>
      </p:pic>
      <p:sp>
        <p:nvSpPr>
          <p:cNvPr id="598" name="Rectangle 10"/>
          <p:cNvSpPr/>
          <p:nvPr/>
        </p:nvSpPr>
        <p:spPr>
          <a:xfrm>
            <a:off x="324000" y="5373720"/>
            <a:ext cx="45766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Est-ce qu’il est facile de faire un bon ciblage avec ce type de projet ?</a:t>
            </a: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684000" y="333360"/>
            <a:ext cx="7848360" cy="100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a36abb"/>
                </a:solidFill>
                <a:latin typeface="SC Alex Bold"/>
              </a:rPr>
              <a:t>Revenus mensuels des ménages avant et après les distributions</a:t>
            </a:r>
            <a:endParaRPr b="1" lang="en-US" sz="32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00" name="Espace réservé du numéro de diapositive 3"/>
          <p:cNvSpPr/>
          <p:nvPr/>
        </p:nvSpPr>
        <p:spPr>
          <a:xfrm>
            <a:off x="685800" y="60958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2EC68-DCBA-4066-9183-CE2187683B70}" type="slidenum">
              <a:rPr b="1" lang="en-US" sz="1200" spc="-1" strike="noStrike">
                <a:solidFill>
                  <a:srgbClr val="a36ab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601" name="Espace réservé du contenu 2"/>
          <p:cNvSpPr/>
          <p:nvPr/>
        </p:nvSpPr>
        <p:spPr>
          <a:xfrm>
            <a:off x="5796000" y="1557360"/>
            <a:ext cx="3348000" cy="20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Aft>
                <a:spcPts val="45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C Morgan"/>
              </a:rPr>
              <a:t>Réduction de la dépendance des ménages vis-à-vis de certaines sources de revenus au profit des activités agricoles</a:t>
            </a:r>
            <a:endParaRPr b="0" lang="en-US" sz="18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45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C Morgan"/>
              </a:rPr>
              <a:t>Réduction de la participation des femmes et des enfants dans le revenu</a:t>
            </a:r>
            <a:endParaRPr b="0" lang="en-US" sz="18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451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SC Morgan"/>
              </a:rPr>
              <a:t>Réduction du recours au crédit et des tâches difficiles</a:t>
            </a:r>
            <a:endParaRPr b="0" lang="en-US" sz="18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36abb"/>
              </a:solidFill>
              <a:latin typeface="Arial"/>
            </a:endParaRPr>
          </a:p>
        </p:txBody>
      </p:sp>
      <p:pic>
        <p:nvPicPr>
          <p:cNvPr id="602" name="Picture 12" descr=""/>
          <p:cNvPicPr/>
          <p:nvPr/>
        </p:nvPicPr>
        <p:blipFill>
          <a:blip r:embed="rId1"/>
          <a:stretch/>
        </p:blipFill>
        <p:spPr>
          <a:xfrm>
            <a:off x="179280" y="1566720"/>
            <a:ext cx="5977080" cy="488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10920" y="33300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a36abb"/>
                </a:solidFill>
                <a:latin typeface="SC Alex Bold"/>
              </a:rPr>
              <a:t>Comment les ménages bénéficiaires ont-ils utilisé l’argent distribué?</a:t>
            </a:r>
            <a:endParaRPr b="1" lang="en-US" sz="26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04" name="Espace réservé du numéro de diapositive 3"/>
          <p:cNvSpPr/>
          <p:nvPr/>
        </p:nvSpPr>
        <p:spPr>
          <a:xfrm>
            <a:off x="685800" y="60958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A93E8-D483-4444-9F28-8B2125F650D4}" type="slidenum">
              <a:rPr b="1" lang="en-US" sz="1200" spc="-1" strike="noStrike">
                <a:solidFill>
                  <a:srgbClr val="a36ab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605" name="Espace réservé du contenu 2"/>
          <p:cNvSpPr/>
          <p:nvPr/>
        </p:nvSpPr>
        <p:spPr>
          <a:xfrm>
            <a:off x="5364000" y="1413000"/>
            <a:ext cx="40752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L’argent additionnel a été investi en priorité dans l’alimentation(en quantité et qualité)</a:t>
            </a: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Les autres postes de dépenses sont quasi inchangés</a:t>
            </a: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En période de récolte l’argent est investi dans les produits non alimentaires</a:t>
            </a: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De nombreux ménages ont été taxés(500 à 1000F)</a:t>
            </a: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499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Aft>
                <a:spcPts val="550"/>
              </a:spcAft>
              <a:buClr>
                <a:srgbClr val="a36abb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a36abb"/>
              </a:solidFill>
              <a:latin typeface="Arial"/>
            </a:endParaRPr>
          </a:p>
        </p:txBody>
      </p:sp>
      <p:pic>
        <p:nvPicPr>
          <p:cNvPr id="606" name="Picture 8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5040360" cy="4679640"/>
          </a:xfrm>
          <a:prstGeom prst="rect">
            <a:avLst/>
          </a:prstGeom>
          <a:ln w="0">
            <a:noFill/>
          </a:ln>
        </p:spPr>
      </p:pic>
      <p:sp>
        <p:nvSpPr>
          <p:cNvPr id="607" name="Text Box 10"/>
          <p:cNvSpPr/>
          <p:nvPr/>
        </p:nvSpPr>
        <p:spPr>
          <a:xfrm>
            <a:off x="473760" y="1581120"/>
            <a:ext cx="314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a36abb"/>
                </a:solidFill>
                <a:latin typeface="Arial"/>
              </a:rPr>
              <a:t>Dépenses mensuel du ménage</a:t>
            </a:r>
            <a:endParaRPr b="0" lang="en-US" sz="1600" spc="-1" strike="noStrike">
              <a:solidFill>
                <a:srgbClr val="a36a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848720" cy="8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a36abb"/>
                </a:solidFill>
                <a:latin typeface="SC Alex Bold"/>
              </a:rPr>
              <a:t>Couverture des besoins alimentaires de base</a:t>
            </a:r>
            <a:endParaRPr b="1" lang="en-US" sz="2600" spc="-1" strike="noStrike">
              <a:solidFill>
                <a:srgbClr val="a36abb"/>
              </a:solidFill>
              <a:latin typeface="SC Alex Bold"/>
            </a:endParaRPr>
          </a:p>
        </p:txBody>
      </p:sp>
      <p:sp>
        <p:nvSpPr>
          <p:cNvPr id="609" name="Espace réservé du numéro de diapositive 3"/>
          <p:cNvSpPr/>
          <p:nvPr/>
        </p:nvSpPr>
        <p:spPr>
          <a:xfrm>
            <a:off x="685800" y="6095880"/>
            <a:ext cx="1371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108B4-BFA1-4358-869C-F50070B9B841}" type="slidenum">
              <a:rPr b="1" lang="en-US" sz="1200" spc="-1" strike="noStrike">
                <a:solidFill>
                  <a:srgbClr val="a36abb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a36abb"/>
              </a:solidFill>
              <a:latin typeface="Arial"/>
            </a:endParaRPr>
          </a:p>
        </p:txBody>
      </p:sp>
      <p:sp>
        <p:nvSpPr>
          <p:cNvPr id="610" name="Espace réservé du contenu 2"/>
          <p:cNvSpPr/>
          <p:nvPr/>
        </p:nvSpPr>
        <p:spPr>
          <a:xfrm>
            <a:off x="5580000" y="1413000"/>
            <a:ext cx="3710160" cy="237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 </a:t>
            </a:r>
            <a:r>
              <a:rPr b="1" lang="fr-FR" sz="2200" spc="-1" strike="noStrike">
                <a:solidFill>
                  <a:srgbClr val="000000"/>
                </a:solidFill>
                <a:latin typeface="SC Morgan"/>
              </a:rPr>
              <a:t>Les transferts</a:t>
            </a:r>
            <a:endParaRPr b="0" lang="en-US" sz="22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SC Morgan"/>
              </a:rPr>
              <a:t>d’argent ciblés sont un moyen efficaces pour permettre aux ménages pauvres d’accéder à la nourriture et de couvrir</a:t>
            </a:r>
            <a:endParaRPr b="0" lang="en-US" sz="2200" spc="-1" strike="noStrike">
              <a:solidFill>
                <a:srgbClr val="a36ab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SC Morgan"/>
              </a:rPr>
              <a:t>certaines carences nutritionnelles</a:t>
            </a:r>
            <a:r>
              <a:rPr b="1" lang="fr-FR" sz="2400" spc="-1" strike="noStrike">
                <a:solidFill>
                  <a:srgbClr val="000000"/>
                </a:solidFill>
                <a:latin typeface="SC Morgan"/>
              </a:rPr>
              <a:t>.</a:t>
            </a:r>
            <a:endParaRPr b="0" lang="en-US" sz="2400" spc="-1" strike="noStrike">
              <a:solidFill>
                <a:srgbClr val="a36abb"/>
              </a:solidFill>
              <a:latin typeface="Arial"/>
            </a:endParaRPr>
          </a:p>
        </p:txBody>
      </p:sp>
      <p:pic>
        <p:nvPicPr>
          <p:cNvPr id="611" name="Picture 13" descr=""/>
          <p:cNvPicPr/>
          <p:nvPr/>
        </p:nvPicPr>
        <p:blipFill>
          <a:blip r:embed="rId1"/>
          <a:stretch/>
        </p:blipFill>
        <p:spPr>
          <a:xfrm>
            <a:off x="179280" y="1487520"/>
            <a:ext cx="532944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896472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600" spc="-1" strike="noStrike">
                <a:solidFill>
                  <a:srgbClr val="a36abb"/>
                </a:solidFill>
                <a:latin typeface="SC Alex Bold"/>
              </a:rPr>
              <a:t>Amélioration de la qualité de l’alimentation</a:t>
            </a:r>
            <a:endParaRPr b="1" lang="en-US" sz="2600" spc="-1" strike="noStrike">
              <a:solidFill>
                <a:srgbClr val="a36abb"/>
              </a:solidFill>
              <a:latin typeface="SC Alex Bold"/>
            </a:endParaRPr>
          </a:p>
        </p:txBody>
      </p:sp>
      <p:pic>
        <p:nvPicPr>
          <p:cNvPr id="613" name="Picture 4" descr=""/>
          <p:cNvPicPr/>
          <p:nvPr/>
        </p:nvPicPr>
        <p:blipFill>
          <a:blip r:embed="rId1"/>
          <a:stretch/>
        </p:blipFill>
        <p:spPr>
          <a:xfrm>
            <a:off x="179280" y="1484280"/>
            <a:ext cx="7413840" cy="4343400"/>
          </a:xfrm>
          <a:prstGeom prst="rect">
            <a:avLst/>
          </a:prstGeom>
          <a:ln w="0">
            <a:noFill/>
          </a:ln>
        </p:spPr>
      </p:pic>
      <p:sp>
        <p:nvSpPr>
          <p:cNvPr id="614" name="Text Box 5"/>
          <p:cNvSpPr/>
          <p:nvPr/>
        </p:nvSpPr>
        <p:spPr>
          <a:xfrm>
            <a:off x="6227640" y="1484280"/>
            <a:ext cx="3097440" cy="253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SC Morgan"/>
              </a:rPr>
              <a:t>Au cours du projet, la qualité de leur alimentation s’est largement améliorée </a:t>
            </a:r>
            <a:r>
              <a:rPr b="0" lang="fr-FR" sz="2000" spc="-1" strike="noStrike">
                <a:solidFill>
                  <a:srgbClr val="000000"/>
                </a:solidFill>
                <a:latin typeface="SC Morgan"/>
              </a:rPr>
              <a:t>(achat des légumineuses, huile,viande, lait)</a:t>
            </a:r>
            <a:endParaRPr b="0" lang="en-US" sz="2000" spc="-1" strike="noStrike">
              <a:solidFill>
                <a:srgbClr val="a36ab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5:04:11Z</dcterms:created>
  <dc:creator>rwalton</dc:creator>
  <dc:description/>
  <dc:language>en-US</dc:language>
  <cp:lastModifiedBy>same.coord</cp:lastModifiedBy>
  <dcterms:modified xsi:type="dcterms:W3CDTF">2012-04-18T11:10:04Z</dcterms:modified>
  <cp:revision>67</cp:revision>
  <dc:subject/>
  <dc:title>Presentation title goes here  in up to 2 lines of text</dc:title>
</cp:coreProperties>
</file>