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wmf" ContentType="image/x-wmf"/>
  <Override PartName="/ppt/media/image1.jpeg" ContentType="image/jpeg"/>
  <Override PartName="/ppt/media/image13.wmf" ContentType="image/x-wmf"/>
  <Override PartName="/ppt/media/image8.jpeg" ContentType="image/jpeg"/>
  <Override PartName="/ppt/media/image5.png" ContentType="image/png"/>
  <Override PartName="/ppt/media/image2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9.jpeg" ContentType="image/jpeg"/>
  <Override PartName="/ppt/media/image3.png" ContentType="image/png"/>
  <Override PartName="/ppt/media/image11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523E0-8F78-42D5-B814-7CF73810A5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8EFDD-C6ED-4A45-BF2A-5050F9C3E55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CE07BB-CA64-40B6-9B7C-70832D78827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51879-3B95-498E-B6E9-63A79FD0461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99CCE-D28B-4520-BD55-EF55EF387BB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DF57A-5074-4E77-B533-16110258D9C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B3B0E-394A-4442-8602-7B2745DBA7A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49DBB9-6C4E-4653-BC75-0340C2EB332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2BB8B8-3790-4F56-B0B5-3B477B21734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4750D-7462-4648-98EF-FA8CE4330EE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5C0A01-A280-4969-BF83-3D2CFD0B08A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1BFE4-4052-4A27-83DF-49D63458D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1A3E-5F99-444A-8447-2E083814516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2BA71-B0E8-4162-A402-BE9797858B8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058F5-8840-4343-B167-1B1B2E18C85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4B982-2773-464A-9ECE-DBAA1F74AF8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E73FC-AC15-4F7D-B960-4D63421936B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20085-232D-4DB6-A3C7-09605374621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A51FF-2233-4138-A94F-249C4007AC8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6D6DE-23C4-430E-A057-08DE3D626FC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BD247-692C-4EEA-BB75-0794CDB8D26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84BD8-C801-4D5A-BFC7-A10E67751FA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D27E8-CC71-4CE2-8024-862B2EE40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7F19-AAD3-4677-ACD9-28ACC6BAFBD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22224-082B-4A43-B67E-6A521C56743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204ADC-5768-4AFB-B850-49D8AB883B7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7C7BD5-CE4A-40AE-8DC0-1B55D839878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4C1E01-8E77-4D73-8042-D5745A3177C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3CADF0-B40D-4CA7-941E-8C89F0445AC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FAD1E9-7834-43FF-B12E-AE36F25B03F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80B22C-7CBD-476D-9348-BB58E6782F9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33475F-6211-4609-8191-46FAE69C692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D1DA03-BF46-4592-BD68-3EF3E0096F7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E26239-08A7-4C7F-97BE-F050FA891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08FB9B-4CDE-4A19-84E3-997E6749508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85EA2E-CA6F-4217-BAFC-EAA5B742E79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AE1652-36FB-4EDF-B0FE-5B89ECA48B8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494581-8490-4CA8-B360-4AAC45E25A1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1F836D-569A-427F-8BD3-112FD193537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FB4ACB-584D-4280-92C1-04DEE56F14F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300FE3-964B-441B-92F8-0AFE8BF2A0F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3EE2D1-B51D-40A0-B1BB-BF6321CB90B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BD7DA7-9BA3-4897-9461-36D8A816960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E84469-58F5-40B9-A494-A35E06C22C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9579B2-9BDB-46D7-B1A6-E08EFEF5E55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066E02-3500-49F6-9183-5069B892F13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BB1384-B049-4EB3-A81F-65C1CCBC0A2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C3B960-6070-446B-87DA-6410D46EFE0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D4DC57-B6CE-451C-9827-071BC852B5A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2D573-64FD-49CB-B609-B619E38D86F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2F58F-E7BD-4B49-88A0-10C3973A956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624C8-827F-430A-BE8D-AAC8A3AE2AE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56FE6-7A79-4B01-A987-3A82795EC4E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7D029-9DBF-43AA-814B-033BD949DC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73A41-0D37-4F58-8ECC-753AAB5214E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E800F-7324-4538-9927-8625F68C69C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628FB-FAE6-4E94-B19F-B7254BA2BDD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9E369-7AAC-45D9-A0B8-DF148B92B7D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2F998-F8BD-485C-9CD0-623849185EB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5C68E-49B2-46F5-AE34-DC433D7C8E9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1B741-6F09-4082-81CC-D28718013C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83C8F-CE3A-4A2F-A875-FF7E62A5AF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5DFE5-41CB-4B1E-801B-ACDF6319E1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F3C55-0806-4C58-A618-688157C8CA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B83E6-607E-4C3E-B0E7-BDD4100766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CA42D-411F-4C27-AC7A-81820ABF68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85440-B2F6-4D2A-97ED-F0DD889680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FAFB-9A73-44D3-95E4-97920FC31E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BEF23-ADF5-4864-98ED-A26974E41C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B0187-797C-45D4-BD81-1901985AA00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5EB4E-8AEC-41CD-94DB-1A40A54D21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58BA8-6BD3-4405-98A7-70CC652441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9C4F7-729B-42F9-8A1E-8F5869D6C02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E94D6-26FC-4058-BB01-810346A774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AC070-B690-478C-ACCD-CF5D7AF2D60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F0AC-555A-449F-BE82-2BFC7A9DF0D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C722-E171-49B6-99A6-F3B8B9BA6C6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99A-E4D3-4D53-9DFF-37F273CD7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64334-A547-4DC7-920D-6C28EB4A7B0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9F1B-E62F-46DF-AEAA-9B4101D5AF6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ABAE-D4A6-4FED-B05C-9674AE5A303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9DA4-699E-4D0F-B6D8-F9BB27DAC47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9576-F0D5-4C20-B81D-DEF17E50C6E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B15D-87BD-4EA5-B4C9-D7B8AE3B1B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2ABC-F136-4C74-97CF-685ACAB56A3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C0AC-8FD3-4329-A55A-E1AF14045D6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905F-D85F-4D49-A0D6-7DC11609CE8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60D5-A423-4B59-9A31-E601287F199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986A8-F269-41F8-8938-2109FA45A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ABAD6-572D-482C-9A14-47C2A132D1A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8ECFF-4BF0-49C3-A679-25AB2B328AA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E1E91-8691-4D9D-A3E6-D6819C80EF7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12335-9C84-41DF-B796-5ADED8FD193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0A8BB-40C4-4611-8320-78D2341B1F5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60CB5-CD9F-4B03-B647-30B47BBC74C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5AD6A-4F28-4712-A518-82CCA8DDF28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F3F25-3AFD-41BD-AFB8-C6B2962E6D1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D7309-A5E3-4EE5-B478-55055FB67A8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D4CA8-4632-4A56-B3D3-E662255530D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F16D8-A935-4092-B95F-C704524A7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07A06-B2A1-4126-ACC4-9745760C506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76A8A-913D-40C0-B6B5-F989707794C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EEC7D-1451-4E16-B99B-0C20485E34A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27B9C-E211-49E0-831C-DFD43125C30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93E7F-7006-47C7-BBD4-4C16C8BCEE6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25DAE-15DA-4C27-A048-F113DA3D565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64694-CA11-4F93-A656-05EEFBD3AF4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F14D0-997D-4A08-B97A-F2140652410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2A7CB-C693-41A8-A79F-AB36889AC98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C48B1-72F6-4CF1-A349-28889FB1BB4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8493E-191D-4A2F-8DE7-7FE9B0DCC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C70BC-691B-46BA-9277-4E1F4822C4C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9EA5F-940C-4541-BDD4-DE4CE6F38EF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15748-1954-4C17-A117-D87FB632549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CBED0-CEE2-4060-B978-326B080ACFF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6378-81E1-4353-AAD1-23CE911B881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B678-801E-46B2-9BEE-5252FE85CDC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5869-CD60-491E-9CEE-5E6821480C2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ED4B-E836-4236-B1CA-8527CB23EC5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E7A9-C92A-4250-9FAB-6B4B37188DB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FAC6-770D-41B5-A90B-74D00180E8D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B77B-DCB7-493C-8B8A-32FEC6131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B9AA3-C8AB-43EA-939D-A326477E67B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FF21-FDB8-4C58-92B0-441A32808BA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8E34-8DE5-4C6D-9598-27747EE69C5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475C-577A-458C-90E3-2FFABD583F4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1A40-D2C3-44FD-B7B8-5E32CCFEFA3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7C04-9B0D-4C12-974C-235A8B76B15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B9150C-4F2B-40EC-B288-14F93A6F210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86F980-7D1F-4D18-9D1B-FF571371261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7B8113-8AC9-4DA5-8958-4DCB6F37670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7BF295-2C88-4B60-BF09-8A4CB9DB59B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85B30E-E917-45CF-B297-00D66EC89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7DC87-FDDC-43BF-A23E-770F7404EA9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3E81AF-0F1C-4D3A-A840-20CAA060764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86A5F8-2E00-4E99-A775-CD00E5130A3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119F5C-3C15-48AF-B4C2-54C047962E1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4709A1-5F8F-487C-84BB-F22FF5DFE5E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537A2F-9254-43F6-AA96-DA9630CC546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111429-D3E8-4022-A58E-B721DC83790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5EA670-2AE7-496B-AFDF-182B7852CAE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30D535-60E9-45C4-AE5C-F1B9F25B6C8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8B341-49C5-4CB3-A1B5-19A87AF6BBB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A28BEE-7802-4D0D-8AFC-7EAD30ED8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pic>
        <p:nvPicPr>
          <p:cNvPr id="3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A6F5-2F88-4BE8-8D64-C29272D8189C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9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9DB0-4B07-4A77-B6F8-FAB9DAAE7C70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10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FCCD-2CEF-40B4-AE15-5F7926536A4F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11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62B0-529E-46A6-AC9D-65ABFB3F36A0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12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D177-B181-4C7C-90A7-4192F02F2792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0" descr="harry_yellow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5" descr="SC-logo_w"/>
          <p:cNvPicPr/>
          <p:nvPr/>
        </p:nvPicPr>
        <p:blipFill>
          <a:blip r:embed="rId3"/>
          <a:stretch/>
        </p:blipFill>
        <p:spPr>
          <a:xfrm>
            <a:off x="5105520" y="5486400"/>
            <a:ext cx="3429000" cy="69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B38D-8373-4756-B901-B9CBE6BA6144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3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FBBC-D1EB-4D17-A10C-238ADC438D77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4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9C46-0053-4211-B81F-7AC593FC24F6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5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FE39-C558-4A5F-A86C-1EA7A8846BE7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6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762F-B63E-49FB-B222-DE04A60F5A37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7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6D7E-5701-4173-B067-1B792D12FA66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8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FE25-8CF8-43B6-9800-7ABE449D52C0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5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6929280" cy="362412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0000"/>
                </a:solidFill>
                <a:latin typeface="SC Alex Bold"/>
              </a:rPr>
              <a:t>Filets sociaux pour les ménages plus pauvres </a:t>
            </a:r>
            <a:endParaRPr b="1" lang="en-US" sz="43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611280" y="2205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C Morgan"/>
              </a:rPr>
              <a:t>Projet pilote de transfert de cash à Tessaoua/région de Maradi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592200" y="575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pic>
        <p:nvPicPr>
          <p:cNvPr id="548" name="Picture 10" descr="ECHO Logo"/>
          <p:cNvPicPr/>
          <p:nvPr/>
        </p:nvPicPr>
        <p:blipFill>
          <a:blip r:embed="rId2"/>
          <a:stretch/>
        </p:blipFill>
        <p:spPr>
          <a:xfrm>
            <a:off x="611280" y="4797360"/>
            <a:ext cx="1800000" cy="158292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9"/>
          <p:cNvSpPr/>
          <p:nvPr/>
        </p:nvSpPr>
        <p:spPr>
          <a:xfrm>
            <a:off x="2411280" y="6093000"/>
            <a:ext cx="1828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909e7"/>
                </a:solidFill>
                <a:latin typeface="Arial"/>
              </a:rPr>
              <a:t>Financé par ECHO</a:t>
            </a:r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84872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36abb"/>
                </a:solidFill>
                <a:latin typeface="SC Alex Bold"/>
              </a:rPr>
              <a:t>Changement dans les moyens d’existence et impact à plus long terme</a:t>
            </a:r>
            <a:endParaRPr b="1" lang="en-US" sz="24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99680" y="1500120"/>
            <a:ext cx="8101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C Morgan"/>
              </a:rPr>
              <a:t>Arrêt des ventes et hypothèques de terres 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C Morgan"/>
              </a:rPr>
              <a:t>Diminution du nombre de ménages endettés et du niveau d’endettemen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C Morgan"/>
              </a:rPr>
              <a:t>Production agricole attendue bonne grâce a l’investissement en main d’œuvre dans les champs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C Morgan"/>
              </a:rPr>
              <a:t>Le taux de renumérotation de la main d’œuvre s’est amélioré.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685800" y="60958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B478-12BD-4E88-8109-CB189BE3592F}" type="slidenum">
              <a:rPr b="1" lang="en-US" sz="1200" spc="-1" strike="noStrike">
                <a:solidFill>
                  <a:srgbClr val="a36ab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856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a36abb"/>
                </a:solidFill>
                <a:latin typeface="SC Alex Bold"/>
              </a:rPr>
              <a:t>Situation nutritionnelle des enfants des ménages ciblés</a:t>
            </a:r>
            <a:endParaRPr b="1" lang="en-US" sz="26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619" name="Espace réservé du numéro de diapositive 3"/>
          <p:cNvSpPr/>
          <p:nvPr/>
        </p:nvSpPr>
        <p:spPr>
          <a:xfrm>
            <a:off x="685800" y="60958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E61D-1EAB-4A07-98F7-3097EF9FEE7D}" type="slidenum">
              <a:rPr b="1" lang="en-US" sz="1200" spc="-1" strike="noStrike">
                <a:solidFill>
                  <a:srgbClr val="a36ab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pic>
        <p:nvPicPr>
          <p:cNvPr id="620" name="Picture 9" descr=""/>
          <p:cNvPicPr/>
          <p:nvPr/>
        </p:nvPicPr>
        <p:blipFill>
          <a:blip r:embed="rId1"/>
          <a:stretch/>
        </p:blipFill>
        <p:spPr>
          <a:xfrm>
            <a:off x="0" y="1484280"/>
            <a:ext cx="6531120" cy="508464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10"/>
          <p:cNvSpPr/>
          <p:nvPr/>
        </p:nvSpPr>
        <p:spPr>
          <a:xfrm>
            <a:off x="6588000" y="1413000"/>
            <a:ext cx="2737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SC Morgan"/>
              </a:rPr>
              <a:t>Les transferts de cash doivent s’accompagner d’interventions telles que la prévention des maladies et l’apport de suppléments en micronutriments afin de mieux protéger l’état nutritionnel des enfants</a:t>
            </a:r>
            <a:endParaRPr b="0" lang="en-US" sz="2200" spc="-1" strike="noStrike">
              <a:solidFill>
                <a:srgbClr val="a36a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a36abb"/>
                </a:solidFill>
                <a:latin typeface="SC Alex Bold"/>
              </a:rPr>
              <a:t>Difficulté d’un bon ciblage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100000"/>
              </a:lnSpc>
              <a:spcAft>
                <a:spcPts val="550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SC Morgan"/>
              </a:rPr>
              <a:t>Les critères de ciblage ont été identifiés et facilement accepté par la communauté.</a:t>
            </a:r>
            <a:endParaRPr b="0" lang="en-US" sz="2200" spc="-1" strike="noStrike">
              <a:solidFill>
                <a:srgbClr val="000000"/>
              </a:solidFill>
              <a:latin typeface="SC Morgan"/>
            </a:endParaRPr>
          </a:p>
          <a:p>
            <a:pPr marL="335880" indent="-335880">
              <a:lnSpc>
                <a:spcPct val="100000"/>
              </a:lnSpc>
              <a:spcAft>
                <a:spcPts val="550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SC Morgan"/>
              </a:rPr>
              <a:t>Difficile pour les dirigeants d’accepter et de faire accepter que seuls les ménages remplissant les critères pourraient bénéficier de l’aide en cash.</a:t>
            </a:r>
            <a:endParaRPr b="0" lang="en-US" sz="2200" spc="-1" strike="noStrike">
              <a:solidFill>
                <a:srgbClr val="000000"/>
              </a:solidFill>
              <a:latin typeface="SC Morgan"/>
            </a:endParaRPr>
          </a:p>
          <a:p>
            <a:pPr marL="335880" indent="-335880">
              <a:lnSpc>
                <a:spcPct val="100000"/>
              </a:lnSpc>
              <a:spcAft>
                <a:spcPts val="550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SC Morgan"/>
              </a:rPr>
              <a:t>Au moment des distributions, certaines personnes ont eu du mal à accepter qu’elles ne recevraient rien mais que leurs voisins seraient bénéficiaires.</a:t>
            </a:r>
            <a:endParaRPr b="0" lang="en-US" sz="2200" spc="-1" strike="noStrike">
              <a:solidFill>
                <a:srgbClr val="000000"/>
              </a:solidFill>
              <a:latin typeface="SC Morgan"/>
            </a:endParaRPr>
          </a:p>
          <a:p>
            <a:pPr marL="335880" indent="-335880">
              <a:lnSpc>
                <a:spcPct val="100000"/>
              </a:lnSpc>
              <a:spcAft>
                <a:spcPts val="550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SC Morgan"/>
              </a:rPr>
              <a:t>Pendant l’exécution du projet plusieurs contrôle ont été nécessaires pour vérifier que les listes de bénéficiaires ciblaient bien les ménages le plus pauvres.</a:t>
            </a:r>
            <a:endParaRPr b="0" lang="en-US" sz="2200" spc="-1" strike="noStrike">
              <a:solidFill>
                <a:srgbClr val="000000"/>
              </a:solidFill>
              <a:latin typeface="SC Morgan"/>
            </a:endParaRPr>
          </a:p>
          <a:p>
            <a:pPr marL="335880" indent="-335880">
              <a:lnSpc>
                <a:spcPct val="100000"/>
              </a:lnSpc>
              <a:spcAft>
                <a:spcPts val="550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SC Morgan"/>
              </a:rPr>
              <a:t>Ceci a créer des tensions dans certains villages et des efforts importants des négociations ont été déployés. </a:t>
            </a:r>
            <a:endParaRPr b="0" lang="en-US" sz="2200" spc="-1" strike="noStrike">
              <a:solidFill>
                <a:srgbClr val="000000"/>
              </a:solidFill>
              <a:latin typeface="SC Morgan"/>
            </a:endParaRPr>
          </a:p>
          <a:p>
            <a:pPr marL="335880" indent="0">
              <a:lnSpc>
                <a:spcPct val="100000"/>
              </a:lnSpc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a36abb"/>
                </a:solidFill>
                <a:latin typeface="SC Alex Bold"/>
              </a:rPr>
              <a:t>Merci</a:t>
            </a:r>
            <a:endParaRPr b="1" lang="en-US" sz="6000" spc="-1" strike="noStrike">
              <a:solidFill>
                <a:srgbClr val="a36abb"/>
              </a:solidFill>
              <a:latin typeface="SC Alex Bold"/>
            </a:endParaRPr>
          </a:p>
        </p:txBody>
      </p:sp>
      <p:pic>
        <p:nvPicPr>
          <p:cNvPr id="625" name="Image 4" descr="cash_dubai.jpg"/>
          <p:cNvPicPr/>
          <p:nvPr/>
        </p:nvPicPr>
        <p:blipFill>
          <a:blip r:embed="rId1"/>
          <a:stretch/>
        </p:blipFill>
        <p:spPr>
          <a:xfrm>
            <a:off x="2771640" y="1052640"/>
            <a:ext cx="332928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6" descr="Matt_purple_morehiwte"/>
          <p:cNvPicPr/>
          <p:nvPr/>
        </p:nvPicPr>
        <p:blipFill>
          <a:blip r:embed="rId2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900" spc="-1" strike="noStrike">
                <a:solidFill>
                  <a:srgbClr val="000000"/>
                </a:solidFill>
                <a:latin typeface="SC Alex Bold"/>
              </a:rPr>
              <a:t>Pourquoi ce projet pilote?</a:t>
            </a:r>
            <a:r>
              <a:rPr b="0" lang="en-GB" sz="3900" spc="-1" strike="noStrike">
                <a:solidFill>
                  <a:srgbClr val="000000"/>
                </a:solidFill>
                <a:latin typeface="SC Alex Bold"/>
              </a:rPr>
              <a:t> </a:t>
            </a:r>
            <a:endParaRPr b="1" lang="en-US" sz="39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500040" y="1052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Un travail d’analyse sur les causes de la </a:t>
            </a:r>
            <a:r>
              <a:rPr b="1" lang="fr-FR" sz="2000" spc="-1" strike="noStrike">
                <a:solidFill>
                  <a:srgbClr val="ffc000"/>
                </a:solidFill>
                <a:latin typeface="SC Morgan"/>
              </a:rPr>
              <a:t>malnutrition</a:t>
            </a: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 mené à Tessaoua démontre qu’il parait difficile de prévenir la malnutrition sans </a:t>
            </a:r>
            <a:r>
              <a:rPr b="0" lang="fr-FR" sz="2000" spc="-1" strike="noStrike">
                <a:solidFill>
                  <a:srgbClr val="ffc000"/>
                </a:solidFill>
                <a:latin typeface="SC Morgan"/>
              </a:rPr>
              <a:t>s’attaquer a ses déterminants économiques </a:t>
            </a: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car :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- les ménages les plus pauvres ne peuvent souvent pas couvrir leur besoins alimentaires de base (couverture énergétique) pendant la période de soudure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- les ménages les plus pauvres ne peuvent souvent pas s’offrir une alimentation équilibrée tout au long de l’année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</p:txBody>
      </p:sp>
      <p:pic>
        <p:nvPicPr>
          <p:cNvPr id="553" name="Picture 13" descr="SC-logo_w"/>
          <p:cNvPicPr/>
          <p:nvPr/>
        </p:nvPicPr>
        <p:blipFill>
          <a:blip r:embed="rId3"/>
          <a:stretch/>
        </p:blipFill>
        <p:spPr>
          <a:xfrm>
            <a:off x="5072040" y="5786280"/>
            <a:ext cx="3429000" cy="69696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10"/>
          <p:cNvSpPr/>
          <p:nvPr/>
        </p:nvSpPr>
        <p:spPr>
          <a:xfrm>
            <a:off x="1071720" y="4581360"/>
            <a:ext cx="71294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SC Morgan"/>
              </a:rPr>
              <a:t>Si l’on donne les moyens économiques aux ménages les plus pauvres, est-ce que ceux-ci vont investir dans l’alimentation et le soin de leurs enfants ? Est-ce que des transferts direct de cash peuvent contribuer a réduire la malnutrition ?  </a:t>
            </a:r>
            <a:endParaRPr b="0" lang="en-US" sz="20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55" name="Flèche droite 6"/>
          <p:cNvSpPr/>
          <p:nvPr/>
        </p:nvSpPr>
        <p:spPr>
          <a:xfrm>
            <a:off x="428760" y="4500720"/>
            <a:ext cx="500040" cy="4284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c00000"/>
          </a:solidFill>
          <a:ln w="9360">
            <a:solidFill>
              <a:srgbClr val="a36a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a36abb"/>
                </a:solidFill>
                <a:latin typeface="SC Alex Bold"/>
              </a:rPr>
              <a:t>Description du proje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42960" y="1571400"/>
            <a:ext cx="8143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C Morgan"/>
              </a:rPr>
              <a:t>Collaboration avec le CSR-PGCA de Tessaoua </a:t>
            </a: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(choix  zones d’intervention, contrepartie, validation critères de ciblage)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marL="332640" indent="-33264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Bénéficiaires: </a:t>
            </a:r>
            <a:r>
              <a:rPr b="0" lang="fr-FR" sz="2400" spc="-1" strike="noStrike">
                <a:solidFill>
                  <a:srgbClr val="000000"/>
                </a:solidFill>
                <a:latin typeface="SC Morgan"/>
              </a:rPr>
              <a:t>1500 ménages très pauvres </a:t>
            </a: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dans les zones déclarées à forte insécurité alimentaire (priorité aux mères d’enfants de moins de 5 ans)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marL="332640" indent="-33264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3 transferts de 20,000 F chacun pendant la période de soudure (transfert avec les commerçants)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marL="332640" indent="-33264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Contrepartie : 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lvl="1" marL="720720" indent="-277200">
              <a:lnSpc>
                <a:spcPct val="110000"/>
              </a:lnSpc>
              <a:spcAft>
                <a:spcPts val="400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SC Morgan"/>
              </a:rPr>
              <a:t>Participation à des sessions de sensibilisation sur la prévention de la malnutrition (traitement et prévention de la diarrhée et du paludisme, allaitement, sevrage et diversité alimentaire)</a:t>
            </a:r>
            <a:endParaRPr b="0" lang="en-US" sz="1600" spc="-1" strike="noStrike">
              <a:solidFill>
                <a:srgbClr val="000000"/>
              </a:solidFill>
              <a:latin typeface="SC Morgan"/>
            </a:endParaRPr>
          </a:p>
          <a:p>
            <a:pPr lvl="1" marL="720720" indent="-277200">
              <a:lnSpc>
                <a:spcPct val="110000"/>
              </a:lnSpc>
              <a:spcAft>
                <a:spcPts val="400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SC Morgan"/>
              </a:rPr>
              <a:t>Amélioration des conditions d’hygiène dans le village (comite de salubrité publique)</a:t>
            </a:r>
            <a:endParaRPr b="0" lang="en-US" sz="1600" spc="-1" strike="noStrike">
              <a:solidFill>
                <a:srgbClr val="000000"/>
              </a:solidFill>
              <a:latin typeface="SC Morgan"/>
            </a:endParaRPr>
          </a:p>
          <a:p>
            <a:pPr marL="332640" indent="-33264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marL="332640" indent="-33264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58" name="Espace réservé du numéro de diapositive 3"/>
          <p:cNvSpPr/>
          <p:nvPr/>
        </p:nvSpPr>
        <p:spPr>
          <a:xfrm>
            <a:off x="685800" y="60958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9869-8E7D-4652-87D1-E4791E09FD12}" type="slidenum">
              <a:rPr b="1" lang="en-US" sz="1200" spc="-1" strike="noStrike">
                <a:solidFill>
                  <a:srgbClr val="a36ab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848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a36abb"/>
                </a:solidFill>
                <a:latin typeface="SC Alex Bold"/>
              </a:rPr>
              <a:t>Monitoring et évaluation du proje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60" name="Espace réservé du numéro de diapositive 3"/>
          <p:cNvSpPr/>
          <p:nvPr/>
        </p:nvSpPr>
        <p:spPr>
          <a:xfrm>
            <a:off x="428760" y="6143760"/>
            <a:ext cx="1371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91DD-647A-4368-B088-4BD5895166B4}" type="slidenum">
              <a:rPr b="1" lang="en-US" sz="1200" spc="-1" strike="noStrike">
                <a:solidFill>
                  <a:srgbClr val="a36ab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539640" y="4437000"/>
            <a:ext cx="7858080" cy="500040"/>
          </a:xfrm>
          <a:prstGeom prst="rect">
            <a:avLst/>
          </a:prstGeom>
          <a:solidFill>
            <a:srgbClr val="92d050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62" name="Connecteur droit 6"/>
          <p:cNvSpPr/>
          <p:nvPr/>
        </p:nvSpPr>
        <p:spPr>
          <a:xfrm flipH="1">
            <a:off x="2857680" y="4071960"/>
            <a:ext cx="1440" cy="85716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63" name="Connecteur droit 7"/>
          <p:cNvSpPr/>
          <p:nvPr/>
        </p:nvSpPr>
        <p:spPr>
          <a:xfrm flipH="1">
            <a:off x="4071960" y="4071960"/>
            <a:ext cx="1440" cy="85716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64" name="Connecteur droit 8"/>
          <p:cNvSpPr/>
          <p:nvPr/>
        </p:nvSpPr>
        <p:spPr>
          <a:xfrm flipH="1">
            <a:off x="5285880" y="4071960"/>
            <a:ext cx="1800" cy="85716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65" name="Espace réservé du numéro de diapositive 3"/>
          <p:cNvSpPr/>
          <p:nvPr/>
        </p:nvSpPr>
        <p:spPr>
          <a:xfrm>
            <a:off x="1116000" y="4581360"/>
            <a:ext cx="64296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uin</a:t>
            </a:r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66" name="Espace réservé du numéro de diapositive 3"/>
          <p:cNvSpPr/>
          <p:nvPr/>
        </p:nvSpPr>
        <p:spPr>
          <a:xfrm>
            <a:off x="2268360" y="4581360"/>
            <a:ext cx="64296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uillet</a:t>
            </a:r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67" name="Espace réservé du numéro de diapositive 3"/>
          <p:cNvSpPr/>
          <p:nvPr/>
        </p:nvSpPr>
        <p:spPr>
          <a:xfrm>
            <a:off x="3276720" y="4581360"/>
            <a:ext cx="64296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out</a:t>
            </a:r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68" name="Espace réservé du numéro de diapositive 3"/>
          <p:cNvSpPr/>
          <p:nvPr/>
        </p:nvSpPr>
        <p:spPr>
          <a:xfrm>
            <a:off x="4357800" y="4572000"/>
            <a:ext cx="928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ptembre</a:t>
            </a:r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69" name="Espace réservé du numéro de diapositive 3"/>
          <p:cNvSpPr/>
          <p:nvPr/>
        </p:nvSpPr>
        <p:spPr>
          <a:xfrm>
            <a:off x="5643720" y="4572000"/>
            <a:ext cx="6429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ctobre</a:t>
            </a:r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70" name="Espace réservé du numéro de diapositive 3"/>
          <p:cNvSpPr/>
          <p:nvPr/>
        </p:nvSpPr>
        <p:spPr>
          <a:xfrm>
            <a:off x="6786720" y="4572000"/>
            <a:ext cx="857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vembre</a:t>
            </a:r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71" name="Connecteur droit 18"/>
          <p:cNvSpPr/>
          <p:nvPr/>
        </p:nvSpPr>
        <p:spPr>
          <a:xfrm flipH="1">
            <a:off x="1855800" y="443088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72" name="Connecteur droit 19"/>
          <p:cNvSpPr/>
          <p:nvPr/>
        </p:nvSpPr>
        <p:spPr>
          <a:xfrm flipH="1">
            <a:off x="2928960" y="442908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73" name="Connecteur droit 20"/>
          <p:cNvSpPr/>
          <p:nvPr/>
        </p:nvSpPr>
        <p:spPr>
          <a:xfrm flipH="1">
            <a:off x="4142880" y="4429080"/>
            <a:ext cx="18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74" name="Connecteur droit 21"/>
          <p:cNvSpPr/>
          <p:nvPr/>
        </p:nvSpPr>
        <p:spPr>
          <a:xfrm flipH="1">
            <a:off x="5357880" y="442908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75" name="Connecteur droit 22"/>
          <p:cNvSpPr/>
          <p:nvPr/>
        </p:nvSpPr>
        <p:spPr>
          <a:xfrm flipH="1">
            <a:off x="6500880" y="442908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76" name="Connecteur droit 23"/>
          <p:cNvSpPr/>
          <p:nvPr/>
        </p:nvSpPr>
        <p:spPr>
          <a:xfrm flipH="1">
            <a:off x="7714800" y="4429080"/>
            <a:ext cx="18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77" name="Espace réservé du numéro de diapositive 3"/>
          <p:cNvSpPr/>
          <p:nvPr/>
        </p:nvSpPr>
        <p:spPr>
          <a:xfrm>
            <a:off x="2071800" y="3714840"/>
            <a:ext cx="1585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Distribution 1</a:t>
            </a:r>
            <a:endParaRPr b="0" lang="en-US" sz="1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78" name="Espace réservé du numéro de diapositive 3"/>
          <p:cNvSpPr/>
          <p:nvPr/>
        </p:nvSpPr>
        <p:spPr>
          <a:xfrm>
            <a:off x="3571920" y="3714840"/>
            <a:ext cx="1371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Distribution</a:t>
            </a:r>
            <a:r>
              <a:rPr b="1" lang="en-US" sz="1200" spc="-1" strike="noStrike">
                <a:solidFill>
                  <a:srgbClr val="0070c0"/>
                </a:solidFill>
                <a:latin typeface="Arial"/>
              </a:rPr>
              <a:t> 2</a:t>
            </a:r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79" name="Espace réservé du numéro de diapositive 3"/>
          <p:cNvSpPr/>
          <p:nvPr/>
        </p:nvSpPr>
        <p:spPr>
          <a:xfrm>
            <a:off x="5072040" y="3714840"/>
            <a:ext cx="1371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Distribution 3</a:t>
            </a:r>
            <a:endParaRPr b="0" lang="en-US" sz="1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80" name="Espace réservé du numéro de diapositive 3"/>
          <p:cNvSpPr/>
          <p:nvPr/>
        </p:nvSpPr>
        <p:spPr>
          <a:xfrm>
            <a:off x="1214280" y="528624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Baseline</a:t>
            </a:r>
            <a:endParaRPr b="0" lang="en-US" sz="1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81" name="Espace réservé du numéro de diapositive 3"/>
          <p:cNvSpPr/>
          <p:nvPr/>
        </p:nvSpPr>
        <p:spPr>
          <a:xfrm>
            <a:off x="3357720" y="5072040"/>
            <a:ext cx="20714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Suivi a mi-parcours</a:t>
            </a:r>
            <a:endParaRPr b="0" lang="en-US" sz="1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82" name="Espace réservé du numéro de diapositive 3"/>
          <p:cNvSpPr/>
          <p:nvPr/>
        </p:nvSpPr>
        <p:spPr>
          <a:xfrm>
            <a:off x="6000840" y="5143680"/>
            <a:ext cx="1500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Evaluation finale</a:t>
            </a:r>
            <a:endParaRPr b="0" lang="en-US" sz="1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83" name="Flèche vers le haut 33"/>
          <p:cNvSpPr/>
          <p:nvPr/>
        </p:nvSpPr>
        <p:spPr>
          <a:xfrm>
            <a:off x="1571760" y="4929120"/>
            <a:ext cx="142920" cy="35712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c00000"/>
          </a:solidFill>
          <a:ln w="9360">
            <a:solidFill>
              <a:srgbClr val="a36a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84" name="Flèche vers le haut 34"/>
          <p:cNvSpPr/>
          <p:nvPr/>
        </p:nvSpPr>
        <p:spPr>
          <a:xfrm>
            <a:off x="4071960" y="4929120"/>
            <a:ext cx="142920" cy="35712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c00000"/>
          </a:solidFill>
          <a:ln w="9360">
            <a:solidFill>
              <a:srgbClr val="a36a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85" name="Flèche vers le haut 35"/>
          <p:cNvSpPr/>
          <p:nvPr/>
        </p:nvSpPr>
        <p:spPr>
          <a:xfrm>
            <a:off x="6500880" y="4929120"/>
            <a:ext cx="133200" cy="357120"/>
          </a:xfrm>
          <a:prstGeom prst="upArrow">
            <a:avLst>
              <a:gd name="adj1" fmla="val 50000"/>
              <a:gd name="adj2" fmla="val 50047"/>
            </a:avLst>
          </a:prstGeom>
          <a:solidFill>
            <a:srgbClr val="c00000"/>
          </a:solidFill>
          <a:ln w="9360">
            <a:solidFill>
              <a:srgbClr val="a36a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86" name="Étoile à 5 branches 36"/>
          <p:cNvSpPr/>
          <p:nvPr/>
        </p:nvSpPr>
        <p:spPr>
          <a:xfrm>
            <a:off x="1571760" y="5572080"/>
            <a:ext cx="214200" cy="142920"/>
          </a:xfrm>
          <a:custGeom>
            <a:avLst/>
            <a:gdLst>
              <a:gd name="textAreaLeft" fmla="*/ 66240 w 214200"/>
              <a:gd name="textAreaRight" fmla="*/ 147960 w 21420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214313" h="142875">
                <a:moveTo>
                  <a:pt x="0" y="54573"/>
                </a:moveTo>
                <a:lnTo>
                  <a:pt x="81861" y="54574"/>
                </a:lnTo>
                <a:lnTo>
                  <a:pt x="107157" y="0"/>
                </a:lnTo>
                <a:lnTo>
                  <a:pt x="132452" y="54574"/>
                </a:lnTo>
                <a:lnTo>
                  <a:pt x="214313" y="54573"/>
                </a:lnTo>
                <a:lnTo>
                  <a:pt x="148086" y="88301"/>
                </a:lnTo>
                <a:lnTo>
                  <a:pt x="173383" y="142875"/>
                </a:lnTo>
                <a:lnTo>
                  <a:pt x="107157" y="109146"/>
                </a:lnTo>
                <a:lnTo>
                  <a:pt x="40930" y="142875"/>
                </a:lnTo>
                <a:lnTo>
                  <a:pt x="66227" y="88301"/>
                </a:lnTo>
                <a:close/>
              </a:path>
            </a:pathLst>
          </a:custGeom>
          <a:solidFill>
            <a:srgbClr val="c00000"/>
          </a:solidFill>
          <a:ln w="9360">
            <a:solidFill>
              <a:srgbClr val="a36a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87" name="Étoile à 5 branches 37"/>
          <p:cNvSpPr/>
          <p:nvPr/>
        </p:nvSpPr>
        <p:spPr>
          <a:xfrm>
            <a:off x="4000680" y="5643720"/>
            <a:ext cx="214200" cy="142560"/>
          </a:xfrm>
          <a:custGeom>
            <a:avLst/>
            <a:gdLst>
              <a:gd name="textAreaLeft" fmla="*/ 66240 w 214200"/>
              <a:gd name="textAreaRight" fmla="*/ 147960 w 214200"/>
              <a:gd name="textAreaTop" fmla="*/ 54360 h 142560"/>
              <a:gd name="textAreaBottom" fmla="*/ 109080 h 142560"/>
            </a:gdLst>
            <a:ahLst/>
            <a:rect l="textAreaLeft" t="textAreaTop" r="textAreaRight" b="textAreaBottom"/>
            <a:pathLst>
              <a:path w="214313" h="142875">
                <a:moveTo>
                  <a:pt x="0" y="54573"/>
                </a:moveTo>
                <a:lnTo>
                  <a:pt x="81861" y="54574"/>
                </a:lnTo>
                <a:lnTo>
                  <a:pt x="107157" y="0"/>
                </a:lnTo>
                <a:lnTo>
                  <a:pt x="132452" y="54574"/>
                </a:lnTo>
                <a:lnTo>
                  <a:pt x="214313" y="54573"/>
                </a:lnTo>
                <a:lnTo>
                  <a:pt x="148086" y="88301"/>
                </a:lnTo>
                <a:lnTo>
                  <a:pt x="173383" y="142875"/>
                </a:lnTo>
                <a:lnTo>
                  <a:pt x="107157" y="109146"/>
                </a:lnTo>
                <a:lnTo>
                  <a:pt x="40930" y="142875"/>
                </a:lnTo>
                <a:lnTo>
                  <a:pt x="66227" y="88301"/>
                </a:lnTo>
                <a:close/>
              </a:path>
            </a:pathLst>
          </a:custGeom>
          <a:solidFill>
            <a:srgbClr val="c00000"/>
          </a:solidFill>
          <a:ln w="9360">
            <a:solidFill>
              <a:srgbClr val="a36a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88" name="Étoile à 5 branches 38"/>
          <p:cNvSpPr/>
          <p:nvPr/>
        </p:nvSpPr>
        <p:spPr>
          <a:xfrm>
            <a:off x="5143680" y="5000760"/>
            <a:ext cx="214200" cy="142920"/>
          </a:xfrm>
          <a:custGeom>
            <a:avLst/>
            <a:gdLst>
              <a:gd name="textAreaLeft" fmla="*/ 66240 w 214200"/>
              <a:gd name="textAreaRight" fmla="*/ 147960 w 21420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214313" h="142875">
                <a:moveTo>
                  <a:pt x="0" y="54573"/>
                </a:moveTo>
                <a:lnTo>
                  <a:pt x="81861" y="54574"/>
                </a:lnTo>
                <a:lnTo>
                  <a:pt x="107157" y="0"/>
                </a:lnTo>
                <a:lnTo>
                  <a:pt x="132452" y="54574"/>
                </a:lnTo>
                <a:lnTo>
                  <a:pt x="214313" y="54573"/>
                </a:lnTo>
                <a:lnTo>
                  <a:pt x="148086" y="88301"/>
                </a:lnTo>
                <a:lnTo>
                  <a:pt x="173383" y="142875"/>
                </a:lnTo>
                <a:lnTo>
                  <a:pt x="107157" y="109146"/>
                </a:lnTo>
                <a:lnTo>
                  <a:pt x="40930" y="142875"/>
                </a:lnTo>
                <a:lnTo>
                  <a:pt x="66227" y="88301"/>
                </a:lnTo>
                <a:close/>
              </a:path>
            </a:pathLst>
          </a:custGeom>
          <a:solidFill>
            <a:srgbClr val="c00000"/>
          </a:solidFill>
          <a:ln w="9360">
            <a:solidFill>
              <a:srgbClr val="a36a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89" name="Étoile à 5 branches 39"/>
          <p:cNvSpPr/>
          <p:nvPr/>
        </p:nvSpPr>
        <p:spPr>
          <a:xfrm>
            <a:off x="6500880" y="5572080"/>
            <a:ext cx="214200" cy="142920"/>
          </a:xfrm>
          <a:custGeom>
            <a:avLst/>
            <a:gdLst>
              <a:gd name="textAreaLeft" fmla="*/ 66240 w 214200"/>
              <a:gd name="textAreaRight" fmla="*/ 147960 w 21420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214312" h="142875">
                <a:moveTo>
                  <a:pt x="0" y="54573"/>
                </a:moveTo>
                <a:lnTo>
                  <a:pt x="81860" y="54574"/>
                </a:lnTo>
                <a:lnTo>
                  <a:pt x="107156" y="0"/>
                </a:lnTo>
                <a:lnTo>
                  <a:pt x="132452" y="54574"/>
                </a:lnTo>
                <a:lnTo>
                  <a:pt x="214312" y="54573"/>
                </a:lnTo>
                <a:lnTo>
                  <a:pt x="148085" y="88301"/>
                </a:lnTo>
                <a:lnTo>
                  <a:pt x="173382" y="142875"/>
                </a:lnTo>
                <a:lnTo>
                  <a:pt x="107156" y="109146"/>
                </a:lnTo>
                <a:lnTo>
                  <a:pt x="40930" y="142875"/>
                </a:lnTo>
                <a:lnTo>
                  <a:pt x="66227" y="88301"/>
                </a:lnTo>
                <a:close/>
              </a:path>
            </a:pathLst>
          </a:custGeom>
          <a:solidFill>
            <a:srgbClr val="c00000"/>
          </a:solidFill>
          <a:ln w="9360">
            <a:solidFill>
              <a:srgbClr val="a36a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90" name="Étoile à 5 branches 40"/>
          <p:cNvSpPr/>
          <p:nvPr/>
        </p:nvSpPr>
        <p:spPr>
          <a:xfrm>
            <a:off x="1143000" y="6215040"/>
            <a:ext cx="214200" cy="142920"/>
          </a:xfrm>
          <a:custGeom>
            <a:avLst/>
            <a:gdLst>
              <a:gd name="textAreaLeft" fmla="*/ 66240 w 214200"/>
              <a:gd name="textAreaRight" fmla="*/ 147960 w 21420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214313" h="142875">
                <a:moveTo>
                  <a:pt x="0" y="54573"/>
                </a:moveTo>
                <a:lnTo>
                  <a:pt x="81861" y="54574"/>
                </a:lnTo>
                <a:lnTo>
                  <a:pt x="107157" y="0"/>
                </a:lnTo>
                <a:lnTo>
                  <a:pt x="132452" y="54574"/>
                </a:lnTo>
                <a:lnTo>
                  <a:pt x="214313" y="54573"/>
                </a:lnTo>
                <a:lnTo>
                  <a:pt x="148086" y="88301"/>
                </a:lnTo>
                <a:lnTo>
                  <a:pt x="173383" y="142875"/>
                </a:lnTo>
                <a:lnTo>
                  <a:pt x="107157" y="109146"/>
                </a:lnTo>
                <a:lnTo>
                  <a:pt x="40930" y="142875"/>
                </a:lnTo>
                <a:lnTo>
                  <a:pt x="66227" y="88301"/>
                </a:lnTo>
                <a:close/>
              </a:path>
            </a:pathLst>
          </a:custGeom>
          <a:solidFill>
            <a:srgbClr val="c00000"/>
          </a:solidFill>
          <a:ln w="9360">
            <a:solidFill>
              <a:srgbClr val="a36a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91" name="Espace réservé du numéro de diapositive 3"/>
          <p:cNvSpPr/>
          <p:nvPr/>
        </p:nvSpPr>
        <p:spPr>
          <a:xfrm>
            <a:off x="1428840" y="6072120"/>
            <a:ext cx="2357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Suivi anthropometrique</a:t>
            </a:r>
            <a:endParaRPr b="0" lang="en-US" sz="1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79280" y="1413000"/>
            <a:ext cx="914400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45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C Morgan"/>
              </a:rPr>
              <a:t>100 ménages bénéficiaires suivis (IHEA – diversité alimentaire, soin, santé aux enfants, facteurs socio-économique,appréciation du programme)</a:t>
            </a:r>
            <a:endParaRPr b="0" lang="en-US" sz="18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45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C Morgan"/>
              </a:rPr>
              <a:t>Suivi anthropométrique des enfants &lt;5 des 100 ménages suivis</a:t>
            </a:r>
            <a:endParaRPr b="0" lang="en-US" sz="18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45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C Morgan"/>
              </a:rPr>
              <a:t>Focus group avec ménages non bénéficiaires, entretiens autorités locales…</a:t>
            </a:r>
            <a:endParaRPr b="0" lang="en-US" sz="18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45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6" descr="Matt_purple_morehiwte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5232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SC Alex Bold"/>
              </a:rPr>
              <a:t>Résultats de l’évaluation finale</a:t>
            </a:r>
            <a:r>
              <a:rPr b="0" lang="fr-FR" sz="4700" spc="-1" strike="noStrike">
                <a:solidFill>
                  <a:srgbClr val="000000"/>
                </a:solidFill>
                <a:latin typeface="SC Alex Bold"/>
              </a:rPr>
              <a:t> </a:t>
            </a:r>
            <a:endParaRPr b="1" lang="en-US" sz="47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500040" y="1773360"/>
            <a:ext cx="29289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Comment l’argent a t’il été investi ?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Est-ce que ce type d’intervention peut prévenir la malnutrition ?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Y a-t-il des impacts a long- terme ?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</p:txBody>
      </p:sp>
      <p:pic>
        <p:nvPicPr>
          <p:cNvPr id="596" name="Picture 13" descr="SC-logo_w"/>
          <p:cNvPicPr/>
          <p:nvPr/>
        </p:nvPicPr>
        <p:blipFill>
          <a:blip r:embed="rId2"/>
          <a:stretch/>
        </p:blipFill>
        <p:spPr>
          <a:xfrm>
            <a:off x="5076720" y="5516640"/>
            <a:ext cx="3429000" cy="696960"/>
          </a:xfrm>
          <a:prstGeom prst="rect">
            <a:avLst/>
          </a:prstGeom>
          <a:ln w="0">
            <a:noFill/>
          </a:ln>
        </p:spPr>
      </p:pic>
      <p:pic>
        <p:nvPicPr>
          <p:cNvPr id="597" name="Image 5" descr="phon 479.JPG"/>
          <p:cNvPicPr/>
          <p:nvPr/>
        </p:nvPicPr>
        <p:blipFill>
          <a:blip r:embed="rId3"/>
          <a:stretch/>
        </p:blipFill>
        <p:spPr>
          <a:xfrm>
            <a:off x="3564000" y="1700280"/>
            <a:ext cx="5000400" cy="333540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10"/>
          <p:cNvSpPr/>
          <p:nvPr/>
        </p:nvSpPr>
        <p:spPr>
          <a:xfrm>
            <a:off x="324000" y="5373720"/>
            <a:ext cx="45766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36abb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Est-ce qu’il est facile de faire un bon ciblage avec ce type de projet ?</a:t>
            </a:r>
            <a:endParaRPr b="0" lang="en-US" sz="2000" spc="-1" strike="noStrike">
              <a:solidFill>
                <a:srgbClr val="a36a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784836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a36abb"/>
                </a:solidFill>
                <a:latin typeface="SC Alex Bold"/>
              </a:rPr>
              <a:t>Revenus mensuels des ménages avant et après les distributions</a:t>
            </a:r>
            <a:endParaRPr b="1" lang="en-US" sz="32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600" name="Espace réservé du numéro de diapositive 3"/>
          <p:cNvSpPr/>
          <p:nvPr/>
        </p:nvSpPr>
        <p:spPr>
          <a:xfrm>
            <a:off x="685800" y="60958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D76E-ABF4-4806-9376-2065254815E2}" type="slidenum">
              <a:rPr b="1" lang="en-US" sz="1200" spc="-1" strike="noStrike">
                <a:solidFill>
                  <a:srgbClr val="a36ab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601" name="Espace réservé du contenu 2"/>
          <p:cNvSpPr/>
          <p:nvPr/>
        </p:nvSpPr>
        <p:spPr>
          <a:xfrm>
            <a:off x="5796000" y="1557360"/>
            <a:ext cx="3348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Aft>
                <a:spcPts val="45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C Morgan"/>
              </a:rPr>
              <a:t>Réduction de la dépendance des ménages vis-à-vis de certaines sources de revenus au profit des activités agricoles</a:t>
            </a:r>
            <a:endParaRPr b="0" lang="en-US" sz="18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45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C Morgan"/>
              </a:rPr>
              <a:t>Réduction de la participation des femmes et des enfants dans le revenu</a:t>
            </a:r>
            <a:endParaRPr b="0" lang="en-US" sz="18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45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C Morgan"/>
              </a:rPr>
              <a:t>Réduction du recours au crédit et des tâches difficiles</a:t>
            </a:r>
            <a:endParaRPr b="0" lang="en-US" sz="18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550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550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36abb"/>
              </a:solidFill>
              <a:latin typeface="Arial"/>
            </a:endParaRPr>
          </a:p>
        </p:txBody>
      </p:sp>
      <p:pic>
        <p:nvPicPr>
          <p:cNvPr id="602" name="Picture 12" descr=""/>
          <p:cNvPicPr/>
          <p:nvPr/>
        </p:nvPicPr>
        <p:blipFill>
          <a:blip r:embed="rId1"/>
          <a:stretch/>
        </p:blipFill>
        <p:spPr>
          <a:xfrm>
            <a:off x="179280" y="1566720"/>
            <a:ext cx="59770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a36abb"/>
                </a:solidFill>
                <a:latin typeface="SC Alex Bold"/>
              </a:rPr>
              <a:t>Comment les ménages bénéficiaires ont-ils utilisé l’argent distribué?</a:t>
            </a:r>
            <a:endParaRPr b="1" lang="en-US" sz="26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604" name="Espace réservé du numéro de diapositive 3"/>
          <p:cNvSpPr/>
          <p:nvPr/>
        </p:nvSpPr>
        <p:spPr>
          <a:xfrm>
            <a:off x="685800" y="60958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94D1-A91B-45DB-988C-0B36417F9962}" type="slidenum">
              <a:rPr b="1" lang="en-US" sz="1200" spc="-1" strike="noStrike">
                <a:solidFill>
                  <a:srgbClr val="a36ab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605" name="Espace réservé du contenu 2"/>
          <p:cNvSpPr/>
          <p:nvPr/>
        </p:nvSpPr>
        <p:spPr>
          <a:xfrm>
            <a:off x="5364000" y="1413000"/>
            <a:ext cx="40752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L’argent additionnel a été investi en priorité dans l’alimentation(en quantité et qualité)</a:t>
            </a:r>
            <a:endParaRPr b="0" lang="en-US" sz="20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Les autres postes de dépenses sont quasi inchangés</a:t>
            </a:r>
            <a:endParaRPr b="0" lang="en-US" sz="20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En période de récolte l’argent est investi dans les produits non alimentaires</a:t>
            </a:r>
            <a:endParaRPr b="0" lang="en-US" sz="20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De nombreux ménages ont été taxés(500 à 1000F)</a:t>
            </a:r>
            <a:endParaRPr b="0" lang="en-US" sz="20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550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550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36abb"/>
              </a:solidFill>
              <a:latin typeface="Arial"/>
            </a:endParaRPr>
          </a:p>
        </p:txBody>
      </p:sp>
      <p:pic>
        <p:nvPicPr>
          <p:cNvPr id="606" name="Picture 8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5040360" cy="467964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10"/>
          <p:cNvSpPr/>
          <p:nvPr/>
        </p:nvSpPr>
        <p:spPr>
          <a:xfrm>
            <a:off x="473760" y="1581120"/>
            <a:ext cx="314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a36abb"/>
                </a:solidFill>
                <a:latin typeface="Arial"/>
              </a:rPr>
              <a:t>Dépenses mensuel du ménage</a:t>
            </a:r>
            <a:endParaRPr b="0" lang="en-US" sz="1600" spc="-1" strike="noStrike">
              <a:solidFill>
                <a:srgbClr val="a36a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848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a36abb"/>
                </a:solidFill>
                <a:latin typeface="SC Alex Bold"/>
              </a:rPr>
              <a:t>Couverture des besoins alimentaires de base</a:t>
            </a:r>
            <a:endParaRPr b="1" lang="en-US" sz="26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609" name="Espace réservé du numéro de diapositive 3"/>
          <p:cNvSpPr/>
          <p:nvPr/>
        </p:nvSpPr>
        <p:spPr>
          <a:xfrm>
            <a:off x="685800" y="60958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9177-905B-4D0F-95D3-5A9AB8785169}" type="slidenum">
              <a:rPr b="1" lang="en-US" sz="1200" spc="-1" strike="noStrike">
                <a:solidFill>
                  <a:srgbClr val="a36ab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610" name="Espace réservé du contenu 2"/>
          <p:cNvSpPr/>
          <p:nvPr/>
        </p:nvSpPr>
        <p:spPr>
          <a:xfrm>
            <a:off x="5580000" y="1413000"/>
            <a:ext cx="3710160" cy="23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C Morgan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SC Morgan"/>
              </a:rPr>
              <a:t>Les transferts</a:t>
            </a:r>
            <a:endParaRPr b="0" lang="en-US" sz="22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SC Morgan"/>
              </a:rPr>
              <a:t>d’argent ciblés sont un moyen efficaces pour permettre aux ménages pauvres d’accéder à la nourriture et de couvrir</a:t>
            </a:r>
            <a:endParaRPr b="0" lang="en-US" sz="22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SC Morgan"/>
              </a:rPr>
              <a:t>certaines carences nutritionnelles</a:t>
            </a:r>
            <a:r>
              <a:rPr b="1" lang="fr-FR" sz="2400" spc="-1" strike="noStrike">
                <a:solidFill>
                  <a:srgbClr val="000000"/>
                </a:solidFill>
                <a:latin typeface="SC Morgan"/>
              </a:rPr>
              <a:t>.</a:t>
            </a:r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pic>
        <p:nvPicPr>
          <p:cNvPr id="611" name="Picture 13" descr=""/>
          <p:cNvPicPr/>
          <p:nvPr/>
        </p:nvPicPr>
        <p:blipFill>
          <a:blip r:embed="rId1"/>
          <a:stretch/>
        </p:blipFill>
        <p:spPr>
          <a:xfrm>
            <a:off x="179280" y="1487520"/>
            <a:ext cx="53294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a36abb"/>
                </a:solidFill>
                <a:latin typeface="SC Alex Bold"/>
              </a:rPr>
              <a:t>Amélioration de la qualité de l’alimentation</a:t>
            </a:r>
            <a:endParaRPr b="1" lang="en-US" sz="2600" spc="-1" strike="noStrike">
              <a:solidFill>
                <a:srgbClr val="a36abb"/>
              </a:solidFill>
              <a:latin typeface="SC Alex Bold"/>
            </a:endParaRPr>
          </a:p>
        </p:txBody>
      </p:sp>
      <p:pic>
        <p:nvPicPr>
          <p:cNvPr id="613" name="Picture 4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7413840" cy="434340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5"/>
          <p:cNvSpPr/>
          <p:nvPr/>
        </p:nvSpPr>
        <p:spPr>
          <a:xfrm>
            <a:off x="6227640" y="1484280"/>
            <a:ext cx="309744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C Morgan"/>
              </a:rPr>
              <a:t>Au cours du projet, la qualité de leur alimentation s’est largement améliorée </a:t>
            </a: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(achat des légumineuses, huile,viande, lait)</a:t>
            </a:r>
            <a:endParaRPr b="0" lang="en-US" sz="2000" spc="-1" strike="noStrike">
              <a:solidFill>
                <a:srgbClr val="a36a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5:04:11Z</dcterms:created>
  <dc:creator>rwalton</dc:creator>
  <dc:description/>
  <dc:language>en-US</dc:language>
  <cp:lastModifiedBy>same.coord</cp:lastModifiedBy>
  <dcterms:modified xsi:type="dcterms:W3CDTF">2012-04-18T11:10:04Z</dcterms:modified>
  <cp:revision>67</cp:revision>
  <dc:subject/>
  <dc:title>Presentation title goes here  in up to 2 lines of text</dc:title>
</cp:coreProperties>
</file>