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FCD-D568-4864-81D0-7FCB3F7A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2CD-A5B6-46B3-94CA-5F97DFD0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50C0-E2D4-4C32-84BD-63E6FB56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BD7-2BF2-486D-A09E-89FB5E50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9EB-9E2D-4BA7-A0B9-9815C1D7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59C-ECAC-4CB8-94A1-F1DC102D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8D3-D4B3-4350-9ED3-ABD26158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F7F-0F35-40DF-9D43-AE95534D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03A-53C0-4D2E-9579-AB57AC16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5B6-70F3-4AE3-84DE-65CF94F3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85C-72B6-48EB-9409-568EFE97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E43-ADE1-4874-8BD9-4C520F16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A116-5846-49BE-8A97-CF2816BC1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auses de la mal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’accès économique des ménages pauvres à une alimentation diversifi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écanismes de sor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iveau de res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sures d’accompagnement: formation et encad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ype de pres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stribution de petits rumin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ants agricole et vétéri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iveau de pres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sh : 15000/mois pendant 6mois sur 3 ans (soudure et récol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stribution de petits ruminants: 3 chèvres/mén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ants agricole et vétéri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dalité d’ajustement: suivi de la campagne et évolution des prix des denrées alimentaires sur les mar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écanisme de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ri et /ou fem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isonniè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s de coll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ditionn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ticipation aux travaux communaut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uivi de la liste de présence (point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ise en œuv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programme doit s’inscrire dans la politique nationale de protection soci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scription dans le budget de l’état du program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forcement des capacités des acteurs dans la protection soci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ivi é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e bénéficiaires pauvres c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e bénéficiaires sorti du program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taux de malnutr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dalités: PDM, Baseline, mi parcours et évaluation fin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odalités d’appui des partenaires Techniques et financi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ypes d’appu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alogue politique f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ppui aux renforcements des capacités et a la mise en œuv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alités d’appu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cédures 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ratégies déjà mises en p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vente a prix modérés (stock insuffis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Cash for work (réalisé par les parten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istribution d’intrant ( ciblage et période de distribu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Opération vente aliment bétail ( période de disponibilit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ratégies d’inter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mélioration des revenus des ménages pauv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tien a la production agricole/anim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nte a prix modér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sh for work a l’éch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ransferts sociaux comme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204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s programmes en cours ne ciblent pas suffisamment les catégories des ménages pauv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ratégie d’inter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ppui aux moyens d’exis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 glob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forcement de la sécurité alimentaire et nutritionnel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 spécif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mettre aux ménages pauvres un accès à une alimentation diversifiée et aux services sociaux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me apprentissage, est ce qu’en assurant aux ménages pauvres un accès à une alimentation diversifiée et aux services sociaux de Base, ils peuvent améliorer leur état nutritionn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ibl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ritères de sé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éographique Suivi vulnérabilité VAM, FEWSNET, CH, ET I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tégoriel: HEA, ECOSIT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méthodes de sé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sélection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réquence de re ciblage 3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dalité : même critè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ligation de trav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spect du calendrier agri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cadrement technique et administra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mption: Personnes âgées, femmes encei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1:11:28Z</dcterms:created>
  <dc:creator>Bakari Seidou</dc:creator>
  <dc:description/>
  <dc:language>en-US</dc:language>
  <cp:lastModifiedBy>Bakari Seidou</cp:lastModifiedBy>
  <dcterms:modified xsi:type="dcterms:W3CDTF">2012-04-19T15:22:52Z</dcterms:modified>
  <cp:revision>13</cp:revision>
  <dc:subject/>
  <dc:title>Causes de la malnutrition</dc:title>
</cp:coreProperties>
</file>