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73C-F4C9-44D9-9848-7DB4FBC1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A27-61A3-4330-B513-FDDB8F70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710-209B-4C50-801B-5172D828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17D-A1A8-4B8A-B98C-C83B11C1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0EA-C0AE-4B5F-9FEA-EB77AF7F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65B-2612-467A-A1D3-0A55D36E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44F-61D1-4555-8DF7-018AC0DC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484-9660-49AD-839E-EBC54216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186-6B2F-4AC2-B893-2EF29A57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BDB-FF0E-472D-9F09-866384E7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7FF-E1EE-4FAC-A102-3D9E4D46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D67-1065-4581-AF8E-D758A2E7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1692-26A2-4A6D-ADD1-12146A155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auses de la mal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’accès économique des ménages pauvres à une alimentation diversifi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écanismes de sor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iveau de res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sures d’accompagnement: formation et encad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ype de p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tribution de petits rumin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ants agricole et vétéri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iveau de p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sh : 15000/mois pendant 6mois sur 3 ans (soudure et récol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tribution de petits ruminants: 3 chèvres/mén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ants agricole et vétéri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dalité d’ajustement: suivi de la campagne et évolution des prix des denrées alimentaires sur les mar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écanisme de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ri et /ou fem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isonn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s de coll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ditionn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ticipation aux travaux communaut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ivi de la liste de présence (point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ise en œuv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programme doit s’inscrire dans la politique nationale de protection soc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cription dans le budget de l’état du program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forcement des capacités des acteurs dans la protection soc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ivi é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e bénéficiaires pauvres c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e bénéficiaires sorti du program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taux de malnut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dalités: PDM, Baseline, mi parcours et évaluation fin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odalités d’appui des partenaires Techniques et financ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ypes d’appu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alogue politique f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ppui aux renforcements des capacités et a la mise en œuv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cédures 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ratégies déjà mises en 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vente a prix modérés (stock insuffis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Cash for work (réalisé par les parten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istribution d’intrant ( ciblage et période de distribu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Opération vente aliment bétail ( période de disponibilit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ratégies d’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mélioration des revenus des ménages pauv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tien a la production agricole/anim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nte a prix modér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sh for work a l’éch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ransferts sociaux comm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04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s programmes en cours ne ciblent pas suffisamment les catégories des ménages pauv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ratégie d’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ppui aux moyens d’exis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 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forcement de la sécurité alimentaire et nutritionnel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 spécif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mettre aux ménages pauvres un accès à une alimentation diversifiée et aux services sociaux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me apprentissage, est ce qu’en assurant aux ménages pauvres un accès à une alimentation diversifiée et aux services sociaux de Base, ils peuvent améliorer leur état nutritionn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ibl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ritères de sé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éographique Suivi vulnérabilité VAM, FEWSNET, CH, ET I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tégoriel: HEA, ECOSIT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méthodes de sé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sélection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réquence de re ciblage 3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dalité : même critè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ligation de trav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pect du calendrier agri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cadrement technique et administra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tion: Personnes âgées, femmes encei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1:11:28Z</dcterms:created>
  <dc:creator>Bakari Seidou</dc:creator>
  <dc:description/>
  <dc:language>en-US</dc:language>
  <cp:lastModifiedBy>Bakari Seidou</cp:lastModifiedBy>
  <dcterms:modified xsi:type="dcterms:W3CDTF">2012-04-19T15:22:52Z</dcterms:modified>
  <cp:revision>13</cp:revision>
  <dc:subject/>
  <dc:title>Causes de la malnutrition</dc:title>
</cp:coreProperties>
</file>