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07A-DD3D-426C-8103-9E700E36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98C-0022-4C5C-A946-75ADBA03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D30-B281-49FA-8B0B-3A7FE731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1A1-EA19-467E-A316-332768E2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B91-95EB-4613-8488-B3A6505F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880-8DB4-4113-8C60-F7274579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AFB-B7CE-41E8-AEDF-D5F3AB62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59D-AADF-476B-B91E-4DAB2B20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0FF-3A9A-42E6-ACA6-B249434D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EBF-0B71-4F21-B9D1-3E69AAD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BAA-333A-47DA-927D-D228761E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FDF-3F9A-417F-9A18-4BFF8BDB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C82C-0F80-47BC-9A51-AFD70F8AE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_DSC17390"/>
          <p:cNvPicPr/>
          <p:nvPr/>
        </p:nvPicPr>
        <p:blipFill>
          <a:blip r:embed="rId1"/>
          <a:stretch/>
        </p:blipFill>
        <p:spPr>
          <a:xfrm>
            <a:off x="2895480" y="380880"/>
            <a:ext cx="3114720" cy="20574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42" name="Picture 6" descr="_DSC13860"/>
          <p:cNvPicPr/>
          <p:nvPr/>
        </p:nvPicPr>
        <p:blipFill>
          <a:blip r:embed="rId2"/>
          <a:stretch/>
        </p:blipFill>
        <p:spPr>
          <a:xfrm>
            <a:off x="6053040" y="0"/>
            <a:ext cx="3090960" cy="20574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43" name="Picture 6" descr="Picture 064.jpg"/>
          <p:cNvPicPr/>
          <p:nvPr/>
        </p:nvPicPr>
        <p:blipFill>
          <a:blip r:embed="rId3"/>
          <a:stretch/>
        </p:blipFill>
        <p:spPr>
          <a:xfrm>
            <a:off x="0" y="0"/>
            <a:ext cx="281772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vcojocaru\Desktop\manuela\Photos\Reunion village.jpg"/>
          <p:cNvPicPr/>
          <p:nvPr/>
        </p:nvPicPr>
        <p:blipFill>
          <a:blip r:embed="rId4"/>
          <a:stretch/>
        </p:blipFill>
        <p:spPr>
          <a:xfrm>
            <a:off x="5257800" y="2057400"/>
            <a:ext cx="3613320" cy="2133720"/>
          </a:xfrm>
          <a:prstGeom prst="rect">
            <a:avLst/>
          </a:prstGeom>
          <a:ln w="0">
            <a:noFill/>
          </a:ln>
        </p:spPr>
      </p:pic>
      <p:sp>
        <p:nvSpPr>
          <p:cNvPr id="45" name="Title 1"/>
          <p:cNvSpPr/>
          <p:nvPr/>
        </p:nvSpPr>
        <p:spPr>
          <a:xfrm>
            <a:off x="228600" y="4648320"/>
            <a:ext cx="82296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b0f0"/>
                </a:solidFill>
                <a:latin typeface="Calibri"/>
              </a:rPr>
              <a:t>PROGRAMME DE TRANSFERTS SOCIAUX-NIG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1295280" y="59436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uagadougou,  18 Avril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Documents and Settings\vcojocaru\Desktop\manuela\Photos\Action comm salubrite.jpg"/>
          <p:cNvPicPr/>
          <p:nvPr/>
        </p:nvPicPr>
        <p:blipFill>
          <a:blip r:embed="rId5"/>
          <a:stretch/>
        </p:blipFill>
        <p:spPr>
          <a:xfrm>
            <a:off x="1828800" y="2590920"/>
            <a:ext cx="252396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5" descr=""/>
          <p:cNvPicPr/>
          <p:nvPr/>
        </p:nvPicPr>
        <p:blipFill>
          <a:blip r:embed="rId6"/>
          <a:stretch/>
        </p:blipFill>
        <p:spPr>
          <a:xfrm>
            <a:off x="3851280" y="5084640"/>
            <a:ext cx="1187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MECANISME DE CIBL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iblage conjoint avec le SAP et la Cellule Filets Sociaux en privilégiant la participation communaut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MECANISME DE SORT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valuation du niveau de pauvreté –condition de vie des ménages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dynamisation des groupements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lphabétisation des groupements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nforcement des capacité techniques et de gestion des acteurs locaux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réation des investissements productifs (IMF-AGRs, terres récupérées, animaux distribués, etc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MECANISMES DE PAI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F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ésorerie Départemental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eurs de téléphone cellul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CIBLES DU PROGRAM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la production et la réponse aux crises: Les chefs de mén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la nutrition:  Les Femmes au niveau des mén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00656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75"/>
          <p:cNvCxnSpPr>
            <a:stCxn id="76" idx="1"/>
            <a:endCxn id="77" idx="6"/>
          </p:cNvCxnSpPr>
          <p:nvPr/>
        </p:nvCxnSpPr>
        <p:spPr>
          <a:xfrm flipH="1">
            <a:off x="6365520" y="3078720"/>
            <a:ext cx="442080" cy="173880"/>
          </a:xfrm>
          <a:prstGeom prst="straightConnector1">
            <a:avLst/>
          </a:prstGeom>
          <a:ln w="1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78" name="Group 24"/>
          <p:cNvGrpSpPr/>
          <p:nvPr/>
        </p:nvGrpSpPr>
        <p:grpSpPr>
          <a:xfrm>
            <a:off x="533520" y="1066680"/>
            <a:ext cx="8305560" cy="5334120"/>
            <a:chOff x="533520" y="1066680"/>
            <a:chExt cx="8305560" cy="5334120"/>
          </a:xfrm>
        </p:grpSpPr>
        <p:sp>
          <p:nvSpPr>
            <p:cNvPr id="79" name="Rounded Rectangle 5"/>
            <p:cNvSpPr/>
            <p:nvPr/>
          </p:nvSpPr>
          <p:spPr>
            <a:xfrm>
              <a:off x="1811160" y="1066680"/>
              <a:ext cx="5830920" cy="1047600"/>
            </a:xfrm>
            <a:prstGeom prst="roundRect">
              <a:avLst>
                <a:gd name="adj" fmla="val 523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IM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Down Arrow 191"/>
            <p:cNvSpPr/>
            <p:nvPr/>
          </p:nvSpPr>
          <p:spPr>
            <a:xfrm flipH="1">
              <a:off x="5746680" y="5235480"/>
              <a:ext cx="87120" cy="347400"/>
            </a:xfrm>
            <a:prstGeom prst="downArrow">
              <a:avLst>
                <a:gd name="adj1" fmla="val 50000"/>
                <a:gd name="adj2" fmla="val 66054"/>
              </a:avLst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46"/>
            <p:cNvSpPr/>
            <p:nvPr/>
          </p:nvSpPr>
          <p:spPr>
            <a:xfrm>
              <a:off x="2743200" y="2554200"/>
              <a:ext cx="3622680" cy="1398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Cadre de Concertation des Acteurs de la Protection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7"/>
            <p:cNvSpPr/>
            <p:nvPr/>
          </p:nvSpPr>
          <p:spPr>
            <a:xfrm>
              <a:off x="1063440" y="2320560"/>
              <a:ext cx="795240" cy="582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T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8"/>
            <p:cNvSpPr/>
            <p:nvPr/>
          </p:nvSpPr>
          <p:spPr>
            <a:xfrm>
              <a:off x="533520" y="3136680"/>
              <a:ext cx="1679400" cy="815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HC 3 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Ministèes Techniqu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9"/>
            <p:cNvSpPr/>
            <p:nvPr/>
          </p:nvSpPr>
          <p:spPr>
            <a:xfrm>
              <a:off x="622080" y="4302000"/>
              <a:ext cx="1854000" cy="817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0"/>
            <p:cNvSpPr/>
            <p:nvPr/>
          </p:nvSpPr>
          <p:spPr>
            <a:xfrm>
              <a:off x="1681200" y="5700960"/>
              <a:ext cx="707760" cy="583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1"/>
            <p:cNvSpPr/>
            <p:nvPr/>
          </p:nvSpPr>
          <p:spPr>
            <a:xfrm>
              <a:off x="6807240" y="2554200"/>
              <a:ext cx="2031840" cy="1049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DNPGC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Dispositif National pour la Prévention et la Gestion des Crises Alimentai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2"/>
            <p:cNvSpPr/>
            <p:nvPr/>
          </p:nvSpPr>
          <p:spPr>
            <a:xfrm>
              <a:off x="4951440" y="4419720"/>
              <a:ext cx="1677960" cy="815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Cellule Filets Sociau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3"/>
            <p:cNvSpPr/>
            <p:nvPr/>
          </p:nvSpPr>
          <p:spPr>
            <a:xfrm>
              <a:off x="7072200" y="4419720"/>
              <a:ext cx="1677960" cy="815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Cellule Crises Alimentai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ounded Rectangle 55"/>
            <p:cNvSpPr/>
            <p:nvPr/>
          </p:nvSpPr>
          <p:spPr>
            <a:xfrm>
              <a:off x="4862520" y="5583240"/>
              <a:ext cx="3887640" cy="81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Niveau Local/DNPGC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(Régions/Départements/Communes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Straight Arrow Connector 57"/>
            <p:cNvCxnSpPr>
              <a:stCxn id="81" idx="3"/>
              <a:endCxn id="77" idx="2"/>
            </p:cNvCxnSpPr>
            <p:nvPr/>
          </p:nvCxnSpPr>
          <p:spPr>
            <a:xfrm>
              <a:off x="1859040" y="2612520"/>
              <a:ext cx="884880" cy="641880"/>
            </a:xfrm>
            <a:prstGeom prst="straightConnector1">
              <a:avLst/>
            </a:prstGeom>
            <a:ln w="25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" name="Straight Arrow Connector 59"/>
            <p:cNvCxnSpPr>
              <a:stCxn id="82" idx="3"/>
              <a:endCxn id="77" idx="2"/>
            </p:cNvCxnSpPr>
            <p:nvPr/>
          </p:nvCxnSpPr>
          <p:spPr>
            <a:xfrm flipV="1">
              <a:off x="2212920" y="3253680"/>
              <a:ext cx="530640" cy="291240"/>
            </a:xfrm>
            <a:prstGeom prst="straightConnector1">
              <a:avLst/>
            </a:prstGeom>
            <a:ln w="25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" name="Straight Arrow Connector 61"/>
            <p:cNvCxnSpPr/>
            <p:nvPr/>
          </p:nvCxnSpPr>
          <p:spPr>
            <a:xfrm flipH="1" flipV="1">
              <a:off x="2476080" y="4652640"/>
              <a:ext cx="2475360" cy="2160"/>
            </a:xfrm>
            <a:prstGeom prst="straightConnector1">
              <a:avLst/>
            </a:prstGeom>
            <a:ln w="25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1" name="Straight Arrow Connector 68"/>
            <p:cNvCxnSpPr>
              <a:stCxn id="84" idx="3"/>
              <a:endCxn id="87" idx="1"/>
            </p:cNvCxnSpPr>
            <p:nvPr/>
          </p:nvCxnSpPr>
          <p:spPr>
            <a:xfrm>
              <a:off x="2389320" y="5992920"/>
              <a:ext cx="2473920" cy="3600"/>
            </a:xfrm>
            <a:prstGeom prst="straightConnector1">
              <a:avLst/>
            </a:prstGeom>
            <a:ln w="252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" name="Down Arrow 88"/>
            <p:cNvSpPr/>
            <p:nvPr/>
          </p:nvSpPr>
          <p:spPr>
            <a:xfrm flipH="1">
              <a:off x="7867800" y="5235480"/>
              <a:ext cx="87120" cy="347400"/>
            </a:xfrm>
            <a:prstGeom prst="downArrow">
              <a:avLst>
                <a:gd name="adj1" fmla="val 50000"/>
                <a:gd name="adj2" fmla="val 66054"/>
              </a:avLst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Down Arrow 89"/>
            <p:cNvSpPr/>
            <p:nvPr/>
          </p:nvSpPr>
          <p:spPr>
            <a:xfrm flipH="1">
              <a:off x="7867800" y="3603600"/>
              <a:ext cx="87120" cy="815760"/>
            </a:xfrm>
            <a:prstGeom prst="downArrow">
              <a:avLst>
                <a:gd name="adj1" fmla="val 50000"/>
                <a:gd name="adj2" fmla="val 66066"/>
              </a:avLst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Connecteur droit 22"/>
          <p:cNvSpPr/>
          <p:nvPr/>
        </p:nvSpPr>
        <p:spPr>
          <a:xfrm>
            <a:off x="6629400" y="4724280"/>
            <a:ext cx="442800" cy="18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llipse 23"/>
          <p:cNvSpPr/>
          <p:nvPr/>
        </p:nvSpPr>
        <p:spPr>
          <a:xfrm>
            <a:off x="2819520" y="3733920"/>
            <a:ext cx="373356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alibri"/>
                <a:ea typeface="MS PGothic"/>
              </a:rPr>
              <a:t>Cadre de concer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MECANISME SUIVI EVAL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Arial Rounded MT Bold"/>
              </a:rPr>
              <a:t>MODALITE DE FINANC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oi de progr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scription loi de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scription aux P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ibution des P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lign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inancement innovant (téléphonie cellulai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wb19167\Pictures\2008_10 Niger\100_3356.JPG"/>
          <p:cNvPicPr/>
          <p:nvPr/>
        </p:nvPicPr>
        <p:blipFill>
          <a:blip r:embed="rId1"/>
          <a:stretch/>
        </p:blipFill>
        <p:spPr>
          <a:xfrm>
            <a:off x="-7920" y="374760"/>
            <a:ext cx="9159840" cy="61070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D838-E864-426F-9EEC-8E88CA7BA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600"/>
            </a:br>
            <a:r>
              <a:rPr b="0" lang="fr-FR" sz="3600" spc="-1" strike="noStrike">
                <a:solidFill>
                  <a:srgbClr val="00b0f0"/>
                </a:solidFill>
                <a:latin typeface="Arial Rounded MT Bold"/>
              </a:rPr>
              <a:t>JUSTIFICATION DE L’INTERVENTION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MD 1: Eliminer l’extrème pauvre et la fa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t 1" descr=""/>
          <p:cNvPicPr/>
          <p:nvPr/>
        </p:nvPicPr>
        <p:blipFill>
          <a:blip r:embed="rId1"/>
          <a:srcRect l="0" t="0" r="0" b="-125"/>
          <a:stretch/>
        </p:blipFill>
        <p:spPr>
          <a:xfrm>
            <a:off x="0" y="1268280"/>
            <a:ext cx="8893080" cy="4969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f0"/>
                </a:solidFill>
                <a:latin typeface="Calibri"/>
              </a:rPr>
              <a:t>JUSTIFICATION DE L’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98100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auses de l’insécurité alimentaire et de la malnutrition sont multiples: nous allons attaquer la  cause principale qui est   la pauvre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grammes de lutte contre la pauvreté mis en place la SRP avec ses déclinaisons sectorielles la SD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‘incidence de la SRP a été faible compte tenu du croit démographique : de 63 a 59% (en chiffres absolu, le nombre de pauvre a augmenté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termes de prosp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Stratégie de Développement Durable et de Croissance Inclu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Programme de Développement Economique et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initiative « les Nigériens Nourrissent les Nigérien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b0f0"/>
                </a:solidFill>
                <a:latin typeface="Calibri"/>
              </a:rPr>
              <a:t>Politiques et Programmes mis en pl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12500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grammes de lutte contre la pauvreté mis en place la SRP avec ses déclinaisons sectorielles dont la SD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‘impact de la SRP a été faible c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pte tenu du croit démographique : de 63 a 59% (en chiffres absolu, le nombre de pauvre a augmenté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NPGCC pour s’attaquer l’insécurité alimentaire conjonctur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FS pour s’attaquer l’insécurité alimentaire structur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gratuité des soins aux enfants de moins de 5 ans, aux femmes enceintes et allaitantes depuis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termes de perspectives, la Stratégie de Développement Durable et de Croissance Inclusive et le PDES et l’initiative 3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œuvre de l’Initiative REACH SUN (mise à échelle de la nutr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fr-FR" sz="4000" spc="-1" strike="noStrike">
                <a:solidFill>
                  <a:srgbClr val="00b0f0"/>
                </a:solidFill>
                <a:latin typeface="Calibri"/>
              </a:rPr>
              <a:t>Stratégies d’inter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méliorer le instruments du DNPGCC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illeure intégration du continuum urgence-relèvement-développemen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illeure intégration des actions de développ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arantir l’effectivité et la gratuité des soins aux groupes vulnérable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ionnalisation de l’Initiative 3 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option  et mise en œuvre de la politique de protection soci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b0f0"/>
                </a:solidFill>
                <a:latin typeface="Calibri"/>
              </a:rPr>
              <a:t>Pourquoi un Programme de Filets Sociaux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roupe cible très important (59%) concentré en milieu rura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 d’opportunités de production et de revenu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dre avec les politique et stratégies du pay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aucoup d’expériences réussies en matière de transferts sociaux au Ni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200" spc="-1" strike="noStrike">
                <a:solidFill>
                  <a:srgbClr val="00b0f0"/>
                </a:solidFill>
                <a:latin typeface="Arial Rounded MT Bold"/>
              </a:rPr>
              <a:t>Stratégies d’intervention du programme de transferts sociaux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ux approches intégrées et complémentaires (structurelle et conjoncturell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vec 4 choix stratégiqu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nforcement des capacités productiv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duction des déficits de consommation alimentair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mélioration de l’accès aux services sociaux de base (eau potable, santé; éducation, PFE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écanismes de protection aux choc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binaison de transferts alimentaires-argent-intrants et notamment la promotion du petit élevage (caprin, volaille, système de warrantage, hab Nayyé, stock de sécurit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b0f0"/>
                </a:solidFill>
                <a:latin typeface="Arial Rounded MT Bold"/>
              </a:rPr>
              <a:t>Objectif glob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forcement de la sécurité alimentaire et nutritionnelle des ménages pauvres et très pauv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b0f0"/>
                </a:solidFill>
                <a:latin typeface="Arial Rounded MT Bold"/>
              </a:rPr>
              <a:t>OBJECTIFS SPECIFIQUE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tenir la consommation alimentaire de 300.000 ménages  très pauvres et 500.000 ménages pauvres à travers des transferts sociaux d’ici  cinq an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mener d’ici 5 ans le taux de sous-nutrition en dessous du seuil d’alerte fixé par l’OMS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pitaliser l’expérience pour la mise à échelle et la réplication de programmes de transfert sociau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0:00:14Z</dcterms:created>
  <dc:creator>usher</dc:creator>
  <dc:description/>
  <dc:language>en-US</dc:language>
  <cp:lastModifiedBy>usher</cp:lastModifiedBy>
  <dcterms:modified xsi:type="dcterms:W3CDTF">2012-04-19T15:48:37Z</dcterms:modified>
  <cp:revision>43</cp:revision>
  <dc:subject/>
  <dc:title>Diapositive 1</dc:title>
</cp:coreProperties>
</file>