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DE4-8CB7-4D9A-9664-781833C3B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D48-A8F3-4664-9CB4-ADD517711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52880" cy="371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ABD-EF9C-4475-9D6F-AF19B70A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983-AED8-4306-B53C-C0EC6AD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2AA-085F-4233-B912-5089601F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061-6614-42CB-974E-DE997E39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9FD-1960-4CDA-AAAE-79C4591F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356-001D-453C-9DE6-EB2E2A9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D5E-A395-4F52-ADB2-479EF08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74C-BD84-4B63-AE72-1A8180B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AD8-FE0A-4E96-888D-BB70622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BC3-4D58-4517-9214-F1D7222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D8C-8137-4A9A-BE86-18BBCEF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9C2-7128-4DBA-9A1C-6409300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1E37-51E2-4E24-904E-100BAAB6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50" name=""/>
            <p:cNvGrpSpPr/>
            <p:nvPr/>
          </p:nvGrpSpPr>
          <p:grpSpPr>
            <a:xfrm>
              <a:off x="7918560" y="0"/>
              <a:ext cx="1225080" cy="6858000"/>
              <a:chOff x="7918560" y="0"/>
              <a:chExt cx="1225080" cy="68580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8305560" y="0"/>
                <a:ext cx="838080" cy="6858000"/>
                <a:chOff x="8305560" y="0"/>
                <a:chExt cx="838080" cy="685800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8776800" y="0"/>
                  <a:ext cx="360000" cy="685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05560" y="701640"/>
                  <a:ext cx="838080" cy="120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8560" y="6477120"/>
                <a:ext cx="733320" cy="172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9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3062880" y="53737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00"/>
                </a:solidFill>
                <a:latin typeface="Arial"/>
              </a:rPr>
              <a:t>Brussels, 17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781360"/>
            <a:ext cx="500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ffff00"/>
                </a:solidFill>
                <a:latin typeface="Arial"/>
              </a:rPr>
              <a:t>EC support to the Re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ffff00"/>
                </a:solidFill>
                <a:latin typeface="Arial"/>
              </a:rPr>
              <a:t>of Social Ass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ffff00"/>
                </a:solidFill>
                <a:latin typeface="Arial"/>
              </a:rPr>
              <a:t>in the Republic of Moldova under EN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ffff00"/>
                </a:solidFill>
                <a:latin typeface="Arial"/>
              </a:rPr>
              <a:t>NAP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Arial"/>
              </a:rPr>
              <a:t>Entitlement and Access to Food: Systems of Social Transfers to fight extreme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look of the Policy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060640"/>
            <a:ext cx="8820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blic Finance Management (PFM) related benchmarks and indicators (25%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. A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roving the Strategic Allocation of Public Resources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. B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roving internal and external control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. C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roving transparency of public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look of the Policy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785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blic Administration reform-related benchmarks and indicators (25%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I. A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ment of modern efficient central public administratio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I. B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lementing transparent and uniform remuneration system for civil servant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I. C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ngthening the organizational and HR capac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0"/>
          <a:ext cx="8229600" cy="6419880"/>
        </p:xfrm>
        <a:graphic>
          <a:graphicData uri="http://schemas.openxmlformats.org/drawingml/2006/table">
            <a:tbl>
              <a:tblPr/>
              <a:tblGrid>
                <a:gridCol w="941400"/>
                <a:gridCol w="930240"/>
                <a:gridCol w="1839960"/>
                <a:gridCol w="1706400"/>
                <a:gridCol w="28116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7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8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9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7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lementation of a SA system addressing poverty in an effective and efficient man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esign of the new SA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laboration of principles and modalities for the reform of the social pay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stimation of the cost of the new benefit packages on the SA budget assessed and forecast of additional income for beneficiaries m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w law on SA drafted and approved by the Governmen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formation and awareness campaign prep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rganisational structure of the SA system management determined (MSPFC, NSIH, local governmen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thodology for income-based testing develop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formation and awareness campaign implemented nation-w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ToRs of the Poverty Impact Assessment Survey  elaborated and agreed up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 independent evaluation of performance of the new SA (commission and omission errors; administration costs) is carried 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rovements to the SA system are propo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valuation of the information and awareness campa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cidence on poverty assessed according to the 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lementation of the new SA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aft regulation on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establishing the amount and social assistance payment</a:t>
                      </a: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ocial workers recruited and train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lementation of new SA system starts nation-w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umulative at least 900 social workers recruited and train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pacity of social assistants evaluat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w SA system is operational in the whole count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 total 1135 social workers recruited and trained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pacity of social assistants evaluated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ito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thodology of monitoring the implementation of social assistance policy develop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monitoring system produces aggregated data (per administrative divisions, gender) on the implementation of the social assistance reform 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outcomes of the monitoring system feed into the poverty reduction policy formulation process and the SA budget preparation process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274680"/>
          <a:ext cx="8229600" cy="6456240"/>
        </p:xfrm>
        <a:graphic>
          <a:graphicData uri="http://schemas.openxmlformats.org/drawingml/2006/table">
            <a:tbl>
              <a:tblPr/>
              <a:tblGrid>
                <a:gridCol w="1039680"/>
                <a:gridCol w="957240"/>
                <a:gridCol w="1979640"/>
                <a:gridCol w="2175120"/>
                <a:gridCol w="20779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7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8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9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. Effective management of public resources allocated to 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ocial Assistance budget prepa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 Budget 2008 prepared taking into account the principles of the new system of social assista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 budget 2009 prepared on the basis of the new system of social assista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evelopment of MTEF 2009-2011 to adjust the SA budg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 budget 2010 prepared based on the performance of the social assistance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TEF 2010 – 2012 updated for the new system of social assi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udget reporting of the MSPF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porting modalities for the SA system are defined and agreed upon  by all acto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art collecting and processing the data for the repor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roduction of financial and physical execution report of the SA budget for 2008 by 30 June 2009 at the lates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F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wareness of the MoSPFC and NSIH on the COSO model for internal control is rais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ternal Audit missions carried out by the Central Service for Internal Audit in MoSPFC;  See comment number RH1 be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Joint internal audit missions in NSIH by the audit department of NSIH and the Central Service for Internal Audi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SO model for internal control established in all institutions involved in the provision of the social assi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e comment RH2 be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ternal Audit missions carried out by the Central Service for Internal Audit in all institutions involved in the provision of the social assistance; Comment RH1 ref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xternal Aud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lot performance audit of the Republican Fund for Social Support of Population and of the local funds for social support of the popul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ttestation Audit of the SA system carried out by the Co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Joint pilot performance audit in the SA system, incl. checks for commission and omission errors, with a team of independent experts in S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81640" y="74001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2160" y="783576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7200" y="7841160"/>
            <a:ext cx="22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 u="sng" baseline="30000">
                <a:solidFill>
                  <a:srgbClr val="009999"/>
                </a:solidFill>
                <a:uFillTx/>
                <a:latin typeface="Garamond"/>
                <a:ea typeface="Times New Roman"/>
                <a:hlinkClick r:id="rId1" action="ppaction://hlinksldjump"/>
              </a:rPr>
              <a:t>[1]</a:t>
            </a:r>
            <a:r>
              <a:rPr b="0" lang="fr-FR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r PRSC WB, Pillar II,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81640" y="4907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62160" y="534348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7200" y="5348880"/>
            <a:ext cx="22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 u="sng" baseline="30000">
                <a:solidFill>
                  <a:srgbClr val="009999"/>
                </a:solidFill>
                <a:uFillTx/>
                <a:latin typeface="Garamond"/>
                <a:ea typeface="Times New Roman"/>
                <a:hlinkClick r:id="rId2" action="ppaction://hlinksldjump"/>
              </a:rPr>
              <a:t>[1]</a:t>
            </a:r>
            <a:r>
              <a:rPr b="0" lang="fr-FR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r PRSC WB, Pillar II,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9440"/>
          <a:ext cx="9144000" cy="3560760"/>
        </p:xfrm>
        <a:graphic>
          <a:graphicData uri="http://schemas.openxmlformats.org/drawingml/2006/table">
            <a:tbl>
              <a:tblPr/>
              <a:tblGrid>
                <a:gridCol w="982800"/>
                <a:gridCol w="984240"/>
                <a:gridCol w="2262240"/>
                <a:gridCol w="2555640"/>
                <a:gridCol w="2359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7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8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9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. Improving the Strategic Allocation of Public Resources</a:t>
                      </a:r>
                      <a:r>
                        <a:rPr b="0" lang="en-US" sz="11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[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udget process (Go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 central policy unit is established to support the GoM in defining medium-term policy prioritie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oM decides to integrate a medium-term policy priority statement into the MT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GoM issues a policy statement defining policy priorities as a guideline for preparing the MTEF 2009 – 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GoM issues a policy statement defining policy priorities as a guideline for preparing the MTEF 2010 –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udget process (Mo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aft Chart of Accounts and Budget Classification desig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hart of Accounts and Budget Classification finalised and tes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thodological guide-book for rolling the MTEF approved by M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w Organic Budget Law prep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easu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gistration and monitoring mechanism for commitments with contractual time schedules up to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ly information on debts (internal arrears) of the national public budget, state budget and budgets of the territorial administrative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s (FMIS, etc.) aligned with the PFM project (FMIS, etc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s (FMIS, etc.) aligned with the PFM projec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481640" y="4907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2160" y="534348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7200" y="5348880"/>
            <a:ext cx="22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 u="sng" baseline="30000">
                <a:solidFill>
                  <a:srgbClr val="009999"/>
                </a:solidFill>
                <a:uFillTx/>
                <a:latin typeface="Garamond"/>
                <a:ea typeface="Times New Roman"/>
                <a:hlinkClick r:id="rId4" action="ppaction://hlinksldjump"/>
              </a:rPr>
              <a:t>[1]</a:t>
            </a:r>
            <a:r>
              <a:rPr b="0" lang="fr-FR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r PRSC WB, Pillar II,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74680"/>
          <a:ext cx="8229600" cy="5850720"/>
        </p:xfrm>
        <a:graphic>
          <a:graphicData uri="http://schemas.openxmlformats.org/drawingml/2006/table">
            <a:tbl>
              <a:tblPr/>
              <a:tblGrid>
                <a:gridCol w="884520"/>
                <a:gridCol w="885600"/>
                <a:gridCol w="2036160"/>
                <a:gridCol w="2300040"/>
                <a:gridCol w="2123280"/>
              </a:tblGrid>
              <a:tr h="441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roving internal and external contro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F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FC Strategy paper approved by GoM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F FCRS regulation amended – provision for new functions for carrying out the audit of Internal Control Systems (ISC) in the public sector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entral harmonization unit for internal audit and internal control is establish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unching the initial training module on internal audit and internal contr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FC legislation drafted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udit missions by the Central Service for Internal Audit in selected public institutions, including the social assistance system See comment RH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e Comment RH3 below Completion of at least two pilot internal audit miss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ther actions (elaboration of training modules for internal auditors, for managers, Internal Audit Manual, etc.) aligned with the PFM projec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dentification of necessary resources for PIFC implement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dopted PIFC legislatio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udit missions by the Central Service for Internal Audit in at least 30% of public institutions, including the social assistance syste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managers on risk manage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ther actions (Training See comment RH4 below of internal auditors) aligned with the PFM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lementing internal control in selected public institution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xternal Aud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of CoA staff on attestation audit and performance audi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w CoA law adop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A operates in accordance with the new CoA la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erformance audit of the PP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274680"/>
          <a:ext cx="8686800" cy="5850720"/>
        </p:xfrm>
        <a:graphic>
          <a:graphicData uri="http://schemas.openxmlformats.org/drawingml/2006/table">
            <a:tbl>
              <a:tblPr/>
              <a:tblGrid>
                <a:gridCol w="933480"/>
                <a:gridCol w="934920"/>
                <a:gridCol w="2149200"/>
                <a:gridCol w="2427840"/>
                <a:gridCol w="2241360"/>
              </a:tblGrid>
              <a:tr h="58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roving transparency of public 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ublic 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w PP law adopted and published with clear organisational and legal separation of duties between the advisory, supervision and monitoring functio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delivered to experts responsible for public procurement (both for beneficiaries and business communiti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overnment approval of secondary legislation implementing the new law on P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afting of Public Procurement guidelines both for beneficiaries and business community  (1</a:t>
                      </a:r>
                      <a:r>
                        <a:rPr b="0" lang="en-US" sz="11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Quarter 20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roved PP web-site with up-to date information on PP, tenders, contracts, downloadable documentation, forms etc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ilot IT Procurement to 1 to 2 minis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delivered to contracting units and the business commu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xpanding IT Procurement to additional 3-4 contracting authorities (selected on the basis of their higher procurement amount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delivered to contracting units and the business commu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440" y="135000"/>
          <a:ext cx="9142560" cy="5851440"/>
        </p:xfrm>
        <a:graphic>
          <a:graphicData uri="http://schemas.openxmlformats.org/drawingml/2006/table">
            <a:tbl>
              <a:tblPr/>
              <a:tblGrid>
                <a:gridCol w="1155600"/>
                <a:gridCol w="1051200"/>
                <a:gridCol w="1996920"/>
                <a:gridCol w="2836800"/>
                <a:gridCol w="21020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7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8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9 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. Establishment of modern efficient central public administ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egal frame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w on public function and the status of the Civil Servant examined by the GoM and submitted to the Parliament (1</a:t>
                      </a:r>
                      <a:r>
                        <a:rPr b="0" lang="en-GB" sz="11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semest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w on public function and the status of the Civil Servant adopted by the Parliament (2</a:t>
                      </a:r>
                      <a:r>
                        <a:rPr b="0" lang="en-GB" sz="11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semester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laboration of the secondary legislation (bylaws) necessary for the implementation of the Law on public function and the status of the Civil Servan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w on Central Public Administration examined by the GoM and submitted to the Parliament (1</a:t>
                      </a:r>
                      <a:r>
                        <a:rPr b="0" lang="en-GB" sz="1100" spc="-1" strike="noStrike" baseline="30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Semest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Law on Central Public Administration adopted by the Parliament (1st semester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laboration of the secondary legislation (bylaws) necessary for the implementation of the Law on Central Public Administ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. Implementing transparent and uniform remuneration system for civil servants</a:t>
                      </a:r>
                      <a:r>
                        <a:rPr b="0" lang="en-US" sz="11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[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raft law on unified pay system: salary, rewards, bonuses, supplements and any other compensations for consolidated services elaborat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ecessary legal framework on the Pay System of Civil Servants develop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lementation of the approved legal framework  on the pay system of Civil serva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. Strengthening the organizational and HR capac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rganizational and HR capac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he CoA has necessary staff and budget to fulfil its fun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levant training plans for each institution concerned – MoF, CoA, MSPFC, social workers, PPA, NSIH elabor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provided (numbers, details to be defined and agreed up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provided (numbers, details to be defined and agreed up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"/>
                        <a:tabLst>
                          <a:tab algn="l" pos="10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raining provided (numbers, details to be defined and agreed up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483080" y="60537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3960" y="648972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6480" y="6495120"/>
            <a:ext cx="229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 u="sng" baseline="30000">
                <a:solidFill>
                  <a:srgbClr val="009999"/>
                </a:solidFill>
                <a:uFillTx/>
                <a:latin typeface="Garamond"/>
                <a:ea typeface="Times New Roman"/>
                <a:hlinkClick r:id="rId2" action="ppaction://hlinksldjump"/>
              </a:rPr>
              <a:t>[1]</a:t>
            </a:r>
            <a:r>
              <a:rPr b="0" lang="fr-FR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Garamond"/>
                <a:ea typeface="Times New Roman"/>
              </a:rPr>
              <a:t>As per PRSC WB, Pillar II,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19280" y="5734080"/>
            <a:ext cx="5977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http://ec.europa.eu/europeaid/index_en.ht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18560" y="0"/>
            <a:ext cx="1225080" cy="6858000"/>
            <a:chOff x="7918560" y="0"/>
            <a:chExt cx="1225080" cy="6858000"/>
          </a:xfrm>
        </p:grpSpPr>
        <p:grpSp>
          <p:nvGrpSpPr>
            <p:cNvPr id="108" name=""/>
            <p:cNvGrpSpPr/>
            <p:nvPr/>
          </p:nvGrpSpPr>
          <p:grpSpPr>
            <a:xfrm>
              <a:off x="8305560" y="0"/>
              <a:ext cx="838080" cy="6858000"/>
              <a:chOff x="8305560" y="0"/>
              <a:chExt cx="838080" cy="6858000"/>
            </a:xfrm>
          </p:grpSpPr>
          <p:sp>
            <p:nvSpPr>
              <p:cNvPr id="109" name=""/>
              <p:cNvSpPr/>
              <p:nvPr/>
            </p:nvSpPr>
            <p:spPr>
              <a:xfrm>
                <a:off x="8776800" y="0"/>
                <a:ext cx="360000" cy="685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05560" y="701640"/>
                <a:ext cx="838080" cy="120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918560" y="6477120"/>
              <a:ext cx="733320" cy="17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611280" y="1125360"/>
            <a:ext cx="74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Final considerations</a:t>
            </a:r>
            <a:br>
              <a:rPr sz="3200"/>
            </a:br>
            <a:br>
              <a:rPr sz="32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apacity …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Monitoring …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“Market failures” …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ldo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6290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024000" cy="250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860640"/>
            <a:ext cx="60498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GDP per capita: 1,729 US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HDI 114 / 177 (the poorest in Eastern Euro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2000 to 2006 GDP 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Arial"/>
              </a:rPr>
              <a:t>growth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 averaged 5.7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Reversing a decade of economic dec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2007-2009 (MTEF) stability of the exchange rate GDP growth is projected at 6%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2009 inflation projected at 7%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2060640"/>
            <a:ext cx="273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34,000 km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4 million inhabit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653000"/>
            <a:ext cx="2737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EN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NAP 2007: € 30 m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NAP 2010: € 60 m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71640" y="333360"/>
            <a:ext cx="34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7 Budget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million 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672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820360" cy="285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00360" y="1052640"/>
            <a:ext cx="34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 Assistance</a:t>
            </a:r>
            <a:br>
              <a:rPr sz="24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million L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s on Moldova'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paradi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916280"/>
            <a:ext cx="7488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gely driven by the expansion of domestic household consump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elled by massive inflows of workers' remittances (accounting for more than 30 percent of the GDP)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pite (sound) macroeconomic policies, quality and equity in access to public services and the efficiency of resource utilisation remains problema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s on Moldova'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paradi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verty rates continued to decrease in large towns from 23% in 2003 to 15% in 2005, but hardly diminished in small tow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eriorated from 36% to 43% in rural areas where nearly two-thirds of the population liv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nd privatization/distribution programme stalled, with over 50 per cent of agricultural land still operated by large-scale enterprises offering limited employment opportunities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ontrast, the 1.5 hectare average size of smaller private farms in many cases limits their ability to engage in commercially viable product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292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Assistance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itiated under Food Security Programmes (since 2000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 "Privileges" benefiting one quarter of the population until 200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Nominative Targeted Compensations (for some categories) until 2003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 Needs' based (pilot introduced as a conditionality in 2006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4292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C Support to Social Assistance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060640"/>
            <a:ext cx="8820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.0 mill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dget support compon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€ 20.0 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information on, reviews and evaluation of the programme, etc.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€ 1.0 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donors: DFID, SIDA WB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pporting Capacity Building in Social Protection, PFM,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42920" y="69228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look of the Polic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82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060640"/>
            <a:ext cx="8820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assistance (SA) related benchmarks and indicators (50%)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.A. Implementation of a SA system addressing poverty in an effective and efficient manne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.B. Effective management of public resources allocated to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1:26:00Z</dcterms:created>
  <dc:creator>bagurlc</dc:creator>
  <dc:description/>
  <dc:language>en-US</dc:language>
  <cp:lastModifiedBy>giorgse</cp:lastModifiedBy>
  <dcterms:modified xsi:type="dcterms:W3CDTF">2008-04-17T08:00:48Z</dcterms:modified>
  <cp:revision>422</cp:revision>
  <dc:subject/>
  <dc:title>EuropeAid reorganisation</dc:title>
</cp:coreProperties>
</file>