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D67-B78C-4204-BFE6-B17E4822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316-03C9-49E2-BF77-D070E08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AA7-87AA-421F-875F-86CEF5F8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001-7F36-433F-AD17-F1A74DE6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BE3-4243-4E65-B993-650F5E0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89E-2B7E-4A43-906E-FA6222D4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D9D-A8A2-404A-9ACA-5FB158E1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8C0-B793-4395-9758-7DAB5A81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4BB-CA16-4288-A88F-00920BD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10A-9756-4FAD-BA39-5C3CB36D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584-50CB-42E3-9F74-246BAF17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10D-0C11-40F0-A2E6-2E72AF1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D10-CD31-4438-AC3F-3067F4D4CF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: action of defining the specific group(s) of beneficiaries on the level of a strategy or an 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Good practic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ior and regular assessment of the context to have a better design and implementation of th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nitoring/evaluation of the outputs and impact of the programme =&gt; feed the re-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nd a compromise between a « simple system » increasing the error of inclusion/exclusion and an « accurate system » that is costly and difficul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xhaustive 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elf targeting interventions (school-feeding, public works…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thropometric criteria: stunting (ex: target malnourished children to target vulnerable fami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practic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ing the communities/beneficiaries in the targe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/merging targeting approaches (HH surveys, livelihood approa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red assets/expenditures based benchmarked rather than incomes bas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evance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roblems encoutered and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lit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 and tim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o baselin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election of beneficiaries process (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pdating and monitoring of caseload (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ocial costs =&gt; stigmatisation (PLW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distribution/diluation of transfer linked (probably) to the level of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Suggestions/recommendation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mprehensive national poli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fining role and responsability of each 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fining synergie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fining needed strategies and accompanied measures (soft part such as social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ioritization of national (institutionalised and covered by national budget and support by legislation) social transfert schemes =&gt; choices have to be made related to nation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Suggestions/recommandation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theme on methodology (more precise or more efficient, more si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 and lessons learnt dissemination on targe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results of the seminar and validate them in R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3:48:10Z</dcterms:created>
  <dc:creator>Administrator</dc:creator>
  <dc:description/>
  <dc:language>en-US</dc:language>
  <cp:lastModifiedBy>Administrator</cp:lastModifiedBy>
  <dcterms:modified xsi:type="dcterms:W3CDTF">2008-04-18T06:54:25Z</dcterms:modified>
  <cp:revision>12</cp:revision>
  <dc:subject/>
  <dc:title>Targeting</dc:title>
</cp:coreProperties>
</file>