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A57-8455-4427-B54F-9291AD6B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402-8A3B-4931-A8A3-80F7948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BF6-E5A4-4FB7-ABA3-5ABE30B5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DC2-F784-443C-9B43-AB3AC85A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187-96C4-428B-8AFB-3BAA758C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3DD-F236-455E-952C-AA07050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6BE-422F-48FB-A396-250C5C76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246-CB9D-4572-928D-61B6B215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107-BDD0-4EF1-861D-DA786E1D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A7C-F5E9-40B9-B16C-BD791F9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780-0268-4144-A13D-93F4361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787-2FAA-454A-B09C-ACE0E07F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02A1-11FA-4968-BB5A-4DBF2E14D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cial Transfer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dgetary Support Work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 seminar on systems of social transfers to fight extrem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/untarg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ov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performance/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dialogue at higher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in P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means for implementation/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 devote enough time for policy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on of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ability/achieving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 capacity for dialogue/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not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real political will for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istration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EU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ield experience in Dele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pplicable to larg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anying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 preparations (indic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should have a capacity building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3:58:16Z</dcterms:created>
  <dc:creator>Nicholas Freeland</dc:creator>
  <dc:description/>
  <dc:language>en-US</dc:language>
  <cp:lastModifiedBy>Nicholas Freeland</cp:lastModifiedBy>
  <dcterms:modified xsi:type="dcterms:W3CDTF">2008-04-18T08:09:27Z</dcterms:modified>
  <cp:revision>18</cp:revision>
  <dc:subject/>
  <dc:title>Social Transfers</dc:title>
</cp:coreProperties>
</file>