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7227-0D3D-4832-A80A-AC4D8B3A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9046-77E7-42D0-BEF9-3AF9B25E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3D8E-98FC-4558-83D4-5F2D341E0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8327-0394-4D0E-BAD6-7BFCEACA7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8164-107A-4A57-B6D5-97D9372E2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9D15-9097-45C7-B11B-6F58F12B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FB28-395B-464E-BFEF-2B8D444F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D359-9760-41FC-912F-319A40D5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AF43-C0F0-4CD2-92EE-6EA23020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4FDA-B8F0-4D3F-BF55-8124B1CE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19A7-A84E-4333-BA80-82F53B4D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FF18-89D8-4679-A5B4-352F1008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B163-1BDD-45F2-838C-65B733C9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F2CE-130F-4C11-9C8A-A3717FE0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668D-C868-47EC-AFA1-84ED8C8C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7343-2847-4EF2-8972-21C61380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5A4B-D511-4F8B-B845-D2211C98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773BE-3B73-487F-A505-25148BB87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DA97A-F82F-44AB-A911-34A1D3F8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FB91F-5423-4F42-9311-11B3AA52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9CC1D-4414-4C5F-9E7D-86EADFFE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62F2A-4B0B-430F-8C8A-3C00167A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184C-F6A6-434B-AD9A-B4E9F6C6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402BB-07A7-413F-88E4-B33146CB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C34EA-C043-4B29-83BB-37414454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18650-AB2B-49B0-983B-D93F5145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36E48-52A6-4601-89A6-4847B1B6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851EC-6DEA-41CF-858B-6CC72208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3FB7B-43C3-42AF-A869-ED1D1A66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6639B-A859-47B8-B21F-CBF4A0FF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C375C-FA21-475E-9A4A-7C2D688AC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83263-A766-4AB4-95A4-1DE41856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F1EC3-C3FB-46EA-8834-F62B3C3E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031D-4546-4D96-9579-4CE1F8C8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6AA72-1F09-41A8-905B-7193A833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71482-4630-463C-9EFF-B21E611D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0008F-968C-4A52-8974-FA3E9717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AA97A-446D-40F4-9E89-28576BF4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6B051-1CC6-4717-9B86-10FFE3A1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DF774-ADF3-44FC-A91E-8603791C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C65B5-9F77-4D1B-9D44-05C3C841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070DB-0EC1-426F-ACFB-75EAD6590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64E26-642F-4F2D-8F73-C461A5B6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F3547-03DC-4AF0-B2DD-833AC05E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2ECF-9333-4A6B-9188-A5FA1B1B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9EAB3-6560-480D-845F-63F4CB76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7A669-7AA7-4079-A537-011BB92A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394C6-5337-4B81-8F8A-301ED9BF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E63AA-68B8-4F9C-9427-ECF772AC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981D3-B7CC-4096-9A27-85739709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E6BF3-B00F-49F3-95FE-732A9705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27DBF-C57C-4C96-8597-E7FEA59C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E1692-8BA2-440E-8D84-AE0D13C1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D0D6C-E98E-4FE2-B9BC-CEF65033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A13D6-3186-48BE-861D-067D6C707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F54E-3520-484C-8F63-6D89E4B3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858E1-032C-4F2B-B1C8-8D5016AA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1465D-3DA0-44F6-A963-9E264A51C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11609-3D69-4C17-8C9B-8EA4CBE4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D203A-BE40-4346-BD04-6A7E5955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B9849-1C0D-4362-BF94-FDCA32A9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427BE-9F95-4642-AFFC-E7BD9A05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9DB85-930B-4955-9EB0-19CB55AC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E59EA-6738-47CE-9A00-855FDD6E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85E39-F4AE-4020-8C90-0609B06B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6C8F1-36A3-46FF-AFCC-D99BA7A4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AAC4-0066-4E92-AE92-BBDBBD06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9F665-02A0-4E73-81D7-6B7E4B34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8D116-78E9-43A1-9BEC-28A552DCF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90F4F-09A3-4510-90FB-E0B2C961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8241-17CD-49C7-92C3-5B004584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8B26-D543-4DF1-B65E-98DF9E65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ED40-3B2D-4392-9C70-1F0A056969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A5DE-9D89-4A06-8603-510E6648C5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CDD3-601E-4140-8EF2-E90599E6D7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A442-83A2-4336-BF2D-B76B8B0E5B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8117-DC92-4A1C-97E7-A1ED8D49ED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10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15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29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16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2" name="18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CCA2-9541-4245-8C20-E3A9BAA577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1 Título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66320" cy="18414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46"/>
                </a:solidFill>
                <a:latin typeface="Lucida Sans Unicode"/>
              </a:rPr>
              <a:t>WORKING GROUP:  4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46"/>
                </a:solidFill>
                <a:latin typeface="Lucida Sans Unicode"/>
              </a:rPr>
              <a:t>In:  “Seminar Entitlement and Access to Food:  Systems of Social Transfers to fight extreme poverty”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46"/>
                </a:solidFill>
                <a:latin typeface="Lucida Sans Unicode"/>
              </a:rPr>
              <a:t>Brussels, 15-18 april 2008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Jaqueline Delaru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livier Lefa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tricia Pal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hilippe Jacqu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rgio Giorg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79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3 Marcador de contenido" descr=""/>
          <p:cNvPicPr/>
          <p:nvPr/>
        </p:nvPicPr>
        <p:blipFill>
          <a:blip r:embed="rId1"/>
          <a:stretch/>
        </p:blipFill>
        <p:spPr>
          <a:xfrm>
            <a:off x="450720" y="1450800"/>
            <a:ext cx="8242560" cy="4589640"/>
          </a:xfrm>
          <a:prstGeom prst="rect">
            <a:avLst/>
          </a:prstGeom>
          <a:ln w="0">
            <a:noFill/>
          </a:ln>
        </p:spPr>
      </p:pic>
      <p:pic>
        <p:nvPicPr>
          <p:cNvPr id="281" name="1 Título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282" name="4 Flecha cuádruple"/>
          <p:cNvSpPr/>
          <p:nvPr/>
        </p:nvSpPr>
        <p:spPr>
          <a:xfrm flipH="1">
            <a:off x="4071960" y="3286080"/>
            <a:ext cx="1000080" cy="1285920"/>
          </a:xfrm>
          <a:prstGeom prst="pi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18640" y="1356840"/>
            <a:ext cx="403884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National Commissio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Multisectoral sector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Multi-stakeholder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Steer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Monitor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Coordinat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Crisis Management (short Term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ata bases/information   for  Decisio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890600" y="1403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gencie(s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Clear mandat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Operational body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Implement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Decentralized bodie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Chronic Poverty (long term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5" name="1 Título" descr=""/>
          <p:cNvPicPr/>
          <p:nvPr/>
        </p:nvPicPr>
        <p:blipFill>
          <a:blip r:embed="rId1"/>
          <a:stretch/>
        </p:blipFill>
        <p:spPr>
          <a:xfrm>
            <a:off x="311040" y="158760"/>
            <a:ext cx="8425080" cy="1206360"/>
          </a:xfrm>
          <a:prstGeom prst="rect">
            <a:avLst/>
          </a:prstGeom>
          <a:ln w="0">
            <a:noFill/>
          </a:ln>
        </p:spPr>
      </p:pic>
      <p:sp>
        <p:nvSpPr>
          <p:cNvPr id="286" name="4 Llamada de flecha hacia arriba"/>
          <p:cNvSpPr/>
          <p:nvPr/>
        </p:nvSpPr>
        <p:spPr>
          <a:xfrm>
            <a:off x="3071880" y="4071960"/>
            <a:ext cx="2857320" cy="928800"/>
          </a:xfrm>
          <a:prstGeom prst="upArrowCallout">
            <a:avLst>
              <a:gd name="adj1" fmla="val 25012"/>
              <a:gd name="adj2" fmla="val 24995"/>
              <a:gd name="adj3" fmla="val 25000"/>
              <a:gd name="adj4" fmla="val 7004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 Unicode"/>
              </a:rPr>
              <a:t>Different Bodie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mplementation Fun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gency:  Preferably under one line Ministry (ej. MOSA) but including others when requir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Limited ambition + decentralizatio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licy Functio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ction Pla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llocating resourc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lexibility/Adaptability:  Time and spa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inking decisions to evidence/informat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ordination Function/Managemen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inance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ifferent to the Secretariat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8" name="4 Título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rticipation of Beneficiar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alking and listening to Actors and Citizens:  Targeting (survey and by communities?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rom gaps deficiencies (-) to assets (+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hat structures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rievances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reating a Culture:  information and awareness of rights and benefi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uman Resources:  TRAINING A NEW GENERATION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IN THE FIEL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0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14:15:31Z</dcterms:created>
  <dc:creator>Patricia Palma de Fulladolsa</dc:creator>
  <dc:description/>
  <dc:language>en-US</dc:language>
  <cp:lastModifiedBy>Administrator</cp:lastModifiedBy>
  <dcterms:modified xsi:type="dcterms:W3CDTF">2008-04-18T06:54:57Z</dcterms:modified>
  <cp:revision>9</cp:revision>
  <dc:subject/>
  <dc:title>INSTITUTIONS AND CAPACITY BUILDING</dc:title>
</cp:coreProperties>
</file>