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1D9C-F962-4281-8304-106BB7835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C473-1FE7-45A8-A476-0125907D9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D91A-67CE-4EEF-B1CC-9BDFEF564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FFFB-C551-45A2-89FB-13C899999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1209CB-0177-420C-99ED-9537C535A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47AAD2-AA6C-44C5-B50A-6B53DD0EB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9C00DC-2234-4D95-97DB-5D3584077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33D116-698D-4F77-837A-D37DF4BAE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E3C99C-3B6E-42F1-BDCA-D7BF3379C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BB3D21-856F-460B-953A-0809E326C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B14F01-845C-48F4-ADB1-D907BC5F2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5059-F6EA-4D59-94D3-7517F4196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ABD705-2250-4194-AD2A-954A83275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7BFA6A-A342-4A0C-A247-693446ACC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C4F56B-A444-4238-92ED-F8E145B59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2832BC-A71F-4D95-AE04-5F1B083FC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27A903-F7CB-4F49-9CF0-3CF46ADCE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8A8C-C2CF-4F47-9F71-A716B6073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B061-6FE4-43B7-8C2B-7FB252FD0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B55C-B9EF-43B4-BBD6-28AFA9FD6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FFEE-E752-446F-B6DB-515C9AB62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6D18-F6AD-4EED-919F-B090D1BBD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7B2C-B106-4FE1-9BFC-9DBDD217B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C682-9F86-4C07-8472-F993CE29E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B2296-7D45-4BEF-986C-466EBDBFA1A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1692B-56C3-441E-8495-1F488FA7834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ASH TRANSFERS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195640" y="2852640"/>
            <a:ext cx="2520720" cy="25210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4356000" y="321300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RECOMMENDATION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lti-annual commitment from government and donors in terms of money / social protection refor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quenced approach of social protection: medical/edu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apting cash transfer to context and where we are in LRR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rative =&gt; preventative approach: reducing need for emergency approaches (which are much more expensiv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opt new Social Cash Transfer BL – quick disbursemen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-468360" y="-139680"/>
            <a:ext cx="9612360" cy="72086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0" y="5229360"/>
            <a:ext cx="8532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463416"/>
                </a:solidFill>
                <a:latin typeface="Arial"/>
              </a:rPr>
              <a:t>Zikomo </a:t>
            </a:r>
            <a:r>
              <a:rPr b="1" lang="en-US" sz="6600" spc="-1" strike="noStrike">
                <a:solidFill>
                  <a:srgbClr val="581004"/>
                </a:solidFill>
                <a:latin typeface="Arial"/>
              </a:rPr>
              <a:t>kwambiri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LESSONS LEARN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ext specific: CASH / FOOD / Mix cash, vouchers, food, productive assets – depending on food / social services avail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wnership of the government is cruc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ordination government, donors, NGOs, civil society, private sec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ordination of social protection measures: social transfer, user fees for public medical services &amp; education (sequencing): availability of public services is cruc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vel of transfer is determined by needs – needs / HH economy / market analy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LESSONS LEARN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T depends on the focus of your purpose: food security - livelihood / social assist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re are we in the LRRD gradient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are we linking / coordinating / complementing  with existing / planned EC programmable development progra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&amp;E (MDG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ffective delivery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ac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LESSONS LEARN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ditional – vs. unconditio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ditional raises cost + requires control/supervision – may leave out disabled / displaced / child headed HH /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most vulner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blic works??? Depends on the contex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mand driven + coupled with capacity / skills buil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ppropriate level of assets =&gt; relevant for commun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ublic and private asse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lexible conditional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ouchers: midway between kind &amp; cash. widen choice of the people: more inputs, more outl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GOOD PRACTIC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COMPANYING TRAI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I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usiness skil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vin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ult literac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ciological / anthropological understan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ticipatory targe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ecks &amp; balances to avoid leakages / fraud, corruption and collu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stainable system must be government owned + participation / verification from the bottom 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GOOD PRACTIC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LIVERY METHO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wala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oucher or Debit-card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mart Ca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bile phones (Vodaphone/M’pes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OPPORTUNITI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plier eff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ing the formal economy into the vill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mote savings culture – cover lean season – e.g. Community savings (BRAC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PROBLEMS / LIMITATION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flationary eff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tential misuse (alcohol, drugs, tobacco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nger of social enginee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formal transaction cost by hand outs vs. transaction cost through 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par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o short term / unpredictable / disharmonized donor commit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SUGGESTION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ingencies to allow for increase commensurate with inflation / index chan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re are we along the LRRD gradient? - Linkages with existing / planned programmable a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nkages with micro-cred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tective, Preventive, Promotive, Transforma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7T13:01:29Z</dcterms:created>
  <dc:creator>Christophe Horvath</dc:creator>
  <dc:description/>
  <dc:language>en-US</dc:language>
  <cp:lastModifiedBy>Administrator</cp:lastModifiedBy>
  <dcterms:modified xsi:type="dcterms:W3CDTF">2008-04-18T06:56:56Z</dcterms:modified>
  <cp:revision>7</cp:revision>
  <dc:subject/>
  <dc:title>CASH TRANSFERS</dc:title>
</cp:coreProperties>
</file>