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72B9A-DAB2-4BD0-A8D2-70E5604AB41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02A1-61FC-4A98-9B0F-083433790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8D4D-0E88-49E5-B736-4273275DB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652F-FC75-407A-8D62-CEAA4754D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4EEA-E361-40C6-9B3E-3FACF1FD9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C8315-6FC5-4A29-ADF5-C5DBCD295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09F86-5360-4662-BEB6-0E8C82767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CB31B-9B1E-4419-8A00-261229952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9371B-BA84-45EB-B859-6EA622F12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D5A7F-7865-4FBE-B444-4805D6D2A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1347B-8D83-4B8C-8DDD-796A63232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C3EAA-EFC2-41F2-AA6D-F9A53319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BDB7-7063-4C55-BCB0-E3975D870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40D42-E311-44AF-9BCB-CC6F615A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F2900-CBA7-4253-A4EC-CF3431CB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54E42-E62C-4AC2-B279-CD6AFF479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0DBBC-0408-4D5B-9CD3-EFBA28E33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0AA81-DCE0-4403-8202-D3B41F6B1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6FBF-CCB6-4934-9C79-37AAB0CA1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6C1D-E718-488C-A063-2DF841C2F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51CF-858C-4831-AE4C-B709BDBEC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BF07-0362-416C-B042-5A8A25FCD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0F84-04BD-4ECF-BFCE-9713A06C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744B-E754-4EE8-B618-FE4054BA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F246-E1D0-4A34-9DC7-23545631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25A0F-9DD9-4743-862C-7C6A403F523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EF076-A058-4B02-9A3C-0927397C46B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57360"/>
            <a:ext cx="7772400" cy="20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b7e7ff"/>
                </a:solidFill>
                <a:latin typeface="Arial"/>
              </a:rPr>
              <a:t>Conclusions and reflex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Over the clouds or in the cloud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b7e7ff"/>
                </a:solidFill>
                <a:latin typeface="Arial"/>
              </a:rPr>
              <a:t>Budgetary suppor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Main conclus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ccompanying measures (proces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 depth preparation (indicators, no rus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A should have a capacity building ro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b7e7ff"/>
                </a:solidFill>
                <a:latin typeface="Arial"/>
              </a:rPr>
              <a:t>Cash transfer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Main conclus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ingencies to allow for increase commensurate with inflation / index ch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are we along the LRRD gradient? - Linkages with existing / planned programmable a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nkages with micro-cred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ective, Preventive, Promotive, Transform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b7e7ff"/>
                </a:solidFill>
                <a:latin typeface="Arial"/>
              </a:rPr>
              <a:t>Cash transfer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-annual commitment from government and donors in terms of money / social protection refor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quenced approach of social protection: medical/edu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apting cash transfer to context and where we are in LRR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ative =&gt; preventative approach: reducing need for emergency approaches (which are much more expensiv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opt new Social Cash Transfer BL – quick disbursem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602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b7e7ff"/>
                </a:solidFill>
                <a:latin typeface="Arial"/>
              </a:rPr>
              <a:t>Institutionalisation/Capacity building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1341360"/>
            <a:ext cx="854064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Main conclus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gramme is implemented within an agency with strong participation of the government (housing in govt structur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ong term strategy (not a crisis respons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ordination and new culture of communication and participation (how to institutionalize the beneficiaries?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o it “in the field” (train social workers on related objectives and process of the social transfe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b7e7ff"/>
                </a:solidFill>
                <a:latin typeface="Arial"/>
              </a:rPr>
              <a:t>FSTP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It is not in the prerogative of Food Security Thematic Programme to substitute to the Food Security Budget Line in financing social transfers programm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The component 5 of the FSTP has vocation to promote innovative approa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b7e7ff"/>
                </a:solidFill>
                <a:latin typeface="Arial"/>
              </a:rPr>
              <a:t>Component 5: innovative approaches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Pilot project on targeting at national lev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Improve the methodology in the implementation of the social transfers program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Feasibility studies at regional level to evaluate the needs of social transfers program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b7e7ff"/>
                </a:solidFill>
                <a:latin typeface="Arial"/>
              </a:rPr>
              <a:t>Round tabl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One main observation per participa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b7e7ff"/>
                </a:solidFill>
                <a:latin typeface="Arial"/>
              </a:rPr>
              <a:t>Few observations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412640"/>
            <a:ext cx="85406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First seminar organised on Access to food and Social Transfers within food security fami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The opportunity to implement social transfers  as a structuring reaction to the increase of the food pri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Gender balanced (18 women, 21 me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b7e7ff"/>
                </a:solidFill>
                <a:latin typeface="Arial"/>
              </a:rPr>
              <a:t>Challeng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Combine a seminar discussing a multidimensional subject, with different perspectives, approaches, totally differents countries, differents expertises, covering an extended area for discussion, etc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b7e7ff"/>
                </a:solidFill>
                <a:latin typeface="Arial"/>
              </a:rPr>
              <a:t>Initial objectiv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Exchange of views and experi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Reinforce conceptual ba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Recommendations for FSTP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To feed the concept note to c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b7e7ff"/>
                </a:solidFill>
                <a:latin typeface="Arial"/>
              </a:rPr>
              <a:t>Exchange of views and experience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Situate ourselves in the large spectrum of social transfers program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Compare the possible responses proposed to particular sit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Generate new perspectives and reflexion for program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b7e7ff"/>
                </a:solidFill>
                <a:latin typeface="Arial"/>
              </a:rPr>
              <a:t>Reinforce conceptual basi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Typology and technical vocabulary of social transfers is probably more familiar for all of 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Good basis to go deeper in the reflexion to be more efficient with adequate solu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b7e7ff"/>
                </a:solidFill>
                <a:latin typeface="Arial"/>
              </a:rPr>
              <a:t>What was missing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412640"/>
            <a:ext cx="85406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odalities of intervention for social transfers programm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Reflexion on benchmarks and indicators (process indicators to outcome indicators) to measure the progress and achievement of the program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The sequencing of the component to promote successful social transfers programme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Connecting social transfers to community and mar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b7e7ff"/>
                </a:solidFill>
                <a:latin typeface="Arial"/>
              </a:rPr>
              <a:t>Some key word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« Institutionalisation 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« Graduation 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« Linkage » social transfers to productive program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« Country specific 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« Impact indicators 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b7e7ff"/>
                </a:solidFill>
                <a:latin typeface="Arial"/>
              </a:rPr>
              <a:t>Targeting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Main conclus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Comprehensive national policy (responsibility, coord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and synergi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Prioritization of national social transfers based on current budget resour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Capitaliz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Present the result of the seminar and validate them in RO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What is too simple is wrong what is too complex is unusabl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7T12:42:32Z</dcterms:created>
  <dc:creator>Administrator</dc:creator>
  <dc:description/>
  <dc:language>en-US</dc:language>
  <cp:lastModifiedBy>Administrator</cp:lastModifiedBy>
  <dcterms:modified xsi:type="dcterms:W3CDTF">2008-04-18T08:57:13Z</dcterms:modified>
  <cp:revision>40</cp:revision>
  <dc:subject/>
  <dc:title>Slide 1</dc:title>
</cp:coreProperties>
</file>