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9D51-F71D-4133-9D47-75AE2FCAAE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43B-FE19-4395-9BD6-5A32E238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E68-7414-48C4-8A4B-98805AF9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7AA-35D9-42E2-83D3-C74600A6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C00-D5BD-4ACC-A341-20CCC5C0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8CE3-B094-40C3-BA25-1998F555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2D2C-AE7B-4655-A670-C8BB752A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7E54-5827-4F89-92D1-871942AA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2EB4-18FA-4C35-9D87-A029EE7D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2F19-88DA-48F4-9815-2255B3EB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D5D0-2908-4477-AA3D-57F512AC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D20F-544E-43E7-87BC-EE8E702B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FEF-A44B-46DB-A10A-DA041B55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3154-D81F-4505-A1AB-A4906BD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8952-E7A5-4F54-A161-9002C096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A68E-F468-4473-A794-D7BE435B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7155-0DB4-4642-A550-D120DC9D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9F68-6005-4BF9-BB73-120E06BD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ED6-6587-47F3-B369-BC1C518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257-26E4-4AA7-A4D0-FFCE26D3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345-B900-42B5-B018-0A8ECDCA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2A2-8C94-44E6-9378-391C3A1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8D3-E6F7-4301-84CA-E980206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796-02E9-42BB-9F3E-5ABEAC1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F25-F353-4D09-835F-5D412F91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29DB-34CB-4982-B788-6D6C9833FC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E77E-CE58-4C88-8FB4-A232FB8F878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Conclusions and reflex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ver the clouds or in the clou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Budgetary suppo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ompanying measures (proc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depth preparation (indicators, no rus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 should have a capacity building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Cash transf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gencies to allow for increase commensurate with inflation / index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we along the LRRD gradient? - Linkages with existing / planned programmable 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ages with micro-cr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ve, Preventive, Promotive, Transform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Cash transf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annual commitment from government and donors in terms of money / social protection re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d approach of social protection: medical/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ing cash transfer to context and where we are in LR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ative =&gt; preventative approach: reducing need for emergency approaches (which are much more expens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 new Social Cash Transfer BL – quick disburs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b7e7ff"/>
                </a:solidFill>
                <a:latin typeface="Arial"/>
              </a:rPr>
              <a:t>Institutionalisation/Capacity build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me is implemented within an agency with strong participation of the government (housing in govt struc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ng term strategy (not a crisis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ordination and new culture of communication and participation (how to institutionalize the beneficiari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 it “in the field” (train social workers on related objectives and process of the social transf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FST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t is not in the prerogative of Food Security Thematic Programme to substitute to the Food Security Budget Line in financing social transfers program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e component 5 of the FSTP has vocation to promote innovative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b7e7ff"/>
                </a:solidFill>
                <a:latin typeface="Arial"/>
              </a:rPr>
              <a:t>Component 5: innovative approach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ilot project on targeting at national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mprove the methodology in the implementation of the social transfer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easibility studies at regional level to evaluate the needs of social transfer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Round tab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ne main observation per particip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Few observation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irst seminar organised on Access to food and Social Transfers within food security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The opportunity to implement social transfers  as a structuring reaction to the increase of the food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Gender balanced (18 women, 21 m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Combine a seminar discussing a multidimensional subject, with different perspectives, approaches, totally differents countries, differents expertises, covering an extended area for discussion, et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Initial objecti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Exchange of views and expe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einforce conceptual b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ecommendations for FSTP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To feed the concept note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b7e7ff"/>
                </a:solidFill>
                <a:latin typeface="Arial"/>
              </a:rPr>
              <a:t>Exchange of views and experienc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tuate ourselves in the large spectrum of social transfer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mpare the possible responses proposed to particular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enerate new perspectives and reflexion for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Reinforce conceptual ba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ypology and technical vocabulary of social transfers is probably more familiar for all of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ood basis to go deeper in the reflexion to be more efficient with adequate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What was missing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dalities of intervention for social transfers program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flexion on benchmarks and indicators (process indicators to outcome indicators) to measure the progress and achievement of the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e sequencing of the component to promote successful social transfers programm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necting social transfers to community and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Some key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Institutionalisation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Graduation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Linkage » social transfers to productive program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Country specific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Impact indicators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Targe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omprehensive national policy (responsibility,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and synerg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Prioritization of national social transfers based on current budget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apita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Present the result of the seminar and validate them in R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What is too simple is wrong what is too complex is unus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2:42:32Z</dcterms:created>
  <dc:creator>Administrator</dc:creator>
  <dc:description/>
  <dc:language>en-US</dc:language>
  <cp:lastModifiedBy>Administrator</cp:lastModifiedBy>
  <dcterms:modified xsi:type="dcterms:W3CDTF">2008-04-18T08:57:13Z</dcterms:modified>
  <cp:revision>40</cp:revision>
  <dc:subject/>
  <dc:title>Slide 1</dc:title>
</cp:coreProperties>
</file>