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E2B23-6995-455E-A934-BC964DEEBBE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3222-5856-4959-9364-101418E1A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132D-7B7C-43C3-99E6-54296E4EC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7E75-87FE-4E1B-8580-DDB9AC9DD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EA5A-75D9-4D5A-BD81-0507E88F9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767AE-0DBF-49DE-A15E-3CFC66F63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BCD77-336F-4656-B17E-B73988C7D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425C6-B4E3-4EF2-BD8F-05866036C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B1A11-C67A-4F17-99CF-2F82897D7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7E673-DD3A-4999-8478-2D279C8E3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71C7A-3062-4FF7-B352-D91CF4AEB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74D08-A4D3-419F-A147-7E7BCDC9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A62A-08B4-4236-BE43-42C3558F9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4BA44-93BC-4F2B-B459-E5F3AC25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41BF2-4407-47A4-BA63-026CCC106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3176E-6928-4B67-95A1-C1853FBF1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33F13-6923-42CB-A5AE-DFF2D2243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358C0-8C91-446A-AB5D-FEA03B977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CAD8-1014-4356-AD1A-8062DE726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B41A-ED7B-48A0-BBF5-916A857C8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8034-C276-4CC3-8C89-0BD8026EB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9F19-5B00-4587-8C12-9F9C8E453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C4B3-1EC1-4A06-BE46-5B09433F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23A4-C1DF-47D6-917D-D6A0664E0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A3BB-5696-46DC-A7D6-F3E0166B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2FD41-0004-456A-88C1-FDC7EEDDF22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F9A18-8EFE-4CD5-A973-CF4086F4262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57360"/>
            <a:ext cx="7772400" cy="20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b7e7ff"/>
                </a:solidFill>
                <a:latin typeface="Arial"/>
              </a:rPr>
              <a:t>Conclusions and reflex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Arial"/>
              </a:rPr>
              <a:t>Over the clouds or in the cloud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b7e7ff"/>
                </a:solidFill>
                <a:latin typeface="Arial"/>
              </a:rPr>
              <a:t>Budgetary suppor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Arial"/>
              </a:rPr>
              <a:t>Main conclus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ccompanying measures (proces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 depth preparation (indicators, no rus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A should have a capacity building ro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b7e7ff"/>
                </a:solidFill>
                <a:latin typeface="Arial"/>
              </a:rPr>
              <a:t>Cash transfer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Arial"/>
              </a:rPr>
              <a:t>Main conclus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ingencies to allow for increase commensurate with inflation / index ch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are we along the LRRD gradient? - Linkages with existing / planned programmable a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nkages with micro-cred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ective, Preventive, Promotive, Transforma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b7e7ff"/>
                </a:solidFill>
                <a:latin typeface="Arial"/>
              </a:rPr>
              <a:t>Cash transfer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-annual commitment from government and donors in terms of money / social protection refor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quenced approach of social protection: medical/edu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apting cash transfer to context and where we are in LRR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ative =&gt; preventative approach: reducing need for emergency approaches (which are much more expensiv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opt new Social Cash Transfer BL – quick disburseme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26028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b7e7ff"/>
                </a:solidFill>
                <a:latin typeface="Arial"/>
              </a:rPr>
              <a:t>Institutionalisation/Capacity building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1680" y="1341360"/>
            <a:ext cx="854064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Arial"/>
              </a:rPr>
              <a:t>Main conclus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gramme is implemented within an agency with strong participation of the government (housing in govt structur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ong term strategy (not a crisis respons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ordination and new culture of communication and participation (how to institutionalize the beneficiaries?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o it “in the field” (train social workers on related objectives and process of the social transfe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b7e7ff"/>
                </a:solidFill>
                <a:latin typeface="Arial"/>
              </a:rPr>
              <a:t>FSTP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It is not in the prerogative of Food Security Thematic Programme to substitute to the Food Security Budget Line in financing social transfers programm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The component 5 of the FSTP has vocation to promote innovative approa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b7e7ff"/>
                </a:solidFill>
                <a:latin typeface="Arial"/>
              </a:rPr>
              <a:t>Component 5: innovative approaches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Pilot project on targeting at national lev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Improve the methodology in the implementation of the social transfers program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Feasibility studies at regional level to evaluate the needs of social transfers program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b7e7ff"/>
                </a:solidFill>
                <a:latin typeface="Arial"/>
              </a:rPr>
              <a:t>Round tabl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Arial"/>
              </a:rPr>
              <a:t>One main observation per participa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b7e7ff"/>
                </a:solidFill>
                <a:latin typeface="Arial"/>
              </a:rPr>
              <a:t>Few observations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412640"/>
            <a:ext cx="85406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Arial"/>
              </a:rPr>
              <a:t>First seminar organised on Access to food and Social Transfers within food security fami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Arial"/>
              </a:rPr>
              <a:t>The opportunity to implement social transfers  as a structuring reaction to the increase of the food pri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Arial"/>
              </a:rPr>
              <a:t>Gender balanced (18 women, 21 me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b7e7ff"/>
                </a:solidFill>
                <a:latin typeface="Arial"/>
              </a:rPr>
              <a:t>Challeng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Arial"/>
              </a:rPr>
              <a:t>Combine a seminar discussing a multidimensional subject, with different perspectives, approaches, totally differents countries, differents expertises, covering an extended area for discussion, etc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b7e7ff"/>
                </a:solidFill>
                <a:latin typeface="Arial"/>
              </a:rPr>
              <a:t>Initial objectiv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Arial"/>
              </a:rPr>
              <a:t>Exchange of views and experi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Arial"/>
              </a:rPr>
              <a:t>Reinforce conceptual ba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Arial"/>
              </a:rPr>
              <a:t>Recommendations for FSTP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Arial"/>
              </a:rPr>
              <a:t>To feed the concept note to c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b7e7ff"/>
                </a:solidFill>
                <a:latin typeface="Arial"/>
              </a:rPr>
              <a:t>Exchange of views and experiences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Situate ourselves in the large spectrum of social transfers program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Compare the possible responses proposed to particular sit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Generate new perspectives and reflexion for program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b7e7ff"/>
                </a:solidFill>
                <a:latin typeface="Arial"/>
              </a:rPr>
              <a:t>Reinforce conceptual basi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Typology and technical vocabulary of social transfers is probably more familiar for all of 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Good basis to go deeper in the reflexion to be more efficient with adequate solut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b7e7ff"/>
                </a:solidFill>
                <a:latin typeface="Arial"/>
              </a:rPr>
              <a:t>What was missing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412640"/>
            <a:ext cx="85406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odalities of intervention for social transfers programm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Reflexion on benchmarks and indicators (process indicators to outcome indicators) to measure the progress and achievement of the program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The sequencing of the component to promote successful social transfers programme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Connecting social transfers to community and mark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b7e7ff"/>
                </a:solidFill>
                <a:latin typeface="Arial"/>
              </a:rPr>
              <a:t>Some key word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Arial"/>
              </a:rPr>
              <a:t>« Institutionalisation 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Arial"/>
              </a:rPr>
              <a:t>« Graduation 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Arial"/>
              </a:rPr>
              <a:t>« Linkage » social transfers to productive program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Arial"/>
              </a:rPr>
              <a:t>« Country specific 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Arial"/>
              </a:rPr>
              <a:t>« Impact indicators 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b7e7ff"/>
                </a:solidFill>
                <a:latin typeface="Arial"/>
              </a:rPr>
              <a:t>Targeting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Main conclus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Comprehensive national policy (responsibility, coordi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and synergi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Prioritization of national social transfers based on current budget resour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Capitaliz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Present the result of the seminar and validate them in RO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What is too simple is wrong what is too complex is unusabl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7T12:42:32Z</dcterms:created>
  <dc:creator>Administrator</dc:creator>
  <dc:description/>
  <dc:language>en-US</dc:language>
  <cp:lastModifiedBy>Administrator</cp:lastModifiedBy>
  <dcterms:modified xsi:type="dcterms:W3CDTF">2008-04-18T08:57:13Z</dcterms:modified>
  <cp:revision>40</cp:revision>
  <dc:subject/>
  <dc:title>Slide 1</dc:title>
</cp:coreProperties>
</file>