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7FB-0A03-4C13-97EE-7CF25071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1C7-DBE4-460E-A537-BD1EC916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B62-00A7-4717-AE77-9D6DB982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7CD-5940-48E1-8DDE-7093CCCC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641-3406-48DA-AAE0-0C03EFE8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FE9-5106-4250-B908-73F46C9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A6A-0353-48C3-B83A-B68C157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418-BE34-4AEA-B9EA-416E961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CDD-10C9-473F-B022-BE8291F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FA1-C841-4FB3-81C7-7BD5807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FC3-5182-4EDC-98AA-E3D1CE02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0A0-0D69-4E93-BDE2-5E98C55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67E-3B36-4CBB-BEA1-99AEB30F252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4D5-D230-47B2-9424-E9B76CE4C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26028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Paulus M. Versch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Special Envoy Food and Nutrition Security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Ministry of Foreign Affairs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3"/>
          <p:cNvSpPr/>
          <p:nvPr/>
        </p:nvSpPr>
        <p:spPr>
          <a:xfrm>
            <a:off x="4427640" y="1908000"/>
            <a:ext cx="44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The Mon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follows 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Slide18.jpg"/>
          <p:cNvPicPr/>
          <p:nvPr/>
        </p:nvPicPr>
        <p:blipFill>
          <a:blip r:embed="rId2"/>
          <a:stretch/>
        </p:blipFill>
        <p:spPr>
          <a:xfrm>
            <a:off x="0" y="98100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82D-E4B7-43EA-A72D-06AA1532579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1258920" y="2814480"/>
            <a:ext cx="8713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Why did w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prioritise nutr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C26-C63A-4793-BAE2-D9C7291EC71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0"/>
          <p:cNvSpPr/>
          <p:nvPr/>
        </p:nvSpPr>
        <p:spPr>
          <a:xfrm>
            <a:off x="1258920" y="23954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How is our  </a:t>
            </a: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FNS Polic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f0"/>
                </a:solidFill>
                <a:latin typeface="Calibri"/>
              </a:rPr>
              <a:t>being shap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73B-8193-4ECC-A264-F465E94E744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8"/>
          <p:cNvSpPr/>
          <p:nvPr/>
        </p:nvSpPr>
        <p:spPr>
          <a:xfrm>
            <a:off x="-36360" y="6519960"/>
            <a:ext cx="47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titre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1258920" y="2395440"/>
            <a:ext cx="741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Calibri"/>
              </a:rPr>
              <a:t>What  </a:t>
            </a:r>
            <a:r>
              <a:rPr b="1" lang="fr-FR" sz="6000" spc="-1" strike="noStrike">
                <a:solidFill>
                  <a:srgbClr val="00b0f0"/>
                </a:solidFill>
                <a:latin typeface="Calibri"/>
              </a:rPr>
              <a:t>Mod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b0f0"/>
                </a:solidFill>
                <a:latin typeface="Calibri"/>
              </a:rPr>
              <a:t>has real potent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6804000" y="115920"/>
            <a:ext cx="2160720" cy="649080"/>
          </a:xfrm>
          <a:prstGeom prst="rect">
            <a:avLst/>
          </a:prstGeom>
          <a:solidFill>
            <a:srgbClr val="f2f2f2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f7f7f"/>
                </a:solidFill>
                <a:latin typeface="Calibri"/>
              </a:rPr>
              <a:t>Insérez ici le logo de votr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cp:lastPrinted>2013-05-06T11:40:04Z</cp:lastPrinted>
  <dcterms:modified xsi:type="dcterms:W3CDTF">2013-05-13T17:24:09Z</dcterms:modified>
  <cp:revision>19</cp:revision>
  <dc:subject/>
  <dc:title>Diapositive 1</dc:title>
</cp:coreProperties>
</file>