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FD04-4C03-4074-9D0B-262A40B266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E86D-4BBA-442F-A81E-6969747F44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9404-67AF-42F8-828A-7193FEBE0C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637F-1001-45BA-B441-84AE50C33E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10A9-89DD-4DE7-8DD9-7611CCC311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FA1C-D0C2-49A5-AD8A-2B6648D1A4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BCC8-E407-4C59-8457-E311369976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C22-F6AA-4C5D-80C0-7F7911F9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706-3C77-4056-9B64-D0CB4CE5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5AE-13DA-442B-AAB6-64145267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FFF-683F-4EC1-856A-5C2D8DB5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730-07FC-45B9-8B21-56C7B17E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20E-9FC4-4F56-A3D3-43D7F0DC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17FA-83BA-4D7C-9734-46FDBD56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5175-75A7-4F01-BC61-B6872390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C591-D564-4FBA-B5F5-28053884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E97-A736-4A47-8069-1A997757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111-E219-4BEB-A86C-7E44C148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E63-A5E5-41C3-BCD5-FE3D3AD4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CFE6-2DFA-4E78-AAE8-09DEB06D770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6593-C633-47DA-AB69-94062A1CB2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38639" t="0" r="0" b="0"/>
          <a:stretch/>
        </p:blipFill>
        <p:spPr>
          <a:xfrm>
            <a:off x="0" y="189000"/>
            <a:ext cx="349236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5445000"/>
            <a:ext cx="914400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11"/>
          <p:cNvSpPr/>
          <p:nvPr/>
        </p:nvSpPr>
        <p:spPr>
          <a:xfrm>
            <a:off x="250920" y="58006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Augustin F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Executiv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f0"/>
                </a:solidFill>
                <a:latin typeface="Arial"/>
              </a:rPr>
              <a:t>The Children’s Investment Fund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mage 12" descr="Couv.jpg"/>
          <p:cNvPicPr/>
          <p:nvPr/>
        </p:nvPicPr>
        <p:blipFill>
          <a:blip r:embed="rId2"/>
          <a:stretch/>
        </p:blipFill>
        <p:spPr>
          <a:xfrm>
            <a:off x="0" y="977760"/>
            <a:ext cx="9144000" cy="447228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13"/>
          <p:cNvSpPr/>
          <p:nvPr/>
        </p:nvSpPr>
        <p:spPr>
          <a:xfrm>
            <a:off x="448920" y="1116000"/>
            <a:ext cx="81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f0"/>
                </a:solidFill>
                <a:latin typeface="Arial"/>
              </a:rPr>
              <a:t>CATALYTIC FINANCING FOR 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7"/>
          <p:cNvSpPr/>
          <p:nvPr/>
        </p:nvSpPr>
        <p:spPr>
          <a:xfrm>
            <a:off x="2700360" y="2924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e8a21f39-833d-43fd-80b4-eea472e6cb68" descr="image003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990C-4830-4E85-A110-95251CDF7CA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0"/>
          <p:cNvSpPr/>
          <p:nvPr/>
        </p:nvSpPr>
        <p:spPr>
          <a:xfrm>
            <a:off x="250920" y="981000"/>
            <a:ext cx="8569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Calibri"/>
              </a:rPr>
              <a:t>Background and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3 = unique opportunity to change the trajectory of nutrition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 donor network established a project team in January 2013 to explore opportunities for catalytic financing mechanisms for 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ct objectiv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if, and how, non traditional resources can be leveraged to play a catalytic role in nutr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challenges: additional aid funding will play a role but will not be sufficient; lack of delivery models at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ning of a Steering Committee 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esentation from countries, SUN, bilateral and multilateral donors, UN and content 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ltations with broad range of stakeholders ; 2 day workshop organized by the Milken Institute in London on May 8-9, 2013 to discuss an initial propos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1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9e39dfc8-6977-45e6-a0f6-ddfb2ebff4d7" descr="image002"/>
          <p:cNvPicPr/>
          <p:nvPr/>
        </p:nvPicPr>
        <p:blipFill>
          <a:blip r:embed="rId2"/>
          <a:stretch/>
        </p:blipFill>
        <p:spPr>
          <a:xfrm>
            <a:off x="6588000" y="0"/>
            <a:ext cx="2422800" cy="915840"/>
          </a:xfrm>
          <a:prstGeom prst="rect">
            <a:avLst/>
          </a:prstGeom>
          <a:ln w="0">
            <a:noFill/>
          </a:ln>
        </p:spPr>
      </p:pic>
      <p:pic>
        <p:nvPicPr>
          <p:cNvPr id="64" name="e8a21f39-833d-43fd-80b4-eea472e6cb68" descr="image003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E560-1286-44CA-8962-967AAB78055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0"/>
          <p:cNvSpPr/>
          <p:nvPr/>
        </p:nvSpPr>
        <p:spPr>
          <a:xfrm>
            <a:off x="250920" y="1268280"/>
            <a:ext cx="88930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Calibri"/>
              </a:rPr>
              <a:t>Proposal: Creation of a New Catalytic Financing Facility for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New financing vehicle to leverage non traditional resour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to support SUN countries in accelerating the scaling up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prioritised, evidence based progr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1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9e39dfc8-6977-45e6-a0f6-ddfb2ebff4d7" descr="image002"/>
          <p:cNvPicPr/>
          <p:nvPr/>
        </p:nvPicPr>
        <p:blipFill>
          <a:blip r:embed="rId2"/>
          <a:stretch/>
        </p:blipFill>
        <p:spPr>
          <a:xfrm>
            <a:off x="6588000" y="0"/>
            <a:ext cx="2422800" cy="915840"/>
          </a:xfrm>
          <a:prstGeom prst="rect">
            <a:avLst/>
          </a:prstGeom>
          <a:ln w="0">
            <a:noFill/>
          </a:ln>
        </p:spPr>
      </p:pic>
      <p:pic>
        <p:nvPicPr>
          <p:cNvPr id="73" name="e8a21f39-833d-43fd-80b4-eea472e6cb68" descr="image003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B2C3-DCA6-4662-9A0D-F1AB0FD9923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10"/>
          <p:cNvSpPr/>
          <p:nvPr/>
        </p:nvSpPr>
        <p:spPr>
          <a:xfrm>
            <a:off x="250920" y="1268280"/>
            <a:ext cx="8893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Arial"/>
              </a:rPr>
              <a:t>Goal: Leverage New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a channel for non traditional donors and innovative financing mechanisms to effectively deploy funding into quality country nutrition programs; use of incentives (matching, result based financing) to leverag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entives for partner countries to increase domestic resources invested in nutrition: minimum co-funding level, matching, top 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idge funding mechanism with focus on additionality and sustainability: short term (3-5 year) boost of additional funding for acceleration, with upfront transition strategy to longer term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1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9e39dfc8-6977-45e6-a0f6-ddfb2ebff4d7" descr="image002"/>
          <p:cNvPicPr/>
          <p:nvPr/>
        </p:nvPicPr>
        <p:blipFill>
          <a:blip r:embed="rId2"/>
          <a:stretch/>
        </p:blipFill>
        <p:spPr>
          <a:xfrm>
            <a:off x="6588000" y="0"/>
            <a:ext cx="2422800" cy="915840"/>
          </a:xfrm>
          <a:prstGeom prst="rect">
            <a:avLst/>
          </a:prstGeom>
          <a:ln w="0">
            <a:noFill/>
          </a:ln>
        </p:spPr>
      </p:pic>
      <p:pic>
        <p:nvPicPr>
          <p:cNvPr id="82" name="e8a21f39-833d-43fd-80b4-eea472e6cb68" descr="image003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A4A5-6E49-4ECD-8E55-F0D31FE7E96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0"/>
          <p:cNvSpPr/>
          <p:nvPr/>
        </p:nvSpPr>
        <p:spPr>
          <a:xfrm>
            <a:off x="250920" y="1268280"/>
            <a:ext cx="87138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Calibri"/>
              </a:rPr>
              <a:t>Goal: Accelerate the Scaling up of Quality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accelerated scaling up of prioritized, evidence based nutrition programs, demonstrating how countries can achieved this cost eff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cus on innovation for delivery at scale models, quality improvements and evidence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country governance and M&amp;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nership with Governments ready and strongly committed to scaling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ivery through government and existing technical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1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9e39dfc8-6977-45e6-a0f6-ddfb2ebff4d7" descr="image002"/>
          <p:cNvPicPr/>
          <p:nvPr/>
        </p:nvPicPr>
        <p:blipFill>
          <a:blip r:embed="rId2"/>
          <a:stretch/>
        </p:blipFill>
        <p:spPr>
          <a:xfrm>
            <a:off x="6588000" y="0"/>
            <a:ext cx="2422800" cy="915840"/>
          </a:xfrm>
          <a:prstGeom prst="rect">
            <a:avLst/>
          </a:prstGeom>
          <a:ln w="0">
            <a:noFill/>
          </a:ln>
        </p:spPr>
      </p:pic>
      <p:pic>
        <p:nvPicPr>
          <p:cNvPr id="91" name="e8a21f39-833d-43fd-80b4-eea472e6cb68" descr="image003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46E7-D7C6-4AA7-8AFE-EA0CBC25D98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10"/>
          <p:cNvSpPr/>
          <p:nvPr/>
        </p:nvSpPr>
        <p:spPr>
          <a:xfrm>
            <a:off x="250920" y="1268280"/>
            <a:ext cx="871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Calibri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d fun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design, structure and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nitial partner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the fac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1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9e39dfc8-6977-45e6-a0f6-ddfb2ebff4d7" descr="image002"/>
          <p:cNvPicPr/>
          <p:nvPr/>
        </p:nvPicPr>
        <p:blipFill>
          <a:blip r:embed="rId2"/>
          <a:stretch/>
        </p:blipFill>
        <p:spPr>
          <a:xfrm>
            <a:off x="6588000" y="0"/>
            <a:ext cx="2422800" cy="915840"/>
          </a:xfrm>
          <a:prstGeom prst="rect">
            <a:avLst/>
          </a:prstGeom>
          <a:ln w="0">
            <a:noFill/>
          </a:ln>
        </p:spPr>
      </p:pic>
      <p:pic>
        <p:nvPicPr>
          <p:cNvPr id="100" name="e8a21f39-833d-43fd-80b4-eea472e6cb68" descr="image003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2:02:01Z</dcterms:created>
  <dc:creator>gdruhen</dc:creator>
  <dc:description/>
  <dc:language>en-US</dc:language>
  <cp:lastModifiedBy>ahelali</cp:lastModifiedBy>
  <dcterms:modified xsi:type="dcterms:W3CDTF">2013-05-13T17:20:36Z</dcterms:modified>
  <cp:revision>68</cp:revision>
  <dc:subject/>
  <dc:title>Diapositive 1</dc:title>
</cp:coreProperties>
</file>