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AEC9-61FA-4F4A-B7F6-244FE0D1D8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E31F-827D-4A21-93D1-1F023778DB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3F7-1FC6-4A04-BB5C-76F0F3754F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6234-4415-4661-8CE2-335E3C1381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5B5C-AFD8-49FA-9FA6-1F45DFC9F2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8B6-B52E-4F42-B77D-BD8F1D99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146-5726-4AC4-A5DB-1F81019C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DEB-79C6-49B0-AD8C-9656868F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1CF-0A13-49CA-B503-591306FF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855-E253-480B-9155-42A37E35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C4C-B041-493B-B6AE-CD69AD06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482-042B-4ED0-B6EC-160C43A5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F4A-B138-422D-A415-5F3146C7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F9F-9F92-43A9-AFB7-C8714F01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404-5CB8-4961-A9F6-2390EFCE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3AB-0BC7-44BF-8965-35A58C2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A49-7038-4BE9-BF65-266D2965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3A72-BDD1-4705-98F9-7CA57B1A831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3908-8510-4B25-A045-D25076741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8018" t="0" r="0" b="0"/>
          <a:stretch/>
        </p:blipFill>
        <p:spPr>
          <a:xfrm>
            <a:off x="0" y="189000"/>
            <a:ext cx="35272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1"/>
          <p:cNvSpPr/>
          <p:nvPr/>
        </p:nvSpPr>
        <p:spPr>
          <a:xfrm>
            <a:off x="250920" y="58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Léné </a:t>
            </a: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SEB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Ministr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Burkina F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395280" y="1052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Calibri"/>
                <a:ea typeface="Courier New"/>
              </a:rPr>
              <a:t>Les Financements, un défi pour le passage à l’éch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Calibri"/>
                <a:ea typeface="Courier New"/>
              </a:rPr>
              <a:t>des interventions de Nutrition: Expérience du Burkina Fa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8640" y="292428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[ Illustration de couverture modifiable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FLANKO~1\AppData\Local\Temp\notesEBF5D8\BFA12.0329.NUT0332.JPG"/>
          <p:cNvPicPr/>
          <p:nvPr/>
        </p:nvPicPr>
        <p:blipFill>
          <a:blip r:embed="rId2"/>
          <a:stretch/>
        </p:blipFill>
        <p:spPr>
          <a:xfrm>
            <a:off x="250920" y="1698480"/>
            <a:ext cx="8713800" cy="39625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13" descr=""/>
          <p:cNvPicPr/>
          <p:nvPr/>
        </p:nvPicPr>
        <p:blipFill>
          <a:blip r:embed="rId3"/>
          <a:stretch/>
        </p:blipFill>
        <p:spPr>
          <a:xfrm>
            <a:off x="7313760" y="7776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7226-7D89-4B05-8867-60C2EE55BE4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79280" y="981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Projections des besoins financiers 2013-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628640"/>
          <a:ext cx="8640720" cy="4537080"/>
        </p:xfrm>
        <a:graphic>
          <a:graphicData uri="http://schemas.openxmlformats.org/drawingml/2006/table">
            <a:tbl>
              <a:tblPr/>
              <a:tblGrid>
                <a:gridCol w="3530880"/>
                <a:gridCol w="1728720"/>
                <a:gridCol w="1803240"/>
                <a:gridCol w="15778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oins financiers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bilisé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ps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e en charge de la malnutrition aiguë sévè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20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9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0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forcement de l’offre de service en nutrition dans les formations sanitaires et au niveau communautaire avec un focus sur 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289 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109 0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80 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tte contre les carences en micronutrim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26 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36 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forcem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la 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35 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 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65 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852 0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269 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5 582 9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44" name="Object 13" descr=""/>
          <p:cNvPicPr/>
          <p:nvPr/>
        </p:nvPicPr>
        <p:blipFill>
          <a:blip r:embed="rId2"/>
          <a:stretch/>
        </p:blipFill>
        <p:spPr>
          <a:xfrm>
            <a:off x="7451640" y="14940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8E11-0D57-4F12-9ED5-0DFA9716314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image001.png"/>
          <p:cNvPicPr/>
          <p:nvPr/>
        </p:nvPicPr>
        <p:blipFill>
          <a:blip r:embed="rId2"/>
          <a:stretch/>
        </p:blipFill>
        <p:spPr>
          <a:xfrm>
            <a:off x="2484360" y="1046160"/>
            <a:ext cx="4032360" cy="3967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3"/>
          <p:cNvSpPr/>
          <p:nvPr/>
        </p:nvSpPr>
        <p:spPr>
          <a:xfrm>
            <a:off x="276120" y="5084640"/>
            <a:ext cx="8812440" cy="1334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semble, investissons et gagnons la lutte contre la malnutrition au Burk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</a:rPr>
              <a:t>Je vous remer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13" descr=""/>
          <p:cNvPicPr/>
          <p:nvPr/>
        </p:nvPicPr>
        <p:blipFill>
          <a:blip r:embed="rId3"/>
          <a:stretch/>
        </p:blipFill>
        <p:spPr>
          <a:xfrm>
            <a:off x="7596360" y="14940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84B-54EF-487C-B78B-E609C847EE3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8"/>
          <p:cNvSpPr/>
          <p:nvPr/>
        </p:nvSpPr>
        <p:spPr>
          <a:xfrm>
            <a:off x="-36360" y="6519960"/>
            <a:ext cx="892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 ,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0"/>
          <p:cNvSpPr/>
          <p:nvPr/>
        </p:nvSpPr>
        <p:spPr>
          <a:xfrm>
            <a:off x="166680" y="1773360"/>
            <a:ext cx="3900600" cy="4667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f0"/>
                </a:solidFill>
                <a:latin typeface="Arial"/>
              </a:rPr>
              <a:t>s et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volution du financement de la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traintes rencont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spectives par rapport aux nouvelles ori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ojection des besoins financiers 2013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62" name="Object 73" descr=""/>
          <p:cNvPicPr/>
          <p:nvPr/>
        </p:nvPicPr>
        <p:blipFill>
          <a:blip r:embed="rId2"/>
          <a:stretch/>
        </p:blipFill>
        <p:spPr>
          <a:xfrm>
            <a:off x="7308720" y="63360"/>
            <a:ext cx="1143000" cy="989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324000" y="1268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0" descr=""/>
          <p:cNvPicPr/>
          <p:nvPr/>
        </p:nvPicPr>
        <p:blipFill>
          <a:blip r:embed="rId3"/>
          <a:stretch/>
        </p:blipFill>
        <p:spPr>
          <a:xfrm>
            <a:off x="4067280" y="1773360"/>
            <a:ext cx="498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A6AE-AE21-4B80-8A0D-DF562D60839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pied de page 8"/>
          <p:cNvSpPr/>
          <p:nvPr/>
        </p:nvSpPr>
        <p:spPr>
          <a:xfrm>
            <a:off x="-36360" y="6519960"/>
            <a:ext cx="892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 ,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0"/>
          <p:cNvSpPr/>
          <p:nvPr/>
        </p:nvSpPr>
        <p:spPr>
          <a:xfrm>
            <a:off x="179280" y="857160"/>
            <a:ext cx="51847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Résultats et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cours des dix dernières années, le Burkina Faso a fait des progrès significatifs dans la lutte contre la malnutrit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 2012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ion de la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progressive des éléments du «Three on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Un conseil national de concertation e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Une politique assortie d’un plan stratégique de nutrition 2010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Systématisation d’une enquête nutritionnelles annu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bilisation des partenaires techniques et financiers en nutr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71" name="Object 11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82572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Object 12" descr=""/>
          <p:cNvPicPr/>
          <p:nvPr/>
        </p:nvPicPr>
        <p:blipFill>
          <a:blip r:embed="rId3"/>
          <a:stretch/>
        </p:blipFill>
        <p:spPr>
          <a:xfrm>
            <a:off x="5364000" y="3776760"/>
            <a:ext cx="3579840" cy="2754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4"/>
          <p:cNvSpPr/>
          <p:nvPr/>
        </p:nvSpPr>
        <p:spPr>
          <a:xfrm rot="16200000">
            <a:off x="6662880" y="529560"/>
            <a:ext cx="1002600" cy="360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+520,000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e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5364000" y="5013360"/>
            <a:ext cx="3600720" cy="1312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+1,067,000 </a:t>
            </a: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e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13" descr=""/>
          <p:cNvPicPr/>
          <p:nvPr/>
        </p:nvPicPr>
        <p:blipFill>
          <a:blip r:embed="rId4"/>
          <a:stretch/>
        </p:blipFill>
        <p:spPr>
          <a:xfrm>
            <a:off x="7308720" y="63360"/>
            <a:ext cx="114300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1031-D4F4-49B5-906D-266FA4E17BD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 ,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9280" y="1125360"/>
            <a:ext cx="8856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  <a:ea typeface="Arial"/>
              </a:rPr>
              <a:t>Actions entreprises par le Gouvern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en 2002, d’une Direction nationale de la nutrition au sein du Ministère de la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ise en place progressive des éléments du «Three ones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8480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84807"/>
                </a:solidFill>
                <a:latin typeface="Arial"/>
                <a:ea typeface="Arial"/>
              </a:rPr>
              <a:t>Conseil National de Concertation sur la Nutr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8480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84807"/>
                </a:solidFill>
                <a:latin typeface="Arial"/>
                <a:ea typeface="Arial"/>
              </a:rPr>
              <a:t>Une Politique assortie d’un Plan Stratégique de Nutrition 2010-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8480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84807"/>
                </a:solidFill>
                <a:latin typeface="Arial"/>
                <a:ea typeface="Arial"/>
              </a:rPr>
              <a:t>Systématisation d’une enquête nationale de nutrition intégrant des indicateurs de nutrition et de sécurité alimentai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obilisation des partenaires techniques et financiers en nutr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108000" y="5516640"/>
            <a:ext cx="886608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lgré les nombreuses actions entreprises pour organiser la lutte contre la malnutrition et la mobilisation des partenaires, le financement du plan stratégique n’a pas été la hauteur des déf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13" descr=""/>
          <p:cNvPicPr/>
          <p:nvPr/>
        </p:nvPicPr>
        <p:blipFill>
          <a:blip r:embed="rId2"/>
          <a:stretch/>
        </p:blipFill>
        <p:spPr>
          <a:xfrm>
            <a:off x="7093080" y="18108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6664-BB25-42A0-B40A-393CB1532CD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79280" y="907920"/>
            <a:ext cx="878544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  <a:ea typeface="Arial"/>
              </a:rPr>
              <a:t>Plan stratégique de nutrition 2010-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bjectif général du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ontribuer à l’amélioration de l’état nutritionnel des populations du Burkina Faso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incipaux axes stratégiques du Pl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éduire de la prévalence de l’insuffisance pondérale de 38% à 25 %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nforcer la lutte contre les carences en micronutriment et contre les maladies chroniques non transmissibles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nforcer l’offre de service en nutrition dans les formations sanitaires et au niveau communautaire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méliorer la coordination intrasectorielle et la collaboration intersectorielle en  matière de nutrition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38240" y="5634000"/>
            <a:ext cx="8867520" cy="978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e coût de la  mise en œuvre du plan stratégique pour la période 2010 -2015  est </a:t>
            </a:r>
            <a:r>
              <a:rPr b="1" lang="fr-FR" sz="2000" spc="-1" strike="noStrike">
                <a:solidFill>
                  <a:srgbClr val="ffc000"/>
                </a:solidFill>
                <a:latin typeface="Arial"/>
              </a:rPr>
              <a:t>80,638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millions de dollars US. </a:t>
            </a:r>
            <a:r>
              <a:rPr b="1" lang="fr-FR" sz="2000" spc="-1" strike="noStrike">
                <a:solidFill>
                  <a:srgbClr val="ffc000"/>
                </a:solidFill>
                <a:latin typeface="Arial"/>
              </a:rPr>
              <a:t>Le coût par individu et par an  est d’environ 0,85 dollars U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13" descr=""/>
          <p:cNvPicPr/>
          <p:nvPr/>
        </p:nvPicPr>
        <p:blipFill>
          <a:blip r:embed="rId2"/>
          <a:stretch/>
        </p:blipFill>
        <p:spPr>
          <a:xfrm>
            <a:off x="7380360" y="14940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5DBB-C4B6-40C9-912D-089A568AA68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 ,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79280" y="981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Plan stratégique de nutrition 2010-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0040" y="2103480"/>
          <a:ext cx="8721720" cy="4133880"/>
        </p:xfrm>
        <a:graphic>
          <a:graphicData uri="http://schemas.openxmlformats.org/drawingml/2006/table">
            <a:tbl>
              <a:tblPr/>
              <a:tblGrid>
                <a:gridCol w="4680000"/>
                <a:gridCol w="2589480"/>
                <a:gridCol w="1452240"/>
              </a:tblGrid>
              <a:tr h="82152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ût du plan par Axe stratégique en milliers de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es d’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û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uction de la prévalence de l’insuffisance pondérale y compris la PC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tte contre les carences en micronutr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forcement de l’offre de service en nutrition dans les formations sanitaires et au niveau communautaire y compris 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élioration de la 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1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oût total du pl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0 6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99" name="Object 13" descr=""/>
          <p:cNvPicPr/>
          <p:nvPr/>
        </p:nvPicPr>
        <p:blipFill>
          <a:blip r:embed="rId2"/>
          <a:stretch/>
        </p:blipFill>
        <p:spPr>
          <a:xfrm>
            <a:off x="7451640" y="18108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A279-A0AE-42AD-98DC-3BBBE4743F3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 a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79280" y="981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Evolution du financement des interventions de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Object 33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7873920" cy="3887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2"/>
          <p:cNvSpPr/>
          <p:nvPr/>
        </p:nvSpPr>
        <p:spPr>
          <a:xfrm>
            <a:off x="179280" y="5508720"/>
            <a:ext cx="878544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es fonds pour la nutrition ont augmenté significativement entre 2006 et 2012. Mais il s’agit surtout de fonds d’urgence, non prévisibles et affectés aux interventions cur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ject 34" descr=""/>
          <p:cNvPicPr/>
          <p:nvPr/>
        </p:nvPicPr>
        <p:blipFill>
          <a:blip r:embed="rId3"/>
          <a:stretch/>
        </p:blipFill>
        <p:spPr>
          <a:xfrm>
            <a:off x="7805880" y="141120"/>
            <a:ext cx="114300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B7BA-D27C-4501-A589-82D2AD5428F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79280" y="981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Contraintes rencontré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4"/>
          <p:cNvSpPr/>
          <p:nvPr/>
        </p:nvSpPr>
        <p:spPr>
          <a:xfrm>
            <a:off x="206280" y="1484280"/>
            <a:ext cx="86868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s financements sont souvent orientés urgence, court terme et ne suivent pas toujours les actions prioritaires du plan straté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06280" y="2421000"/>
            <a:ext cx="868680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interventions curatives avec des fonds d’urgence sont privilégiées au détriment des interventions préventives qui impliquent des fonds d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06280" y="3573360"/>
            <a:ext cx="86868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multiplicité des acteurs et des secteurs intervenant dans la nutrition rend la traçabilité des financements diffic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206280" y="4437000"/>
            <a:ext cx="86346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Difficulté de faire des plans multisectoriels et bien financés et de suivre leurs mise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179280" y="5300640"/>
            <a:ext cx="87854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sous estimation des besoins de financements du Plan stratégique de nutrition, au regard des besoins financiers évalués dans les différents plan pour le passage à l’échelle des interventions essentielles en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Object 13" descr=""/>
          <p:cNvPicPr/>
          <p:nvPr/>
        </p:nvPicPr>
        <p:blipFill>
          <a:blip r:embed="rId2"/>
          <a:stretch/>
        </p:blipFill>
        <p:spPr>
          <a:xfrm>
            <a:off x="7380360" y="8424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13DF-4700-44CE-871F-298E720F631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79280" y="907560"/>
            <a:ext cx="85075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7"/>
          <p:cNvGrpSpPr/>
          <p:nvPr/>
        </p:nvGrpSpPr>
        <p:grpSpPr>
          <a:xfrm>
            <a:off x="179280" y="1196640"/>
            <a:ext cx="2952720" cy="5283000"/>
            <a:chOff x="179280" y="1196640"/>
            <a:chExt cx="2952720" cy="5283000"/>
          </a:xfrm>
        </p:grpSpPr>
        <p:sp>
          <p:nvSpPr>
            <p:cNvPr id="128" name="Flowchart: Manual Operation 18"/>
            <p:cNvSpPr/>
            <p:nvPr/>
          </p:nvSpPr>
          <p:spPr>
            <a:xfrm rot="16200000">
              <a:off x="-985680" y="2361600"/>
              <a:ext cx="5283000" cy="29527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lowchart: Manual Operation 4"/>
            <p:cNvSpPr/>
            <p:nvPr/>
          </p:nvSpPr>
          <p:spPr>
            <a:xfrm>
              <a:off x="179280" y="1844640"/>
              <a:ext cx="280836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953735"/>
                  </a:solidFill>
                  <a:latin typeface="Calibri"/>
                </a:rPr>
                <a:t>2013 – 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- Finalisation des plans de passage à l’échelle spécifique  </a:t>
              </a:r>
              <a:r>
                <a:rPr b="1" i="1" lang="fr-FR" sz="1800" spc="-1" strike="noStrike">
                  <a:solidFill>
                    <a:srgbClr val="ffffff"/>
                  </a:solidFill>
                  <a:latin typeface="Arial Narrow"/>
                </a:rPr>
                <a:t>(Prise en charge de la malnutrition aiguë modéré, Alimentation du nourrisson et du Jeune enfant, carence en micronutriment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 Narrow"/>
                </a:rPr>
                <a:t>-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Evaluation de la mise en œuvre du plan stratégique 2010-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3276720" y="1125360"/>
            <a:ext cx="2722320" cy="5283360"/>
            <a:chOff x="3276720" y="1125360"/>
            <a:chExt cx="2722320" cy="5283360"/>
          </a:xfrm>
        </p:grpSpPr>
        <p:sp>
          <p:nvSpPr>
            <p:cNvPr id="131" name="Flowchart: Manual Operation 21"/>
            <p:cNvSpPr/>
            <p:nvPr/>
          </p:nvSpPr>
          <p:spPr>
            <a:xfrm rot="16200000">
              <a:off x="1996200" y="2405880"/>
              <a:ext cx="5283360" cy="27223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lowchart: Manual Operation 4"/>
            <p:cNvSpPr/>
            <p:nvPr/>
          </p:nvSpPr>
          <p:spPr>
            <a:xfrm>
              <a:off x="3402000" y="2182680"/>
              <a:ext cx="259704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953735"/>
                  </a:solidFill>
                  <a:latin typeface="Calibri"/>
                </a:rPr>
                <a:t>2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- Consolidation des plans de passage à l’échelle spécifique sous forme d’un plan stratégique de nutrition (2016 – 2025) budgétisé avec un focus sur la lutte contre le retard de croiss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- Mobilisation de ressources suffisantes pour le plan stratégique 2016-2025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3"/>
          <p:cNvGrpSpPr/>
          <p:nvPr/>
        </p:nvGrpSpPr>
        <p:grpSpPr>
          <a:xfrm>
            <a:off x="6145200" y="907920"/>
            <a:ext cx="2854440" cy="5572080"/>
            <a:chOff x="6145200" y="907920"/>
            <a:chExt cx="2854440" cy="5572080"/>
          </a:xfrm>
        </p:grpSpPr>
        <p:sp>
          <p:nvSpPr>
            <p:cNvPr id="134" name="Flowchart: Manual Operation 24"/>
            <p:cNvSpPr/>
            <p:nvPr/>
          </p:nvSpPr>
          <p:spPr>
            <a:xfrm rot="16200000">
              <a:off x="4786200" y="2266560"/>
              <a:ext cx="5572080" cy="285444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lowchart: Manual Operation 4"/>
            <p:cNvSpPr/>
            <p:nvPr/>
          </p:nvSpPr>
          <p:spPr>
            <a:xfrm>
              <a:off x="6145200" y="2022120"/>
              <a:ext cx="285444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953735"/>
                  </a:solidFill>
                  <a:latin typeface="Calibri"/>
                </a:rPr>
                <a:t>2016</a:t>
              </a:r>
              <a:r>
                <a:rPr b="0" lang="en-US" sz="2800" spc="-1" strike="noStrike">
                  <a:solidFill>
                    <a:srgbClr val="953735"/>
                  </a:solidFill>
                  <a:latin typeface="Calibri"/>
                </a:rPr>
                <a:t>- </a:t>
              </a:r>
              <a:r>
                <a:rPr b="1" lang="en-US" sz="2800" spc="-1" strike="noStrike">
                  <a:solidFill>
                    <a:srgbClr val="953735"/>
                  </a:solidFill>
                  <a:latin typeface="Calibri"/>
                </a:rPr>
                <a:t>2025</a:t>
              </a:r>
              <a:r>
                <a:rPr b="0" lang="en-US" sz="2800" spc="-1" strike="noStrike">
                  <a:solidFill>
                    <a:srgbClr val="953735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Mise en œuvre du nouveau plan stratégiq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Object 13" descr=""/>
          <p:cNvPicPr/>
          <p:nvPr/>
        </p:nvPicPr>
        <p:blipFill>
          <a:blip r:embed="rId2"/>
          <a:stretch/>
        </p:blipFill>
        <p:spPr>
          <a:xfrm>
            <a:off x="7572240" y="14940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ahelali</cp:lastModifiedBy>
  <dcterms:modified xsi:type="dcterms:W3CDTF">2013-05-13T17:23:50Z</dcterms:modified>
  <cp:revision>38</cp:revision>
  <dc:subject/>
  <dc:title>Diapositive 1</dc:title>
</cp:coreProperties>
</file>