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6F5-E91C-440E-9615-10EA88C5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116-B374-4908-8D94-A099172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283-1DAF-4967-B56E-AB575A24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8BC-5A19-47A0-9C25-B36DBB92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6AB-E092-4D78-9A5B-5111123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929-1413-4D61-807C-CE9E1B8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853-0FD9-4E10-97C7-057979A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C94-5C30-4620-B8CB-EECC04F0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A5A-ECA6-40DC-B5E1-27C31A99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285-3615-4497-B053-842B5D9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5DB-8839-4037-ACFE-A9722E2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7AE-613C-482D-963A-DFFA75A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20D5-3656-4FFD-81E0-A5A2A5FD685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6174-98F0-4413-B3A5-BB0FC8FC0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26028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Paulus M. Versch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Special Envoy Food and Nutrition Security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Ministry of Foreign Affairs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3"/>
          <p:cNvSpPr/>
          <p:nvPr/>
        </p:nvSpPr>
        <p:spPr>
          <a:xfrm>
            <a:off x="4427640" y="1908000"/>
            <a:ext cx="44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The Mon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follows 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Slide18.jpg"/>
          <p:cNvPicPr/>
          <p:nvPr/>
        </p:nvPicPr>
        <p:blipFill>
          <a:blip r:embed="rId2"/>
          <a:stretch/>
        </p:blipFill>
        <p:spPr>
          <a:xfrm>
            <a:off x="0" y="98100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4F39-B97D-490D-8EF0-EEB5E620CBE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1258920" y="2814480"/>
            <a:ext cx="8713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Why did w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prioritise nutr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8E5-EBFA-4069-A54F-687DE343454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0"/>
          <p:cNvSpPr/>
          <p:nvPr/>
        </p:nvSpPr>
        <p:spPr>
          <a:xfrm>
            <a:off x="1258920" y="23954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How is our  </a:t>
            </a: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FNS Polic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being shap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149-61A5-48AD-A8B8-C6D12BCE4C4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1258920" y="2395440"/>
            <a:ext cx="741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What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Mod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b0f0"/>
                </a:solidFill>
                <a:latin typeface="Calibri"/>
              </a:rPr>
              <a:t>has real potent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cp:lastPrinted>2013-05-06T11:40:04Z</cp:lastPrinted>
  <dcterms:modified xsi:type="dcterms:W3CDTF">2013-05-13T17:24:09Z</dcterms:modified>
  <cp:revision>19</cp:revision>
  <dc:subject/>
  <dc:title>Diapositive 1</dc:title>
</cp:coreProperties>
</file>