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1F9A-83A5-4D80-BF67-B185CD28BA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1D76-8762-4ECE-984B-5629F758CF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E74F-735C-438B-934B-CBCBAC07F7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AFDC-A1AC-4DB4-8E8B-08784DC9E7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6120-18E0-4BAA-8355-930CB27637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6196-48D1-40FB-A5DA-C072795F60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53A3-A70A-4A6E-88DE-3A957701FE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4A3-90EC-4AB0-8AA1-62CEC4D9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E34-266A-4D41-B717-3D425DB3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539-67CE-4E9A-894A-D9BE2F29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E3A-EA45-46A1-950C-B7FB1719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1B7-BED9-426A-AD81-86DCEF0D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D17-D6E2-483C-89A4-5D140B9C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1D7-F624-4D83-BA2D-3A1D6821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5E2-6467-4DD3-B8FB-E01BFF0E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D05-DA1F-4BD5-8A6A-72A2A857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2D0-A352-48B5-BD14-C569BC7E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209-F4EE-43ED-841E-35FC5BB1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B4B-340C-4419-BECD-6387706D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2841-F2F4-415F-836F-ED26C9B8660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0258-FD8F-444B-BE7E-A0A0C50B7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38639" t="0" r="0" b="0"/>
          <a:stretch/>
        </p:blipFill>
        <p:spPr>
          <a:xfrm>
            <a:off x="0" y="189000"/>
            <a:ext cx="349236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5445000"/>
            <a:ext cx="914400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11"/>
          <p:cNvSpPr/>
          <p:nvPr/>
        </p:nvSpPr>
        <p:spPr>
          <a:xfrm>
            <a:off x="250920" y="58006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Augustin F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Executiv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f0"/>
                </a:solidFill>
                <a:latin typeface="Arial"/>
              </a:rPr>
              <a:t>The Children’s Investment Fund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 12" descr="Couv.jpg"/>
          <p:cNvPicPr/>
          <p:nvPr/>
        </p:nvPicPr>
        <p:blipFill>
          <a:blip r:embed="rId2"/>
          <a:stretch/>
        </p:blipFill>
        <p:spPr>
          <a:xfrm>
            <a:off x="0" y="977760"/>
            <a:ext cx="9144000" cy="447228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13"/>
          <p:cNvSpPr/>
          <p:nvPr/>
        </p:nvSpPr>
        <p:spPr>
          <a:xfrm>
            <a:off x="448920" y="1116000"/>
            <a:ext cx="81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f0"/>
                </a:solidFill>
                <a:latin typeface="Arial"/>
              </a:rPr>
              <a:t>CATALYTIC FINANCING FOR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7"/>
          <p:cNvSpPr/>
          <p:nvPr/>
        </p:nvSpPr>
        <p:spPr>
          <a:xfrm>
            <a:off x="2700360" y="292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e8a21f39-833d-43fd-80b4-eea472e6cb68" descr="image003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8544-D44D-4CCF-B88A-A22EFE54510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0"/>
          <p:cNvSpPr/>
          <p:nvPr/>
        </p:nvSpPr>
        <p:spPr>
          <a:xfrm>
            <a:off x="250920" y="981000"/>
            <a:ext cx="8569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Background and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3 = unique opportunity to change the trajectory of nutrition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 donor network established a project team in January 2013 to explore opportunities for catalytic financing mechanisms for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 objectiv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f, and how, non traditional resources can be leveraged to play a catalytic role in nutr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challenges: additional aid funding will play a role but will not be sufficient; lack of delivery models at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ning of a Steering Committee 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ation from countries, SUN, bilateral and multilateral donors, UN and content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ltations with broad range of stakeholders ; 2 day workshop organized by the Milken Institute in London on May 8-9, 2013 to discuss an initial propos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9e39dfc8-6977-45e6-a0f6-ddfb2ebff4d7" descr="image002"/>
          <p:cNvPicPr/>
          <p:nvPr/>
        </p:nvPicPr>
        <p:blipFill>
          <a:blip r:embed="rId2"/>
          <a:stretch/>
        </p:blipFill>
        <p:spPr>
          <a:xfrm>
            <a:off x="6588000" y="0"/>
            <a:ext cx="2422800" cy="915840"/>
          </a:xfrm>
          <a:prstGeom prst="rect">
            <a:avLst/>
          </a:prstGeom>
          <a:ln w="0">
            <a:noFill/>
          </a:ln>
        </p:spPr>
      </p:pic>
      <p:pic>
        <p:nvPicPr>
          <p:cNvPr id="64" name="e8a21f39-833d-43fd-80b4-eea472e6cb68" descr="image003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9A28-6926-4F38-9CE0-CFA9E28C50F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0"/>
          <p:cNvSpPr/>
          <p:nvPr/>
        </p:nvSpPr>
        <p:spPr>
          <a:xfrm>
            <a:off x="250920" y="1268280"/>
            <a:ext cx="88930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Proposal: Creation of a New Catalytic Financing Facility for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New financing vehicle to leverage non traditional resour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to support SUN countries in accelerating the scaling up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prioritised, evidence based progr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9e39dfc8-6977-45e6-a0f6-ddfb2ebff4d7" descr="image002"/>
          <p:cNvPicPr/>
          <p:nvPr/>
        </p:nvPicPr>
        <p:blipFill>
          <a:blip r:embed="rId2"/>
          <a:stretch/>
        </p:blipFill>
        <p:spPr>
          <a:xfrm>
            <a:off x="6588000" y="0"/>
            <a:ext cx="2422800" cy="915840"/>
          </a:xfrm>
          <a:prstGeom prst="rect">
            <a:avLst/>
          </a:prstGeom>
          <a:ln w="0">
            <a:noFill/>
          </a:ln>
        </p:spPr>
      </p:pic>
      <p:pic>
        <p:nvPicPr>
          <p:cNvPr id="73" name="e8a21f39-833d-43fd-80b4-eea472e6cb68" descr="image003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EEE4-391C-4361-BBA6-0D251E71082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0"/>
          <p:cNvSpPr/>
          <p:nvPr/>
        </p:nvSpPr>
        <p:spPr>
          <a:xfrm>
            <a:off x="250920" y="1268280"/>
            <a:ext cx="8893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Arial"/>
              </a:rPr>
              <a:t>Goal: Leverage New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a channel for non traditional donors and innovative financing mechanisms to effectively deploy funding into quality country nutrition programs; use of incentives (matching, result based financing) to leverag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entives for partner countries to increase domestic resources invested in nutrition: minimum co-funding level, matching, top 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dge funding mechanism with focus on additionality and sustainability: short term (3-5 year) boost of additional funding for acceleration, with upfront transition strategy to longer term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9e39dfc8-6977-45e6-a0f6-ddfb2ebff4d7" descr="image002"/>
          <p:cNvPicPr/>
          <p:nvPr/>
        </p:nvPicPr>
        <p:blipFill>
          <a:blip r:embed="rId2"/>
          <a:stretch/>
        </p:blipFill>
        <p:spPr>
          <a:xfrm>
            <a:off x="6588000" y="0"/>
            <a:ext cx="2422800" cy="915840"/>
          </a:xfrm>
          <a:prstGeom prst="rect">
            <a:avLst/>
          </a:prstGeom>
          <a:ln w="0">
            <a:noFill/>
          </a:ln>
        </p:spPr>
      </p:pic>
      <p:pic>
        <p:nvPicPr>
          <p:cNvPr id="82" name="e8a21f39-833d-43fd-80b4-eea472e6cb68" descr="image003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0462-E86A-496D-A4E5-9C62F44751C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0"/>
          <p:cNvSpPr/>
          <p:nvPr/>
        </p:nvSpPr>
        <p:spPr>
          <a:xfrm>
            <a:off x="250920" y="1268280"/>
            <a:ext cx="87138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Goal: Accelerate the Scaling up of Quality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accelerated scaling up of prioritized, evidence based nutrition programs, demonstrating how countries can achieved this cost eff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cus on innovation for delivery at scale models, quality improvements and evidence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country governance and M&amp;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nership with Governments ready and strongly committed to scaling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ivery through government and existing technical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9e39dfc8-6977-45e6-a0f6-ddfb2ebff4d7" descr="image002"/>
          <p:cNvPicPr/>
          <p:nvPr/>
        </p:nvPicPr>
        <p:blipFill>
          <a:blip r:embed="rId2"/>
          <a:stretch/>
        </p:blipFill>
        <p:spPr>
          <a:xfrm>
            <a:off x="6588000" y="0"/>
            <a:ext cx="2422800" cy="915840"/>
          </a:xfrm>
          <a:prstGeom prst="rect">
            <a:avLst/>
          </a:prstGeom>
          <a:ln w="0">
            <a:noFill/>
          </a:ln>
        </p:spPr>
      </p:pic>
      <p:pic>
        <p:nvPicPr>
          <p:cNvPr id="91" name="e8a21f39-833d-43fd-80b4-eea472e6cb68" descr="image003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D1E2-6965-4AFE-9162-54526B319C3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10"/>
          <p:cNvSpPr/>
          <p:nvPr/>
        </p:nvSpPr>
        <p:spPr>
          <a:xfrm>
            <a:off x="250920" y="1268280"/>
            <a:ext cx="871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d fun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design, structure and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nitial partner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the fac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9e39dfc8-6977-45e6-a0f6-ddfb2ebff4d7" descr="image002"/>
          <p:cNvPicPr/>
          <p:nvPr/>
        </p:nvPicPr>
        <p:blipFill>
          <a:blip r:embed="rId2"/>
          <a:stretch/>
        </p:blipFill>
        <p:spPr>
          <a:xfrm>
            <a:off x="6588000" y="0"/>
            <a:ext cx="2422800" cy="915840"/>
          </a:xfrm>
          <a:prstGeom prst="rect">
            <a:avLst/>
          </a:prstGeom>
          <a:ln w="0">
            <a:noFill/>
          </a:ln>
        </p:spPr>
      </p:pic>
      <p:pic>
        <p:nvPicPr>
          <p:cNvPr id="100" name="e8a21f39-833d-43fd-80b4-eea472e6cb68" descr="image003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2:02:01Z</dcterms:created>
  <dc:creator>gdruhen</dc:creator>
  <dc:description/>
  <dc:language>en-US</dc:language>
  <cp:lastModifiedBy>ahelali</cp:lastModifiedBy>
  <dcterms:modified xsi:type="dcterms:W3CDTF">2013-05-13T17:20:36Z</dcterms:modified>
  <cp:revision>68</cp:revision>
  <dc:subject/>
  <dc:title>Diapositive 1</dc:title>
</cp:coreProperties>
</file>